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BA2-A55C-4BBA-8C01-208115BB6D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C13-AB85-48B5-BEA9-9196DC5D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5D1-1E2E-4936-9900-37BA3928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0DA-26CD-4B6A-B670-7A1AC7AA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56B-4837-429C-ABF4-6F97D62D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BBC-D0E7-41B2-B288-BD89D057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1A0-082F-45E2-A381-B21CA7D0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212-4A9C-477D-A0CC-6423B9EE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3AF-0176-4646-91D2-E1900AC7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FA4-FDEE-44E5-AAC2-1BC6CD4F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BFC-31CD-4D69-BD3E-DEF6FC5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E51-D5D0-4878-8EAA-45F8550E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7DD-0138-49D8-97C9-B52A311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4ABE-AA48-47FD-B134-6D010D48773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RomaK</cp:lastModifiedBy>
  <dcterms:modified xsi:type="dcterms:W3CDTF">2015-09-04T09:31:26Z</dcterms:modified>
  <cp:revision>9</cp:revision>
  <dc:subject>Louis Pasteur &amp; Germ Theory</dc:subject>
  <dc:title>Louis Pasteur &amp; Germ Theory</dc:title>
</cp:coreProperties>
</file>