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7561-6C04-4FD7-A071-115B4239DF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32E-497A-43CD-BBC2-D7B21036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C11-331B-4268-86C2-AEA62075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F26-2A8B-4103-8D01-1FF9427A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945-5C90-404A-8CBC-E2C722D2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F2D-7A0E-4044-B587-74FD5896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AB7-6E16-4D28-8531-02449CB2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A09-B1A2-4D8E-B951-1C69F669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57C-6F43-4BC7-A41D-E76B0565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136-CD49-4168-A104-65137583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C61-6490-4CC4-8CC0-D3D9A55F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388-88A6-49C4-BB4F-2CC00BA3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FB8-524D-44D2-9CBA-D8EE9936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90A9-B3CB-403A-99C3-13990545390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RomaK</cp:lastModifiedBy>
  <dcterms:modified xsi:type="dcterms:W3CDTF">2015-09-04T09:31:26Z</dcterms:modified>
  <cp:revision>9</cp:revision>
  <dc:subject>Louis Pasteur &amp; Germ Theory</dc:subject>
  <dc:title>Louis Pasteur &amp; Germ Theory</dc:title>
</cp:coreProperties>
</file>