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B0E1-90FB-438B-A982-F11DBA15FF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the Mormons Manage to survive Salt Lake 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erican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ical Position of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had faith in their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al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ing up supply depots and work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land owner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ded the U.S. Government to elect him Governor of Utah terri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gham Young had 27 w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Mormons apart as immoral out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ed every woman to be taken care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r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more than one w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 Sufficiency and the Rail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mons were 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igation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at production triplede between 1850-18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con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way ran through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velling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trade a possibility – especially as a way of increasing in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petual Emigrating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by Brigham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d Mormons travel from anywhere to Ut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 to be paid back once sett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5 Mormons had reached Utah using t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F1CC-B75F-4843-ABB9-9AF8E2E58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364-34B5-46DC-8866-FE59AFC3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05F-604C-48FB-8C6A-AACCCD4BB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93C-D24B-4882-AB65-EEB16F31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8212-1C34-40F2-BFDF-7C9CF95E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EEF-E7C0-4C76-8BC1-4977806E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1078-5D61-4E25-9AF7-84668BF27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6FF1-82D3-4A5F-8027-625F6E72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0955-2463-420D-9332-044F0FF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9B1A-1DD2-420C-81B1-0606643D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FA9-28AF-4090-8620-1AA4B1C0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341A-82E0-4892-A5AC-CBAD0C59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6512-B8D5-4A03-890F-1054D25D38E8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Why did the Mormons Manage to survive Salt Lake City?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The American W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000" spc="-1" strike="noStrike">
                <a:solidFill>
                  <a:srgbClr val="ccffff"/>
                </a:solidFill>
                <a:latin typeface="Arial"/>
              </a:rPr>
              <a:t>The Geographical Position of Utah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9" descr="usa%20map%20copy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Brigham Young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525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rior Plan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had faith in their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Organisational Ski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ting up supply depots and worksh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No land ownersh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Persuaded the U.S. Government to elect him Governor of Utah terri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Brigham%2520Young"/>
          <p:cNvPicPr/>
          <p:nvPr/>
        </p:nvPicPr>
        <p:blipFill>
          <a:blip r:embed="rId1"/>
          <a:stretch/>
        </p:blipFill>
        <p:spPr>
          <a:xfrm>
            <a:off x="5867280" y="1628640"/>
            <a:ext cx="288144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olygam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Brigham Young had 27 w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Mormons apart as immoral outca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nabled every woman to be taken care o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Larger pop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polygamy-thumb"/>
          <p:cNvPicPr/>
          <p:nvPr/>
        </p:nvPicPr>
        <p:blipFill>
          <a:blip r:embed="rId1"/>
          <a:stretch/>
        </p:blipFill>
        <p:spPr>
          <a:xfrm>
            <a:off x="611280" y="1557360"/>
            <a:ext cx="3529080" cy="3166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7"/>
          <p:cNvSpPr/>
          <p:nvPr/>
        </p:nvSpPr>
        <p:spPr>
          <a:xfrm>
            <a:off x="611280" y="4941720"/>
            <a:ext cx="36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3200" spc="-1" strike="noStrike">
                <a:solidFill>
                  <a:srgbClr val="ffffff"/>
                </a:solidFill>
                <a:latin typeface="Arial"/>
              </a:rPr>
              <a:t>Having more than one wif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Self Sufficiency and the Railwa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rmons were farm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Irrigation syste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Wheat production triplede between 1850-18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Everyone contribu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Railway ran through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velling eas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ade trade a possibility – especially as a way of increasing in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4400" spc="-1" strike="noStrike">
                <a:solidFill>
                  <a:srgbClr val="ccffff"/>
                </a:solidFill>
                <a:latin typeface="Arial"/>
              </a:rPr>
              <a:t>Perpetual Emigrating Fund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Set up by Brigham Yo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Helped Mormons travel from anywhere to Ut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Money to be paid back once sett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y-GB" sz="2800" spc="-1" strike="noStrike">
                <a:solidFill>
                  <a:srgbClr val="ffffff"/>
                </a:solidFill>
                <a:latin typeface="Arial"/>
              </a:rPr>
              <a:t>4225 Mormons had reached Utah using th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3841700000[1]"/>
          <p:cNvPicPr/>
          <p:nvPr/>
        </p:nvPicPr>
        <p:blipFill>
          <a:blip r:embed="rId1"/>
          <a:stretch/>
        </p:blipFill>
        <p:spPr>
          <a:xfrm>
            <a:off x="5292720" y="1700280"/>
            <a:ext cx="3166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14:08:17Z</dcterms:created>
  <dc:creator>Carol</dc:creator>
  <dc:description>Why did the Mormons Manage to survive Salt Lake City?</dc:description>
  <cp:keywords>Why did the Mormons Manage to survive Salt Lake City?</cp:keywords>
  <dc:language>en-US</dc:language>
  <cp:lastModifiedBy>RomaK</cp:lastModifiedBy>
  <dcterms:modified xsi:type="dcterms:W3CDTF">2015-09-04T09:32:01Z</dcterms:modified>
  <cp:revision>7</cp:revision>
  <dc:subject>Why did the Mormons Manage to survive Salt Lake City?</dc:subject>
  <dc:title>Why did the Mormons Manage to survive Salt Lake City?</dc:title>
</cp:coreProperties>
</file>