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351A-EA92-48A8-BA71-C27D6E0847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7A9-56D9-419C-8398-4492B049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731B-807A-4B7C-835F-75236444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61B-B947-4450-B17F-D58B2672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EF2-7DE9-4D52-A3CA-D4083B65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629-757F-4E98-AA12-6C819030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A618-88CF-4A59-B1EA-239FFF2E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D4D-0203-46CC-95CE-4A64689D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17F-71D2-4B8E-B11A-3278B434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C842-B84E-45CB-9A88-A6A7F1F1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B39-F8AC-4265-806B-81DD69F4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E4B5-B2C5-4169-A2CD-A927C431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E117-73BE-44C7-80FD-95CFB3AD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7041-1AE9-42B3-B1C5-DDF9EE23F24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Why did the Mormons Manage to survive Salt Lake Cit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The Geographical Position of Ut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9" descr="usa%20map%20copy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Brigham You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Brigham%2520Young"/>
          <p:cNvPicPr/>
          <p:nvPr/>
        </p:nvPicPr>
        <p:blipFill>
          <a:blip r:embed="rId1"/>
          <a:stretch/>
        </p:blipFill>
        <p:spPr>
          <a:xfrm>
            <a:off x="5867280" y="1628640"/>
            <a:ext cx="2881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olygam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polygamy-thumb"/>
          <p:cNvPicPr/>
          <p:nvPr/>
        </p:nvPicPr>
        <p:blipFill>
          <a:blip r:embed="rId1"/>
          <a:stretch/>
        </p:blipFill>
        <p:spPr>
          <a:xfrm>
            <a:off x="611280" y="1557360"/>
            <a:ext cx="3529080" cy="3166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611280" y="494172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Self Sufficiency and the Railwa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erpetual Emigrating F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MCj03841700000[1]"/>
          <p:cNvPicPr/>
          <p:nvPr/>
        </p:nvPicPr>
        <p:blipFill>
          <a:blip r:embed="rId1"/>
          <a:stretch/>
        </p:blipFill>
        <p:spPr>
          <a:xfrm>
            <a:off x="5292720" y="1700280"/>
            <a:ext cx="3166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4:08:17Z</dcterms:created>
  <dc:creator>Carol</dc:creator>
  <dc:description>Why did the Mormons Manage to survive Salt Lake City?</dc:description>
  <cp:keywords>Why did the Mormons Manage to survive Salt Lake City?</cp:keywords>
  <dc:language>en-US</dc:language>
  <cp:lastModifiedBy>RomaK</cp:lastModifiedBy>
  <dcterms:modified xsi:type="dcterms:W3CDTF">2015-09-04T09:32:01Z</dcterms:modified>
  <cp:revision>7</cp:revision>
  <dc:subject>Why did the Mormons Manage to survive Salt Lake City?</dc:subject>
  <dc:title>Why did the Mormons Manage to survive Salt Lake City?</dc:title>
</cp:coreProperties>
</file>