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C68E-7257-400E-82C1-A7789D0ED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92B-777B-4F37-9558-03AAC630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3811-9584-410F-9B49-640F1AA0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8BF7-AB99-4703-8A06-D0B5BD71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6BA-E205-4956-97FF-D1183ECF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199F-908E-4A3F-9969-1974D1AE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C6AD-698A-4277-B8D0-8BBC40F3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24B-DC05-4F84-AFCA-B5539E6A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E24-C319-435E-B6F1-CC20347F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388-74AD-4369-AB75-082ADFEF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160-812D-425F-B63F-4BB0B65D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5DC-AD19-4B20-BBDA-D280287C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44A-6474-4C55-80AD-A4A6E306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33AC-812A-4505-B76D-50C9CF54495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Why did the Mormons Manage to survive Salt Lake C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The Geographical Position of Ut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9" descr="usa%20map%20copy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Brigham You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Brigham%2520Young"/>
          <p:cNvPicPr/>
          <p:nvPr/>
        </p:nvPicPr>
        <p:blipFill>
          <a:blip r:embed="rId1"/>
          <a:stretch/>
        </p:blipFill>
        <p:spPr>
          <a:xfrm>
            <a:off x="5867280" y="1628640"/>
            <a:ext cx="2881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olygam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polygamy-thumb"/>
          <p:cNvPicPr/>
          <p:nvPr/>
        </p:nvPicPr>
        <p:blipFill>
          <a:blip r:embed="rId1"/>
          <a:stretch/>
        </p:blipFill>
        <p:spPr>
          <a:xfrm>
            <a:off x="611280" y="1557360"/>
            <a:ext cx="3529080" cy="3166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611280" y="494172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Self Sufficiency and the Railw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erpetual Emigrating F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MCj03841700000[1]"/>
          <p:cNvPicPr/>
          <p:nvPr/>
        </p:nvPicPr>
        <p:blipFill>
          <a:blip r:embed="rId1"/>
          <a:stretch/>
        </p:blipFill>
        <p:spPr>
          <a:xfrm>
            <a:off x="5292720" y="1700280"/>
            <a:ext cx="3166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4:08:17Z</dcterms:created>
  <dc:creator>Carol</dc:creator>
  <dc:description>Why did the Mormons Manage to survive Salt Lake City?</dc:description>
  <cp:keywords>Why did the Mormons Manage to survive Salt Lake City?</cp:keywords>
  <dc:language>en-US</dc:language>
  <cp:lastModifiedBy>RomaK</cp:lastModifiedBy>
  <dcterms:modified xsi:type="dcterms:W3CDTF">2015-09-04T09:32:01Z</dcterms:modified>
  <cp:revision>7</cp:revision>
  <dc:subject>Why did the Mormons Manage to survive Salt Lake City?</dc:subject>
  <dc:title>Why did the Mormons Manage to survive Salt Lake City?</dc:title>
</cp:coreProperties>
</file>