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F5D1-44A0-4E3D-95E3-241CF0E041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Understanding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Lesson: Bonds &amp; Energ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: Bonds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LEVEL DIAGRAM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e can show the energy transfers in reactions on an energy level diagram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show us the energy stored in the reactants compared to the energy stored in the produc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how the energy transfers in reactions on an energy level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how us the energy stored in the reactants compared to the energy stored in the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(‘delta H’) is the symbol for the ‘change in energy’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an exothermic reaction the products have less energy than the reactan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is negative for an ex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(‘delta H’) is the symbol for the ‘change in energy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xothermic reaction the products have less energy than the reac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is negative for an ex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nd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do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an endothermic reaction the products have more energy than the reactan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is positive for an end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dothermic reaction the products have more energy than the reac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is positive for an end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and breaking bond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e have seen how bonds are formed (both ionic and covalent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Do you think energy is needed to break bonds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nd breaking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en how bonds are formed (both ionic and coval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energy is needed to break b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new bonds gives out energy. It is ex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new bonds gives out energy. It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or a chemical reaction to occur, bonds must be both formed and broke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e  +  CuSO4               Cu    +  FeSO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chemical reaction to occur, bonds must be both formed and bro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  +  CuSO4               Cu    +  Fe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hemical reactions always involve energy chang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and breaking bonds involves energy change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lways involve energy cha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nd breaking bonds involves energ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xothermic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reactions give out heat energy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ombustion is an ex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herm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eactions give out hea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ustion is an ex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dothermic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reactions take in heat energy from their surrounding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cause temperatures to fall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eactions take in heat energy from their surroun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use temperatures to f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Use the apparatus as show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ork with 20ml of each substance in tur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opy the results table before you star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pparatus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with 20ml of each substance in 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results table before you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You will be using acids so wear safety goggl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ipe up spills immediatel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Replace stopper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Do not put solids down the sink – use the bowl at the front!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using acids so wear safety gog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pe up spills immed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 st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put solids down the sink – use the bowl at the fro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BE0-8C4A-4F2D-9AD6-CAA1CDAC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C77A-C1A3-4879-8D31-86FF7C07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0D6D-2610-4162-8F27-98D4A4AB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65E9-13CB-446C-98AF-94C312B5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3726-6460-42A3-A383-93309FE8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FD4B-21C5-4811-A74D-F66ACB5A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5F4B-EB4D-49CB-A5C4-DBEDF1AA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B6A3-FE1D-492B-8D8E-6D259EE2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0EB1-1E68-485D-B6ED-A41175B6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D752-A69D-456B-82E2-0C28627C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423E-E3CF-48D5-8A6C-643D2F13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E0E-674A-4D7D-A70C-CEDECA9A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DB43-6C1C-4ED0-9887-48676618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90DE-608A-4842-820B-68139908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C8C6-12A8-4B51-A91B-E0C48BA3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A2EE-8373-4C51-98D0-440521E5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38EE-0DCD-4CD0-933E-161E8C68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C85-2F13-4825-9B68-9F3BD255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252-86EA-4319-82BB-5FC94E54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2AB3-0D7F-4751-BC2F-25CA7A32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BC54-E343-4666-9CC5-B7B82DA9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D4A-BE47-44DE-AEFD-CB4EECB5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CF1-8C4C-4AC9-A51D-95F81BE5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7026-BC05-40EE-A522-28739BF3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C807-DC68-4498-8C76-F5418329D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237E-A3F0-40F8-ACD8-DA8E29AAD8F1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200" spc="-1" strike="noStrike">
                <a:solidFill>
                  <a:srgbClr val="006666"/>
                </a:solidFill>
                <a:latin typeface="Verdana"/>
              </a:rPr>
              <a:t>Understanding Chemical Reactions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Lesson: Bonds &amp; Energ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LEVEL DIAGRAM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e can show the energy transfers in reactions on an </a:t>
            </a: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energy level diagram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These show us the energy stored in the reactants compared to the energy stored in the product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x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Picture 9" descr="exo"/>
          <p:cNvPicPr/>
          <p:nvPr/>
        </p:nvPicPr>
        <p:blipFill>
          <a:blip r:embed="rId1"/>
          <a:stretch/>
        </p:blipFill>
        <p:spPr>
          <a:xfrm>
            <a:off x="250920" y="1484280"/>
            <a:ext cx="8497800" cy="4969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x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 (‘delta H’) is the symbol for the ‘change in energy’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In an exothermic reaction the products have </a:t>
            </a: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less</a:t>
            </a: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 energy than the reactant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 is negative for an exothermic reactio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7" descr="exo"/>
          <p:cNvPicPr/>
          <p:nvPr/>
        </p:nvPicPr>
        <p:blipFill>
          <a:blip r:embed="rId1"/>
          <a:stretch/>
        </p:blipFill>
        <p:spPr>
          <a:xfrm>
            <a:off x="250920" y="1628640"/>
            <a:ext cx="4105080" cy="4321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nd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1" name="Picture 5" descr="endo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4681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ndo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Verdana"/>
              </a:rPr>
              <a:t>In an endothermic reaction the products have </a:t>
            </a:r>
            <a:r>
              <a:rPr b="1" lang="en-GB" sz="2800" spc="-1" strike="noStrike">
                <a:solidFill>
                  <a:srgbClr val="006699"/>
                </a:solidFill>
                <a:latin typeface="Verdana"/>
              </a:rPr>
              <a:t>more</a:t>
            </a:r>
            <a:r>
              <a:rPr b="0" lang="en-GB" sz="2800" spc="-1" strike="noStrike">
                <a:solidFill>
                  <a:srgbClr val="006699"/>
                </a:solidFill>
                <a:latin typeface="Verdana"/>
              </a:rPr>
              <a:t> energy than the reactant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 is positive for an endothermic reactio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6" descr="endo"/>
          <p:cNvPicPr/>
          <p:nvPr/>
        </p:nvPicPr>
        <p:blipFill>
          <a:blip r:embed="rId1"/>
          <a:stretch/>
        </p:blipFill>
        <p:spPr>
          <a:xfrm>
            <a:off x="324000" y="1628640"/>
            <a:ext cx="3887640" cy="4392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Making and breaking bon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e have seen how bonds are formed (both ionic and covalen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Do you think energy is needed to break bonds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bonds"/>
          <p:cNvPicPr/>
          <p:nvPr/>
        </p:nvPicPr>
        <p:blipFill>
          <a:blip r:embed="rId1"/>
          <a:stretch/>
        </p:blipFill>
        <p:spPr>
          <a:xfrm>
            <a:off x="1619280" y="0"/>
            <a:ext cx="5761080" cy="6597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Breaking bonds requires energy. It is end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Breaking bonds requires energy. It is end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Making new bonds gives out energy. It is ex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bonds2"/>
          <p:cNvPicPr/>
          <p:nvPr/>
        </p:nvPicPr>
        <p:blipFill>
          <a:blip r:embed="rId1"/>
          <a:stretch/>
        </p:blipFill>
        <p:spPr>
          <a:xfrm>
            <a:off x="179280" y="260280"/>
            <a:ext cx="8496360" cy="6337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Basic Revis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For a chemical reaction to occur, bonds must be both formed and brok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Fe  +  CuSO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Verdana"/>
              </a:rPr>
              <a:t>4               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Cu    +  FeSO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3635280" y="4076640"/>
            <a:ext cx="1224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Basic Revis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Chemical reactions always involve energy chang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Making and breaking bonds involves energy chang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99"/>
                </a:solidFill>
                <a:uFillTx/>
                <a:latin typeface="Verdana"/>
              </a:rPr>
              <a:t>Exothermic reac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reactions give out heat energ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Combustion is an exothermic reac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99"/>
                </a:solidFill>
                <a:uFillTx/>
                <a:latin typeface="Verdana"/>
              </a:rPr>
              <a:t>Endothermic reac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reactions take in heat energy from their surrounding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cause temperatures to fall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temp1"/>
          <p:cNvPicPr/>
          <p:nvPr/>
        </p:nvPicPr>
        <p:blipFill>
          <a:blip r:embed="rId1"/>
          <a:stretch/>
        </p:blipFill>
        <p:spPr>
          <a:xfrm>
            <a:off x="212400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Use the apparatus as show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Work with 20ml of each substance in tur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opy the results table before you star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7" descr="temp2"/>
          <p:cNvPicPr/>
          <p:nvPr/>
        </p:nvPicPr>
        <p:blipFill>
          <a:blip r:embed="rId1"/>
          <a:stretch/>
        </p:blipFill>
        <p:spPr>
          <a:xfrm>
            <a:off x="324000" y="1628640"/>
            <a:ext cx="3960720" cy="4608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RISK ASSESSMEN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You will be using acids so wear safety goggl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ipe up spills immediatel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Replace stoppe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Do not put solids down the sink – use the bowl at the front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72040"/>
        </p:xfrm>
        <a:graphic>
          <a:graphicData uri="http://schemas.openxmlformats.org/drawingml/2006/table">
            <a:tbl>
              <a:tblPr/>
              <a:tblGrid>
                <a:gridCol w="3178080"/>
                <a:gridCol w="1513080"/>
                <a:gridCol w="1481040"/>
                <a:gridCol w="20574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Reaction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mp. before mixing (</a:t>
                      </a:r>
                      <a:r>
                        <a:rPr b="1" lang="en-GB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mp. after mixing (</a:t>
                      </a:r>
                      <a:r>
                        <a:rPr b="1" lang="en-GB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Exothermic or Endothermic?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odium hydroxide sol’n + hydrochloric acid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odium hydrogen carbonate sol’n + citric acid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opper sulphate sol’n + magnesium powder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ulphuric acid + magnesium ribbon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barium chloride + sodium sulphate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8:50:28Z</dcterms:created>
  <dc:creator>Keith Hicks</dc:creator>
  <dc:description/>
  <dc:language>en-US</dc:language>
  <cp:lastModifiedBy>LEGION</cp:lastModifiedBy>
  <dcterms:modified xsi:type="dcterms:W3CDTF">2015-09-04T10:11:37Z</dcterms:modified>
  <cp:revision>17</cp:revision>
  <dc:subject/>
  <dc:title>Understanding Chemical Reactions</dc:title>
</cp:coreProperties>
</file>