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F5C0-08D7-4404-9EE3-220A8F5D19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75F9-FFBD-46F7-9782-465A949F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B33-77B6-4C15-A251-D3B064C3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3D3-A6AD-4AB1-A3EC-747226F8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76F-C54A-4423-A43F-1045CBC6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703B-23C8-44C0-824C-54637491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6854-03DB-415F-B96C-955E6676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8B2E-14D3-40DD-B622-F38A585D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6FBE-6A9E-4FB0-85E6-A530ACA4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9619-7F74-4013-A379-7E09B749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4FF2-B271-4836-B765-B3F7CFF3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B93C-31C5-4CD2-B7FF-F2F1939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827-494D-430A-A844-01A78C42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61D1-0313-4EA3-9A66-B4A4B7B1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5CEB-7AF9-4726-B573-45F244F1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1CFF-9EAF-4F18-A101-491A4960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CC1D-AE1B-48D4-94A8-4F436A74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54C4-A577-4E7E-B350-C519C1CE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F2C-E6A5-4CB5-AC10-784015D5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935-2B5B-4FB3-BE2C-9C555501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157-4644-44F0-BF72-B400099F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02B-C3B8-4186-937E-8A752F4A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B52-16A8-416C-BF10-0C83B41A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29BF-B43F-4A4C-9565-E1E0F4C1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657-A775-471D-9A6C-9C7CC11B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AD4D-8F06-4BA5-B6E9-BE5229225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2D2D-D6FF-4F94-B0CA-A4A5778E6B84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006666"/>
                </a:solidFill>
                <a:latin typeface="Verdana"/>
              </a:rPr>
              <a:t>Understanding Chemical Reaction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Lesson: Bonds &amp; Ener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LEVEL DIAGRA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can show the energy transfers in reactions on an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energy level diagra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These show us the energy stored in the reactants compared to the energy stored in the produc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9" descr="exo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969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(‘delta H’) is the symbol for the ‘change in energy’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In an exothermic reaction the products have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less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is negative for an exothermic reac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7" descr="exo"/>
          <p:cNvPicPr/>
          <p:nvPr/>
        </p:nvPicPr>
        <p:blipFill>
          <a:blip r:embed="rId1"/>
          <a:stretch/>
        </p:blipFill>
        <p:spPr>
          <a:xfrm>
            <a:off x="250920" y="1628640"/>
            <a:ext cx="4105080" cy="432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Picture 5" descr="endo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In an endothermic reaction the products have </a:t>
            </a: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more</a:t>
            </a: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 is positive for an endothermic re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endo"/>
          <p:cNvPicPr/>
          <p:nvPr/>
        </p:nvPicPr>
        <p:blipFill>
          <a:blip r:embed="rId1"/>
          <a:stretch/>
        </p:blipFill>
        <p:spPr>
          <a:xfrm>
            <a:off x="324000" y="1628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Making and breaking bon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have seen how bonds are formed (both ionic and covalen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you think energy is needed to break bond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bonds"/>
          <p:cNvPicPr/>
          <p:nvPr/>
        </p:nvPicPr>
        <p:blipFill>
          <a:blip r:embed="rId1"/>
          <a:stretch/>
        </p:blipFill>
        <p:spPr>
          <a:xfrm>
            <a:off x="1619280" y="0"/>
            <a:ext cx="5761080" cy="6597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Making new bonds gives out energy. It is ex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bonds2"/>
          <p:cNvPicPr/>
          <p:nvPr/>
        </p:nvPicPr>
        <p:blipFill>
          <a:blip r:embed="rId1"/>
          <a:stretch/>
        </p:blipFill>
        <p:spPr>
          <a:xfrm>
            <a:off x="179280" y="260280"/>
            <a:ext cx="8496360" cy="6337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or a chemical reaction to occur, bonds must be both formed and brok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e  +  Cu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              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u    +  Fe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635280" y="4076640"/>
            <a:ext cx="1224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hemical reactions always involve energy chang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Making and breaking bonds involves energy chang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x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give out heat energ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Combustion is an exothermic rea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nd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take in heat energy from their surrounding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cause temperatures to fal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temp1"/>
          <p:cNvPicPr/>
          <p:nvPr/>
        </p:nvPicPr>
        <p:blipFill>
          <a:blip r:embed="rId1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Use the apparatus as show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Work with 20ml of each substance in tur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opy the results table before you st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7" descr="temp2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4608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RISK ASSESS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You will be using acids so wear safety gog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ipe up spills immediate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Replace stopp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not put solids down the sink – use the bowl at the front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72040"/>
        </p:xfrm>
        <a:graphic>
          <a:graphicData uri="http://schemas.openxmlformats.org/drawingml/2006/table">
            <a:tbl>
              <a:tblPr/>
              <a:tblGrid>
                <a:gridCol w="3178080"/>
                <a:gridCol w="1513080"/>
                <a:gridCol w="1481040"/>
                <a:gridCol w="2057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before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after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Exothermic or Endothermic?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xide sol’n + hydrochloric acid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gen carbonate sol’n + citric aci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pper sulphate sol’n + magnesium powde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ulphuric acid + magnesium ribb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rium chloride + sodium sulphat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8:50:28Z</dcterms:created>
  <dc:creator>Keith Hicks</dc:creator>
  <dc:description/>
  <dc:language>en-US</dc:language>
  <cp:lastModifiedBy>LEGION</cp:lastModifiedBy>
  <dcterms:modified xsi:type="dcterms:W3CDTF">2015-09-04T10:11:37Z</dcterms:modified>
  <cp:revision>17</cp:revision>
  <dc:subject/>
  <dc:title>Understanding Chemical Reactions</dc:title>
</cp:coreProperties>
</file>