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C6C0-CF88-489D-8D0B-CA71055079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4AC-9383-4876-96AB-5649BDE7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51B-0555-4D9F-B001-A2A56727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8E7-D836-41DF-A481-42FDFFD6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659-B9B3-4162-93AE-05126F12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76E4-7D90-415D-8E47-E35B1DB9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9942-5095-4A8A-A6FC-02C9E0EC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9111-CFAF-4363-97AD-0D0C54BA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2927-73FD-4978-AAB8-618685FF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4884-2526-4E8C-AF4D-BBE4BEC4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F3AE-F099-4917-A51A-F0EBDFCB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9945-0FFF-4FED-B541-A39552FC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4E3-FB1A-46E6-BDCF-D716EB9A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4D81-DB73-4FB9-9FCD-BC3092FB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A920-3F8B-4A51-B719-A7A2BC2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B836-D698-4442-A330-6CB843DF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6482-FF14-4DD9-883D-E43B8BCD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0137-2E47-45B1-8217-EC62E535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10A-6BD6-43A5-B88D-2AB76EE7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218-2E93-45A1-802F-A7BE47BD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22B-35C0-417F-AEC0-DCDEC404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BDA-EC9C-48DD-8110-93C3ABF7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16C-A3EE-407D-92B8-C31E28BB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70E-EFAB-4AEC-88BC-67AA5A0A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969-6531-4B95-B60E-F5A2454B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62A7-08F0-4C93-8C36-0B6AEDC7C5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A5B0-64BD-4C59-B57E-7F6F27F22E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RomaK</cp:lastModifiedBy>
  <dcterms:modified xsi:type="dcterms:W3CDTF">2015-09-04T09:32:22Z</dcterms:modified>
  <cp:revision>8</cp:revision>
  <dc:subject>The Drugs Revolution and the Development of Penicillin</dc:subject>
  <dc:title>The Drugs Revolution and the Development of Penicillin</dc:title>
</cp:coreProperties>
</file>