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8191F-DF42-47FE-9925-4CF0F6D6602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Drugs Revolution and the Development of Penicill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rugs Revolution and the Development of Penicill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evention and C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even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erm the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Vaccin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1906 Tuberculo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1913 Diphther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och discovered that he could stain bacter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evelopment of ‘magic bullets’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or example - Salvarsan 606 and Prontos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ention and C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rm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cin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p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06 Tubercul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3 Diphth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ch discovered that he could stain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 of ‘magic bullets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 - Salvarsan 606 and Prontos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nicill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28 – Alexander Fleming discovers mould which kills germs – penicilli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29 – Fleming publishes an article on penicilli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icill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28 – Alexander Fleming discovers mould which kills germs – penicill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29 – Fleming publishes an article on penicill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in and Flore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37 – Chain and Florey do research on penicilli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40 – Experiment on mic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41 – successful tests on huma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in and Flor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37 – Chain and Florey do research on penicill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0 – Experiment on m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1 – successful tests on hum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act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vern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39 - British government fund Florey’s researc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42 – U.S. government fund production of penicilli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44 – mass produ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39 - British government fund Florey’s 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2 – U.S. government fund production of penicill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4 – mass 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dividua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exander Flem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ard Flore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nst Cha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earch Tea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vid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exander Fle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ard Flor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nst Ch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earch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rman bombing stopped Florey and Chain being able to mass produce penicillin in Britai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merica was not interested in penicillin until she entered the war in 1941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45 American Army using 2 million doses of penicillin a mon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rman bombing stopped Florey and Chain being able to mass produce penicillin in Brit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 was not interested in penicillin until she entered the war in 194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5 American Army using 2 million doses of penicillin a mon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Other Fact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echnolo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cientific experi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ndust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ommunic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tific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439C-9874-492E-B067-D9D002713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4660-25AE-4071-9A46-D35FCE859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23F8-9134-4244-A5CE-B3CA5EF33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DBF2-019F-4140-8511-E8259F129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E1465-6011-4880-869F-F378DC627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22FDE-C70D-47DC-A185-BC539B915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F3E1C-9399-4D28-B7D3-83718E13B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7D49A-D28B-4720-A33D-0794F8AA0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D1F19-3CD7-471D-B5E1-BD438CD7D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B7A00-A53D-431E-996A-C95A6075D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A2C3D-0C27-4FDE-B56F-6DC99CF9C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4265-04B4-4607-9A5C-273682509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992D4-A323-47EC-BA90-AE34C5E5E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3EF44-BE01-429D-AF35-BE29E05E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3C7EB-3A9E-4BD0-9397-C2C6B0D12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46665-EC09-4907-8E29-05BFBB827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E6D79-D92F-4A82-9DC0-635A6DC03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97D1-A9C6-40F8-8BF6-0BD127827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0A07-0867-49A9-A565-02A3FBCC3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52ED-8751-4DB0-A25B-E76D2F731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602D-BE7A-4BB0-A83F-32147DB44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8201-F22F-4EC3-A985-9887A538C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307B-8BF0-4CC7-A4D8-4A179E23E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8934-994F-42A3-8381-F2027CB66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06C46-89C7-466D-BF7B-EDF83F8968A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56417-1278-478E-8226-D50D7812721F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ccecff"/>
                </a:solidFill>
                <a:latin typeface="Arial"/>
              </a:rPr>
              <a:t>The Drugs Revolution and the Development of Penicillin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Prevention and Cur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8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Preven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erm the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accin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06 Tubercul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13 Diphth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C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Koch discovered that he could stain bac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velopment of ‘magic bullets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or example - Salvarsan 606 and Prontos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Penicill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28 – Alexander Fleming discovers mould which kills germs – penicill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29 – Fleming publishes an article on penicill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8" descr="Alexander-fleming"/>
          <p:cNvPicPr/>
          <p:nvPr/>
        </p:nvPicPr>
        <p:blipFill>
          <a:blip r:embed="rId1"/>
          <a:stretch/>
        </p:blipFill>
        <p:spPr>
          <a:xfrm>
            <a:off x="5508720" y="1700280"/>
            <a:ext cx="3166920" cy="4392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57" dur="2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Chain and Flore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7" name="Picture 13" descr="penicil2"/>
          <p:cNvPicPr/>
          <p:nvPr/>
        </p:nvPicPr>
        <p:blipFill>
          <a:blip r:embed="rId1"/>
          <a:stretch/>
        </p:blipFill>
        <p:spPr>
          <a:xfrm>
            <a:off x="468360" y="2131920"/>
            <a:ext cx="4038480" cy="173196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37 – Chain and Florey do research on penicill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40 – Experiment on mi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41 – successful tests on huma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AutoShape 11"/>
          <p:cNvSpPr/>
          <p:nvPr/>
        </p:nvSpPr>
        <p:spPr>
          <a:xfrm>
            <a:off x="1738440" y="2214720"/>
            <a:ext cx="5667120" cy="24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1752480" y="1752480"/>
            <a:ext cx="61722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0" spc="-1" strike="noStrike">
                <a:solidFill>
                  <a:srgbClr val="ffffff"/>
                </a:solidFill>
                <a:latin typeface="Times New Roman"/>
              </a:rPr>
              <a:t>Factors</a:t>
            </a:r>
            <a:endParaRPr b="0" lang="en-US" sz="1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Govern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39 - British government fund Florey’s rese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42 – U.S. government fund production of penicill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44 – mass p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11" descr="money"/>
          <p:cNvPicPr/>
          <p:nvPr/>
        </p:nvPicPr>
        <p:blipFill>
          <a:blip r:embed="rId1"/>
          <a:stretch/>
        </p:blipFill>
        <p:spPr>
          <a:xfrm>
            <a:off x="4788000" y="1773360"/>
            <a:ext cx="30240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Individual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Alexander Fleming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Howard Flore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Ernst Chai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Research Team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a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rman bombing stopped Florey and Chain being able to mass produce penicillin in Brita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erica was not interested in penicillin until she entered the war in 194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45 American Army using 2 million doses of penicillin a mon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ther Facto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chnolo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cientific experi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dust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unic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7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2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7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2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7" dur="5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3T07:06:46Z</dcterms:created>
  <dc:creator>cpa1</dc:creator>
  <dc:description>The Drugs Revolution and the Development of Penicillin</dc:description>
  <cp:keywords>The Drugs Revolution and the Development of Penicillin</cp:keywords>
  <dc:language>en-US</dc:language>
  <cp:lastModifiedBy>RomaK</cp:lastModifiedBy>
  <dcterms:modified xsi:type="dcterms:W3CDTF">2015-09-04T09:32:22Z</dcterms:modified>
  <cp:revision>8</cp:revision>
  <dc:subject>The Drugs Revolution and the Development of Penicillin</dc:subject>
  <dc:title>The Drugs Revolution and the Development of Penicillin</dc:title>
</cp:coreProperties>
</file>