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F233-04D5-4562-877A-0027CA376E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B746-9E1B-4C15-B731-2C72E815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0FFC-9C23-4305-BE0D-93CFCBF6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3F95-E6F5-4BDC-BFC8-B6FA6022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4D8E-3C18-42F1-8487-C4738CEB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CD34-677A-4098-8B09-2FFBAA19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EA2B-1875-4652-B2E8-41964A65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EBE9-5407-405A-8C02-EA1B07D1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3BAA-9308-44B6-BBFF-173932B0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10C8-A7D6-45D0-A1C3-A8AC3E97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90D2-9825-4F69-AE59-E442CB1D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56B7-3691-47AA-87BD-5601766E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369D-2ABA-4F03-8CCF-935A961C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4C6D-21CF-46DB-93B2-46053C4E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8ABA-44E2-4102-A4C0-331ABB79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100B-F121-4437-B412-F67ADD53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73B3-7F17-41A2-8980-B68EFB0C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0F42-191E-4E64-BE3F-78EFC94D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C513-DFC9-446D-9E21-AC1D999D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319-19C3-4026-8B29-EAF7FD44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564-E708-43E1-9A26-7233B97F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123-F981-4B41-B83F-810C357C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53E1-A071-4695-98E0-DC68E925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1DE-611F-4AE3-BBB0-C5D5F171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8E1-2497-459B-98FE-296A0F62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7050-1748-4DB5-A72E-1AAACAD260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8E24-F5B3-4280-88D8-EB5CA513533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ecff"/>
                </a:solidFill>
                <a:latin typeface="Arial"/>
              </a:rPr>
              <a:t>The Drugs Revolution and the Development of Penicilli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evention and C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Pre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enicill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8" descr="Alexander-fleming"/>
          <p:cNvPicPr/>
          <p:nvPr/>
        </p:nvPicPr>
        <p:blipFill>
          <a:blip r:embed="rId1"/>
          <a:stretch/>
        </p:blipFill>
        <p:spPr>
          <a:xfrm>
            <a:off x="5508720" y="1700280"/>
            <a:ext cx="3166920" cy="4392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hain and Flor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13" descr="penicil2"/>
          <p:cNvPicPr/>
          <p:nvPr/>
        </p:nvPicPr>
        <p:blipFill>
          <a:blip r:embed="rId1"/>
          <a:stretch/>
        </p:blipFill>
        <p:spPr>
          <a:xfrm>
            <a:off x="468360" y="2131920"/>
            <a:ext cx="4038480" cy="17319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1"/>
          <p:cNvSpPr/>
          <p:nvPr/>
        </p:nvSpPr>
        <p:spPr>
          <a:xfrm>
            <a:off x="1738440" y="2214720"/>
            <a:ext cx="566712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752480" y="1752480"/>
            <a:ext cx="6172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Times New Roman"/>
              </a:rPr>
              <a:t>Factors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11" descr="money"/>
          <p:cNvPicPr/>
          <p:nvPr/>
        </p:nvPicPr>
        <p:blipFill>
          <a:blip r:embed="rId1"/>
          <a:stretch/>
        </p:blipFill>
        <p:spPr>
          <a:xfrm>
            <a:off x="4788000" y="1773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dividua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Fact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06:46Z</dcterms:created>
  <dc:creator>cpa1</dc:creator>
  <dc:description>The Drugs Revolution and the Development of Penicillin</dc:description>
  <cp:keywords>The Drugs Revolution and the Development of Penicillin</cp:keywords>
  <dc:language>en-US</dc:language>
  <cp:lastModifiedBy>RomaK</cp:lastModifiedBy>
  <dcterms:modified xsi:type="dcterms:W3CDTF">2015-09-04T09:32:22Z</dcterms:modified>
  <cp:revision>8</cp:revision>
  <dc:subject>The Drugs Revolution and the Development of Penicillin</dc:subject>
  <dc:title>The Drugs Revolution and the Development of Penicillin</dc:title>
</cp:coreProperties>
</file>