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DA9E-2E36-4B1E-A1CB-05119E0E1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741-C978-4756-A079-4A88D4B4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FD8-4190-49FD-AD30-90293290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625ED-BD5B-4CF2-8530-635526A4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56BB4-E745-4F45-BEAC-2E484BF9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52650-05E2-42B4-B285-877049DC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221E3-AFB4-4614-8159-A019F9F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02386-98A3-4F5A-9F7B-F7063EFB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2D9F1-51DB-4453-BB38-2F10DD83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8E123-88C3-41B1-A788-E414BFDF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EE46B-34E5-423C-A3CE-0DC20D71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B468C-F3CC-4A33-B931-EAF7866B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8425B-AEB1-4FF9-9BAD-DF084938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7FF-74C8-48F7-BC3A-A78031CF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DBEE3-2442-449F-A694-B3A7E47E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54F89-D98B-48F7-9A39-E5C293E1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4379C-E8B3-4DC3-838F-0E51FE5C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30A83-5242-4822-B1ED-E5DE2903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F311C-D276-4EB5-A244-D980B990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011F1-25F2-4752-BAAE-13E2383E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689E3-0416-4DF6-BBFE-A10803BE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D57A0-68AD-400C-B66B-C57D96B4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2A92C-4FE9-4CB4-97A1-AFBF978C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41868-1559-4263-887E-19ED1F3E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281-739F-4180-BF60-079B29A6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DC559-9D87-4BD8-A585-B3FFC656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67A9A-980A-48E4-93F4-8FA5D51C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3EA7B-7667-4E17-AA9F-609C8284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0BC78-F457-4E10-95B0-DF7A375F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9CD3-FE97-42B7-AECB-CFF41F7C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18DD0-1E40-4EBC-977E-3DA14F12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62244-7D77-42F0-B197-2B188D90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8BF27-5DFA-435B-BF37-CFFD6773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40B61-4E97-4A94-BE19-E1F4A3B5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6344A-4B71-4116-8DDB-5EF215C8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8AC2-0C23-48A9-999B-C78E8098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1E979-A857-4C32-B5AC-6A7B814D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F2BBC-0A49-427A-83A9-306A805F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A5071-B388-43B3-881C-2E4A6E11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23515-2A86-4ECE-A8A0-72F9D4C6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F28C5-D70B-4EE3-BE90-909519EE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A8B0C-D4F6-419D-BD79-F008F0D1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15FDE-EB48-403A-B808-C1EB56F0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00052-7D77-4E3F-AFE1-F3BE7A9E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93B7A-5636-4086-99EB-5283EDC7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B6ACA-5F59-45BA-B8C3-A634C796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88C5-0CAA-46B6-86A7-464F3CC3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C4EA6-6227-4027-BFD7-45FC46FE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A3492-77C1-42BD-AF92-A4DD0F78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C86E6-EF40-4C40-B52E-1F950F00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3841B-FBA3-4884-8A76-35655C0B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064C1-1325-4226-98ED-9FB8C81B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E8DFE-2C50-41AC-8542-7136DAA2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39679-75E7-4F1B-B256-5016EC1E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FAE87-7A61-47E8-BF42-10A4F01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97D11-68BD-43EF-A095-BEB8ED99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A6460-0005-489A-B337-4EB5C8B8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D266-CA8A-4F8B-A4C7-ACCC6217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1E4A4-A48C-4EFC-9B26-F721325A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98F18-042B-4E3E-B373-D50B589D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B018C-0CFC-4D23-B2D2-EB1FA5EB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61727-7908-4F81-9434-3EB3C534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17E3C-3689-4925-8207-120A2FD5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DC49F-6B2F-4865-BC0C-C435CC99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1F489-CB9C-4505-9645-C1E0068B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181D4-1EB1-4412-AD57-9A7255A7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ECF37-9FAF-4329-BE96-93E03AF8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1718A-F421-4154-A3CA-987BF8F9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8C0C-15EC-4651-B370-3D5F9CE6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4D172-BCFD-4200-8AEA-9180FF70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23535-6A38-4F36-AE6C-93BA75F3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15371-E3BE-4CD0-94AE-31893940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AE1E2-9E51-46AE-B392-5796F272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8AC9A-5100-4F98-8019-4D7B6000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B5B42-17AF-4E22-87F0-550E00CA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7251C-3E4B-4EDB-9D20-E00D6E29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222EA-5B57-49B7-A4FE-2AB754AE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218B7-91ED-4037-B27C-5E64FB67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AB591-54A4-4D00-B5BC-C4EA170E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813C-A919-427F-BB56-A43FEB00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4DD4C-92B0-4E60-B1C4-F2A9A0FD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B406A-DECA-4450-9F59-12A67CF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8F326-16A0-44FB-A663-59F9579E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10E8D2-78FD-4D06-AF66-E229E0F3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999F6-9E27-4CFB-86AD-6991A96F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29745-A8DA-40D4-B122-BD0C4F0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16DCD-609C-4BBA-A674-6D16BF6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A235B-59BE-4458-8822-26BEB48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E49F6-DAE7-4189-8099-4FC67BCF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51DF4-D41B-4B04-8A86-99CAC95F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C44C-86AB-43F2-A97F-37BAC991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397C9-539D-482C-A327-683B9ACC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C2716-A7A7-44CB-ADDD-59CA7EEF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B0915-D380-4088-9B29-8CCDC388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95D44-3E7A-4B0E-981F-E1CA9BF6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79370-878F-4AF1-961F-95D2ECE9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6B8E4-6D68-4F79-9BD3-0DB7002D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DFE49-7F17-4DCA-9FAB-AB568CFD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E2076-C6CD-433F-9289-73FD974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667AB-F70C-4D5F-8C09-E1414A4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04CC7-D361-436B-BE82-69078661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423D-9166-4038-8DB3-8EA44AC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81E91-75AB-4831-A100-FDAB0708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5B721-3649-4A12-96BC-AC4C0299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11603-DB8B-452B-8C80-09E751B3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9A468-26EB-4B7E-9B46-B9B28AFB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9D070-13D1-417F-AF9F-58C79ED1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A3765-D4B9-40A3-A421-3175EFC5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0FDC2F-B2EE-4167-B0C3-F0EF346E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D0458-686A-4C70-8F63-FCA079BD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8E03C-D5A0-44C1-AAA9-9EF554AC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DB1B3-E538-4E91-8472-587342E6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E57-32CD-4387-9D04-DA0A5B91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5DA5-248B-4EED-BE13-B428DC98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69467-9AA3-4F0D-8735-4E096771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65B5E-E004-407A-AA16-5783EFA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5E03C-23DF-4E4A-A4C8-CA30DE74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89A1A-BE47-48BD-B509-37ED8670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5FAE04-9246-4F45-A9BA-D9111DF2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EA2EC-CAB7-479F-B3E2-04577295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F4FDA-48C7-4693-8799-3DB6DA44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058E9-7998-4B0B-8EF2-E0DE1058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A3036-DD2A-4671-BB37-825FE92B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D5261-ADEB-4B4A-ACBC-A13DCA7B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2AFE-C4D8-4926-854A-BBB75C5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2F47B-248D-42D0-ADFC-E0893F51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A4D54A-3F60-4CE2-970E-73CBE03B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2A5AD-F97B-4DAE-9778-4245133F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55CA2-F565-447F-B685-21EA824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32E17-7C36-4603-B075-B6A9FE81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FE275-45FB-4732-BAC6-E5563FF8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0EF809-7066-42B2-BEC2-19E3C0DC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EB7F4-01D5-4096-B1B2-37308771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8D65D-BD7D-4C56-95A0-0A6DAACF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2D05BF-C6EF-45A3-B8A6-3AA9EA54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7040-EC55-458B-9E8E-ACFE3247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C0BEAF-86CD-4DCB-9326-794B288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AAC8C-AABD-44BC-8DFA-010B78E6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39AC5-7E3A-41DF-B8AE-EA4FB9E3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589D1-B431-4D75-84CA-8541B29F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D1C28-3C16-485C-8950-97779539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EE0BF6-E681-46FB-99D9-93382005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1F993C-3A97-4714-91E2-5BD67C02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9F1BCD-472B-4AC0-A031-2B02BB73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BCD88F-6D7E-440D-AFE8-1FE1B715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6E49D6-CA84-4618-9D5F-B73BA585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4FB5-EDF2-40F9-A855-B4FD7208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C74C87-91C5-47C8-BB37-55E3BECC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D8C20-0147-4F1C-9A97-34BBDD0D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89026-627D-4879-BD4F-0984DA8A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5DD6EB-0BF7-4CA7-A9CB-F8B56312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537FE-AFB7-4EC7-8210-65EB3DA9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3503B-32B4-42BB-9C8C-0A2497E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281C51-52E8-4D46-AACA-FB109A0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E50AD-C3C0-4E2C-94A7-A4CE19A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10E48-2DE7-4A97-884F-E2869C85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470005-7EC1-4570-84C6-5215ED61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779E-B9ED-4B42-8D00-D1AF0F89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4748D0-A9EC-483F-B4C9-1772A9D6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4C27A-F387-453B-8322-223262F0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A9911-87B2-4708-BE4A-895917FB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DA6181-A8C5-4B7C-83B8-D59935B4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715A7-680F-4CDC-8AC1-C341C3DF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4E26E-64AB-4D1F-87B2-12EF381E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58B0FE-F72B-424F-9DE9-96EB0CB4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1B624D-C0B4-4138-94AF-DAAA4A4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6688D4-01FD-42F0-8AF3-BE9BB5E6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F8F738-FEB0-43BB-B9F1-C6869A0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7512-6936-4272-B2A1-7A2EF518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151BE-FF3F-4600-A05A-9DE63120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1D586B-6CA3-4D5F-8377-8E028EAF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F9099-4DC3-4785-8C12-6FCCE6A3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8C39C8-D133-4F7A-8B9C-CE642E36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385B45-AC57-4977-A3BF-78CA74F7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348E59-6921-4E2C-BEAD-744D6EB5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849820-48EB-405B-A557-8830DEE6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4693B-2CA2-414E-93C4-28FEF89F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50A933-D5F9-466C-92C2-38831AB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4064A3-D179-4C72-ADAC-155DE92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9323-6BD3-4C05-8034-6CA8BB67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4E058B-AEE2-4B0E-83DE-1D79BFD8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F4AF2F-5625-48BA-A201-949C04EE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402437-0475-4B2B-ACF3-63802EE3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9A3D61-7D03-4544-81CB-7DABE1C6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15BDCD-5511-4C17-B60B-A3ECAE47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1D5060-F95A-43E0-BE44-28D4231F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C1B3A5-2AA7-4D84-8BE3-748069D7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0B2222-59BB-41E7-A905-56F966EB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F71477-BFC6-436F-94F8-CEA3F332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2C16AD-EBBD-454B-9EEF-03887E78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828C1-A021-49F8-9F55-B4871993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E9BEDD-27C5-401D-BC6B-B4BEB80A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0CF38D-D796-47FC-AC72-BC1C61C2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A393AC-5C4B-47B1-868E-3F5FCB4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246D3D-ADC9-4A1F-B08C-B471876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D9C829-408D-46B3-BD07-8BBED5F1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C636F3-0703-4B10-8118-810220BA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EB8981-0501-48CC-B188-9F02870F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7B10EB-15DF-4957-840F-2342D5D7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EB0674-9076-49A1-9CA5-34952F66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F7F390-0E34-4FA0-8408-A7CDD49B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2BDD-F643-4605-98D9-33A612BC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2A10A1-29A3-467C-A20A-5157F1BF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3331F8-657F-4E41-8FC4-D0DE77AA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8D0F55-84DA-4480-8A84-FBE3BB68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82FD4E-45C1-44C2-84BA-ACB4289C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E9FC34-30BE-4CF6-B2DA-AD20EC2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80D81D-FD5F-4BF2-9C50-C839F05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FFAA4A-F167-482A-AA80-CFBB8D9E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035078-1522-4505-8D14-C409BAC7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95BFC1-EF14-44A3-906C-5485F2C9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239261-4A1E-4A69-BF69-4C58B705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5BAB-520F-49E7-8972-5D560CAE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67A3C1-DC65-46F9-B053-D901D2B5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45A022-C1F5-4EFD-83A9-D9520D5A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2A2DB8-4F6B-48FE-95FA-ACFEF66F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B5286D-AF93-4BDE-B562-536BF16B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034019-69C8-4965-AF88-87CC601E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62735C-40B9-4ADC-A382-8477B9D1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C69B0B-87D6-4F3D-91BB-12BFF2A4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93CF95-2F41-438B-8E58-2AA44CC6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7FA5E9-4595-4BDD-8F3B-409B11DC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5E0DFA-BADB-4E69-9C4C-F1712C4B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23E-F1FC-4479-9DBC-B26A5D59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962C-9A24-455F-A437-68845088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C80F4B-0E36-413E-A1E3-DAF93586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9D9163-6207-43C9-A6FB-CC1A5615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02AD9F-0F77-4168-8707-42EC91BF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AAC108-F5BF-4D2F-8766-95BDB7B4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134BE5-953C-4D2A-BFF8-946D3EFE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7AB850-74D1-44A9-BC0D-AAD5DD0C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28D1ED-1802-45C8-80C9-034E8DC8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44A7BF-715A-4710-9A2B-E070774B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08CD22-A6D0-4627-BC64-6FBAE1DD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DD0DE9-A31C-49AC-9DB4-314A71C6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63F6-61E6-4EF6-A4DD-97140F4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A2F06A-4C79-48A5-8F72-1D18E409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F5D906-1B0E-4420-B1B9-4502CC09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465274-C055-420D-85D6-5DDFE410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F25072-3AE5-4D28-B70E-BEB717B9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FC5BDB-ED30-4727-A5E3-4C25C6AE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6512C6-9A3C-46D9-B7A9-B50B9CD2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37A088-0AD6-4C1D-A6E3-0516747B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F0F5C8-FF8D-4054-90F7-E01C1150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BCB933-9CC7-4BDD-B551-58C341B2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724DAB-6963-458B-AE38-E6250586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8842-D610-492B-9DD1-3B96B41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8FE6DD-15C8-422B-81EC-85E5080A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A6D552-A31E-4A92-8A0A-EE2452EE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841391-A454-4352-8410-DB28A449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EE81DA-18BA-49E5-848C-378503F9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4C9E8E-F723-4638-9FF4-482AD154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73DF10-AE05-4F4D-B92D-18A378FE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9074C5-1D1B-4FC1-96A6-99C90203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8EEA1E-4AEB-48E4-BBBE-48441D76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E7E08E-CC06-4391-A771-61606C2E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10EC7C-B408-4F81-8242-0211CE2C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1F1F-8330-4A54-A078-7D7AA30A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BD2C04-E0B9-40C5-90E1-924F9832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41AAFA-6ED3-485E-A099-61AD347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59569C-76F4-4B34-9EFB-4D4173C4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A22C94-0A04-44A2-A769-1929427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3A3BDD-1E51-4329-B6E9-A436035F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B0B231-92D9-4729-85BE-DD83445D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1985A1-9829-437A-BB40-B9F71FD7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176AAC9-0FAA-4656-999D-CAEE0E17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B7BFB5E-0C1B-45AD-B76C-5F8E9E59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DA90092-7DA3-42CF-888B-CD2E1D5D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325A-9389-4892-B213-CECF94FA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7897E90-827D-4E0F-9979-DF130135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E844CEA-C1CC-4A2B-B12E-0BE8574F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2677510-F332-43AA-9575-7A9456B9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B854CB3-3C95-4D9E-B3A1-76F1857D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9CF4F34-B462-4EBE-B71A-F7E2A740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B79D552-6474-49D1-9437-E86B2B41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46E043C-F880-4B85-BA46-92A02A1F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3FBCD10-E185-4699-AE18-2186D158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C1B0A8B-F4D2-4FB3-9D6B-3CE3E0C8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1B030B-1A3C-454F-BD5D-04017C19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B409-8FF0-4B4F-86A0-461AEF2B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5BD0F3-DC46-489D-9A6D-E837D8DA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555310-907A-4C48-9DFF-F5AC53D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CC727B-5416-4781-9C3A-B1E7822E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81A3B8-7CD2-4D87-8C6B-902C407D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D50EC5-3EE9-4850-BC3F-6BB8846D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28C76B-A1D6-4849-BC29-4443F6B0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9D089F-8EAA-4BA1-9363-8F32EA7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DEC42E-343C-4544-A3EE-2AB470C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4E65A0-79A2-4DB4-8000-76268A24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FE8D2E-FC12-4C46-91D1-375EFAE6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A9D6-63F2-4540-A663-F3558E9A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4A3118-D99D-4969-947A-86E8AB3C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6C49F3-EF25-483D-8F30-7E042527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031712-8329-48A7-A7BC-DDBC9E03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A98D28-7F19-47F5-A48C-44559276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B71FF9-BB47-465C-88FD-B4F3B349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0E814E-A48A-449A-8BCD-8ECB8B0F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4165B6-0BB8-4905-9359-6D6A660A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34299F-E05C-432C-BC37-1E6C23FC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3F9E1F-28B0-4879-AF32-B97E8286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F60D22-D047-4007-8A58-8480718B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C8A2B-7DB6-40A0-B7F4-44D26698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F403EF-762A-4224-A0F0-8F74137B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7EFF76-B5BD-44F0-9683-83E4415B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577093-48B8-43EC-9F3B-D4940344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08CDBB-44FF-498B-A201-8A1CA37A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13E5B4-9897-423F-942A-F4C48CFC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BF0EA6-DB7C-43F7-B419-2CE59503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B857E2-80CC-4A9B-8C3A-CC9C1E89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8FE2C8-5F92-4523-9DA6-F5B6DB39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AD6579-E806-4869-B3EA-A2681D7D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ADF946-6721-43ED-8F8D-F947881C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04B26-1FE9-43F1-8378-E580E2EC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F3CFCC-13C4-4F23-AFFA-3CECE22C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490AA6-09BA-4B73-B8F8-1BA26101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5FCFE7-82FB-4279-B5F3-AFFB730B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D79979-D31E-44AD-BDC7-6265014D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E1A867-8DB5-4C33-A0A7-FD55AA39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CB702E-3003-4B22-9C63-FABB7B27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6AAE1F-4C4D-45D7-9E85-E3314157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16E07F-1AB5-4B44-A376-317EEAE4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92FB31-B9B1-4D2F-8AFF-2B82494A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C4E147-DC5D-406F-8CCC-7A230C01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C901A-81E0-469C-B237-183904B5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7C81AF-96EF-43F0-AAE7-39EB717B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B5795D-4888-4038-937B-C90B164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F44512-D51D-40EB-B24B-F846B38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E14EED-FAB7-4206-92F5-617F7BD2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6AF99F-3A17-4BAD-93E1-E74AEDC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1DB770-22F6-4765-9FCD-5B1BEE9B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34F023-C41D-442F-B84A-EFB949CA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D786EF-7A63-4772-A860-0F430E06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2A5223-FB2B-4A6E-9C49-78619E4B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4FBA8A-AD6A-4505-A8BA-35AA2B09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508-F985-433F-9611-E53A760F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62D4B-9AE1-4303-B136-88A14EF5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F6020C-E3CB-4527-8EEF-448C86EB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5C70F6-609D-4274-88D6-1D628544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954D1C-8E52-4AA3-AC19-281E5A71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9D91EC-B0FD-4C15-8462-61446A31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3F499A-29BB-46AC-AAAB-34C3740B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13C471-207D-4384-B7F9-418290D9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A06C33-BE73-4D61-8B5A-0DF0558A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0E25C2-F9A5-495A-8525-9498329C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78496C-53F9-4221-9FDB-1EA9E225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C92660A-97DD-4B53-B093-9D54F6E1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D09F2-3EF5-463B-ADB8-25938999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FB8E3B9-948B-40A8-B337-CB97330A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0515E42-1C9D-4E37-BE9E-AAFC2217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D4C3C1F-A6EB-43EF-A5AF-7A9B64F7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19823CA-07D9-43D8-88F3-0264C775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7D7C4D9-B471-4C42-A485-1D8F74A3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D57B67A-DDED-44D6-926B-E85D122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03766BC-13C5-4E73-9DFB-340E8551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E0CE485-0596-45DC-BD57-1AEF6AB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B8184C4-8F9D-47FE-A62B-216F29B6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16B7470-9D53-4689-8DDE-F898183A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515A6-1B38-4533-9559-94057907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47A12DF-2AB0-4CC6-A0F1-1B3B603E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8A4DD9-1FDA-4769-B31C-AC20A93B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B9758E-08BA-4F16-80A7-464EE980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205AC3-DB9D-4558-8D49-01F34E30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7DD4AF-6944-40DF-B129-44AB362E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17FF6D-EFF9-4FF8-9BC4-02731000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30874D-99A8-4607-A32A-D600B41C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FB6474-B799-4835-A00F-28CCB8B0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BCD602-D36C-4F69-84A5-F136272D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73252D-98A4-482F-B1DB-DB8DEB0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3045B-75E5-49A4-83E4-02EC4A5C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92EB11-7259-43F9-979F-CB8B5C56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D2C145-E00C-4AA4-A9D8-27318F95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285CA6-68FD-4361-A599-C867B5C1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0DC211-00E5-4465-B78C-6C0BFED8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AD8061-9F52-4DC3-8082-F0BABC1E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D7F168-22C7-4398-8FAF-8A8305F0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153A7E-476E-48F1-83D9-F1994D1D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EE34B2-7CF0-4143-9EBE-84485D3E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378B37-2826-45EB-B5CA-AE624787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E3E78D-AD64-4843-904E-D2818852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80F8D-1E15-48E3-AAE5-EDDBAE1B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F78DE3-E8A5-4888-B8EC-0B7B2D38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459D3D-8820-433B-9D0A-B5C79466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1A98F5-8AA7-47E8-8D92-08E6B95F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E0B671-A25D-4FFD-BF29-5E6AE7EC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9C3B0B-2538-4CD1-BA88-9AAACF52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54BE29-0328-4C7B-AA0F-21BA925C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FC60CA-7BC8-4CE0-B9FC-30856D7E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0650D7-6EBC-4C94-B935-0C1FBEEB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6F8ABF-CA91-4890-BAFD-821FE07C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964D15-92C8-474C-BFF4-354F4E57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8A930-CADE-4B51-AFE0-5097E485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C95AFE-65BD-4369-B718-200E2DF0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675C67-DED6-4B30-BCEF-C8850F3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96E281-C9C8-4582-8942-7CF653A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F4E959-B0B7-4B46-962B-20CBE48E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D02546-AB90-4612-BEF0-CDF2839E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8FE858-887B-4367-B55C-10C4FEEE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B7E3BD-E16A-460D-B8E2-CA071990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189822-61DD-425F-869B-6A5B0685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2B729F-BCF3-451B-81E4-9CA2D267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211440-377F-406E-BE2B-5378B812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DCD70-9CC8-4A4F-A642-C8455B42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7AE3C4-A1F2-449B-9D21-FB994A91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C3B02B9-770C-4884-B93E-E990C1FB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72A9FF-88FD-4B0B-990F-84A75612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8D0FD5-E1EB-4673-A06D-95791BA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2AE286-41B7-4888-8FD6-3C45C118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9C7466-827F-4AD2-9B77-39F34D9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621E44-2C21-4F03-A6B8-B651CF47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590EE9-02DA-4FE3-AE52-9D798CE8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0346B6-38D7-4C56-804B-53968227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D546F3-6DC3-4D56-9C0E-038F6A2A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669C1-FFB3-4ACD-A8A3-4B6A1424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FB04EA-A7DF-4229-8E8F-F3E0330D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962A07-D410-49DE-83A9-2C79F5D1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17D218A-D284-482E-94DC-1F97FA30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72BFFB-644B-4C48-88F6-E5AB563E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CAB5C9-E1C6-43A2-BCFF-600861F5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D73914-E8D3-4B25-985C-101E0C23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920BAD-FB91-4FA4-AC32-1264AF5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9A1831-FD8F-48C4-925F-E54932A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A33E0C-3D79-4F50-90BF-A3BCF4C3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986A6F-8B90-419D-884E-DC96AC25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853D6-D015-4B78-A00F-40267D10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A2D14A7-C50C-474D-9C63-2C05E963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A0DDA3-50F3-4C3D-8744-D677791D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EBB410-8573-4B48-AE54-5EB970D6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E9CFCC-279A-40B3-B592-E1E37833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AB597D-C9F9-488A-8B82-6EC1E36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9E8589-B39A-4D60-B67E-B1854AD3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B056CB-1210-4BA0-BBC1-F247083B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D7E599-FDEC-453B-8C68-1E27FF72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47A91E-885E-455F-8051-FBD5397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5D83E9-B21E-410E-8F12-31BE0BA8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9ABCD-C914-46B1-856A-2DE2F608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CC67FB-74BD-4118-8C90-5630D86F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88061AA-86E5-48E4-ACA7-0F5BE26F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23A3CC8-61CB-4B54-8D66-D4B0E775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129A277-AF77-490F-B21E-D67EFE59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061FFE-E635-4932-8B7A-84736F0A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DEF61C2-1582-47D4-8402-519DA1FD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A5930C-832E-4EB5-8402-99604B92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2D7DFB-99C7-406B-885F-F8FB9DAB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CB14223-36F9-48FD-9C02-FD885947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916939-F867-4FDA-9D62-A8C7E9D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CE9-5107-4E98-9C72-96CCBE09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1A41D-75AC-449B-AD85-20ADB98C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26CDBD3-28DE-46A4-BBAC-DF8EC02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AA70BB2-5577-4DD9-8AFA-DF1D41C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5BA146-D556-4A5A-8A53-D329098B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6D4F5A-55AF-418F-85CD-2AC6A244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6EC8B4-B180-477F-B281-B12058C2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3C0EFC-D5D8-4371-AABC-ADBB0AE2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93B30B-DCA7-4A35-834F-0FD61DD0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C4C034D-D5F7-4C05-B472-53D03DC1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5F1912-1631-4341-A7F2-FD88B3B0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79141A-3B2A-4DA7-8936-5E8D53E7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93E9A-E511-414E-9E75-A3135D0D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8AF4EF9-353E-4376-8DB9-69B21D68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AFAFC4D-87EA-4D3F-887F-A01B8EE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801250C-C8D9-42AC-A6BB-5DC4CAA4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01A031-9FF2-49F2-881E-F1DD66A3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BA6C36A-60D2-42AF-AE3A-14180050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74EDC2-AB77-4C2C-A101-1143581C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CF280D-4822-43D1-9428-27459CB0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C6C46B-64F5-4D00-B4DD-AD385591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044B975-F51E-4DEA-B17B-8A79BD2A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9EDAB0-0CAB-45F1-B4E2-56F96F24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72D96-FEA5-4077-AB10-1C0F341F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EB2CAC3-B3A4-46E6-9414-E1AE7418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DF0E1D-B98A-45BE-87A6-BFD41B29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2986A3-9508-4C4D-A59D-F7041013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E5E0416-298E-423D-B4A1-3E081749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15E44F-3612-4074-B09A-6D1F786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F210B7-7626-4A47-9AF9-86964F38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2C9558D-3B39-4DCA-8BA2-50BDC8BA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74C9E22-8760-4E7F-A75E-5196C5E1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4938B04-B6DB-4E54-9F78-DEE270C1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8AED057-2C78-4F69-B1E8-59C5EBDD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84664-6B05-4E1D-82DA-0E069E80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48BF802-9FE7-44F3-8B12-DFD29F40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D626606-5D98-4EEB-99E6-7712C364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BDF07A8-79BF-46DC-A6EE-540937A8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494935-7AAD-4C98-A321-0AADC7B4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C1C4AB8-F044-4B90-87E4-290342F8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498FBD-7954-4A70-8983-5139EEA6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2BCA34-B9A4-47B6-A0FC-8EF1F50D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5C5469E-AD5A-416C-9143-08074181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AB5AEC9-727F-4AFE-AB12-EEFE48D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4A9B961-8931-408E-B473-20C9C2B5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F150-2ACB-4798-A139-AD61D3EC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160FA8-FF6A-47E1-8029-0B3138AD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3276B69-F6BE-45CF-A53D-D1EF933C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297EC5-2DD2-4279-AD07-8A9925E3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5BBF45-E9C0-48BC-B8D0-73706937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C59967-58E8-4885-B521-1C06F1B8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1B051B-C353-4ED7-8DF7-44A82365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A16AC8-80EB-4D0D-BC37-E0F3E11C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B717E6D-BC3D-43E5-A29A-7C871A05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4B0542-7D0E-4039-8C94-F3FF06F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C12AA9-C948-4B86-9FB4-96B98C7A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F9DE7-AD97-46E5-8B85-0AC261EA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25E849-4F70-404B-BC40-9FF096A6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54D3D9B-3182-453D-A1D4-1370EC93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910FD9D-280F-4F63-BE75-8BCB0EC6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91CAEB7-F4EC-491D-9A64-29E28998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BED85F-2173-4421-BD65-8B509B7A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629AFBE-D880-4065-ADB2-0D1A7FC9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258C4A-DF8B-47F0-8FFC-EEA8BD05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197068-361A-4FC3-A5A1-DA642446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0E7AF17-DFEE-4F18-A693-5D0FEB00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5F576F0-DF0B-4EC1-8B9A-19B8B0E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3504A-F696-4A93-B3B2-32A36DE6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D9F0942-6FE4-4042-AC97-6ACE08E5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91BD94-1E72-4D2C-A353-1C8EE20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91D4D6-E7B3-48ED-9FBF-968ECF1B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0CCF727-90B7-4D1B-A704-544C4A2B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328BEA-184F-44ED-BED6-8009F0D8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DA4A754-D3E9-48F7-A765-2D7F07C8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DFB671-017E-4556-90C2-FC9400E9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F3F105C-7EFB-4C21-8D85-F637F425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44C7C0-3D66-47F9-99F2-6ED2D722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EAB9BA-2C7D-405B-9580-E2304DC5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01FA2-39D8-4C37-BF65-479E5D76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1C33EC6-EE19-4EF2-AE10-61A2A60C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79711D2-7FAD-4997-AD38-14FEB9D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33C3A0-BF86-4CF4-A600-DC2D754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D99498-115C-4604-B67E-89CFC3C1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C79A96-C7E2-4E42-8AAA-D171BCE6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A77165F-13E8-4C34-81F1-EDD55C9A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4CEE8E7-B47B-42E7-94FC-46EF6B50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AB47945-7759-46A1-97AD-23BED661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45853D-7527-4AE0-9D28-F3DD5534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810A30-5CC4-4DCB-A548-F8C5F563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84073-0F77-4B46-8F23-B3620F3E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8E941EA-94BE-40ED-9A35-B7D10685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1BE0103-466A-407B-BD64-AF27A900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0602778-16F1-4268-A70F-954135C5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1ABC27-A908-40E3-B961-0B378345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C5C23A-AF45-44CF-BAD6-FF2ED866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67E1FFD-164D-4BA4-AFB9-B6DD034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57987E-8B81-4E92-AB04-08D6F115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B75121-C1E4-412A-A365-416197CC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DF51B9-7740-448D-8F86-79A0AEC9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CE60B32-F220-401C-890A-246FE708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D717B-B641-4FA8-9F6C-4D2E8325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94A41ED-F3B3-4357-B295-BE6A4F02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3E5B866-BA2F-4FB4-ACFB-CC493B21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850BE65-128C-447E-8475-BC7EB8CD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78A30D1-1C9C-42FC-A793-03D632ED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FAB314D-89D4-4C38-AAC7-096724E9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6787D9A-7107-41B4-807D-1130E51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0B46ECA-3A98-4FF3-A583-03833B35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1402E04-3CB6-4CF7-AF2B-7D63097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CA5DCE-2B76-47E4-9875-04A6A2F0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E6B72DD-471B-4DFA-BD02-032E4F5B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9C5-CE11-4047-B004-606D8410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F0872-BFE2-433C-ACFD-4DF6AC3E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C516F45-0667-465D-8384-29A28073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48AAC52-95F2-4F9E-ABEF-953675EB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F015DF4-8DDA-40CF-89F4-4B493D03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14FCB10-2D9A-4F26-9DBE-A6811A8D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FFA9B6C-1FAA-48C4-991B-96D5AB55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003BE4B-0A9A-4DCA-9C4B-6841515E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F875992-2BB8-45FA-90CF-FA838C02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74ADD6C-0D57-4314-B44D-58452994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303780A-1674-4A1E-9A8D-A1EA57A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23FA73D-B4D6-4921-A285-4F64315E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9EA0-3CCF-4A43-8BE6-6A7627A3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C9BB841-8644-4388-A824-EBBC8F7B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10C2108-8607-42DA-A626-417A6ACA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802FB10-F906-4D37-AD0B-EBEB9E3F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662C6C8-CAD0-41EA-86F2-091FE104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768661F-6304-43C3-899D-8487243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C02174F-A54A-4155-943B-3D2E29B1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587FDB1-9E40-440E-9794-4B864F6F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180E7A-38A4-447C-AA04-A3D76D6D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DE03EA-686E-44C2-A4BA-B4AB737D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8458B21-DFF9-42BC-98D5-27B649F2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21E42-4D06-4BF8-B114-1A73E7AF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C4EA422-7D59-4C98-BA41-D23704B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76CC861-D110-4784-9964-C2DA6F2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D731EE8-6D6E-4EB0-B016-B317E6C8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C9B1283-DD27-40F4-B8ED-36026001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B55CA8F-5234-4978-8992-4C715BFB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CC79DB4-9701-4624-A8E7-6D4FEB03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F204EFC-DFF4-452D-A92A-F1CE4FB7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5799ED-16FF-4FA0-A9D6-10B4186D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0A07A0A-156A-4635-9F09-6F3A2063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A592FB8-0210-4497-BD29-71A46C63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DF0E7-E8FA-4E28-9B2B-21ED5F26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4C0BADF-7C48-4FF0-8DED-3E72659D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A01ABC4-FB27-4CE7-AD97-64394D36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EF560EF-17DB-474C-B38A-33ECED75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0912DF3-D3FB-451C-91A2-72E30CB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FE41C41-C5C4-4692-B16A-8AC54A3D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543D4C0-C37C-4823-8E22-89B9AEB2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230DAEB-1FA0-4A40-8C56-367A3029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36DB1F7-F164-4BED-9C1F-5146C4AD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D1AD962-F724-40DE-8932-ED37CC1C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24E11C3-5FAF-47E3-9524-AB4C8377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A82C1-69BA-4015-B7B3-BC43C85D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04B616B-E65C-4B91-AC66-60C52273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973CB9-9B28-4A72-89AA-473FB7C1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5C5C022-A178-4EE9-A483-EC271725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F940CC-19B6-4994-9E63-A856E7F0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6502442-6CAA-4664-9616-8C7788B8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D3B22FD-C74D-475D-B9D0-08FF886B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EB41CBA-AC4C-4D74-A0BF-BE8BD09B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FB604D3-89FC-4FA5-8C83-98FFF1C1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1C9DC38-561B-4BC6-A8E8-129E43A4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BE517A-8033-4433-B40F-F1DF8B93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15644-DAFF-4DE5-A01C-83A8E5A5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5D9D36A-9F59-4622-85FF-E8E53C52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9569B78-AB91-4EF3-BB9A-4273C416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A5C0C74-2BF1-473C-8C11-6FD96A7B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933344F-B9AC-4224-B161-1721484F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8BA39A9-5DA6-4A71-AF58-CE90F755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4DDAC1-725D-44D5-B095-72169EE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F612CD0-B677-4DB0-8DD8-E89EA066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F97B24A-4C20-4261-A4DC-FFA38C97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2E506D8-9906-496E-B868-1E4AC7A7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23E17B3-F503-4CDD-887C-A43F67C7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C7E4-C753-4EC4-BD28-AD5181B2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B16C3BF-62A4-407A-8710-F40A0F5E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A169828-888A-4415-8FAA-9B3F2E14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649DB5A-DEFC-460C-814F-3C9C53DD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A5AF23-7E5B-49E1-919B-9261D669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C920FE8-F4DF-4FAC-BFE7-7D3A4306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8591D47-07EE-4526-932D-FA695EFE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FAE892A-0E03-40D3-97B1-05DDA3FC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1418EB0-FA04-4991-BEB3-E51CAD79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8D19F00-3D6D-444C-9A73-75372602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CB09BCF-3E83-4C41-B586-83B0004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A7C35-A97F-4041-920C-B9490DB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4929392-F119-457B-9F38-4C358B79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98EF262-BF93-4749-9DF4-59420BA4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6AE2704-9BEA-4DDC-86DC-E37A7B7F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FF595DC-EDDB-49DE-8FF2-0A703EA1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3E84B69-D16D-401A-8016-A1E7F53B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550292-937F-42CB-89F3-140C5EC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2009B7-BEF0-4611-A727-B0BE85E0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CE3535-E1AE-4263-BAB0-179FDFEE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851AA01-1F80-4346-B49A-F3EDF6DB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FA8AB52-8FC3-482B-B176-60EF3FA7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9064B-D9CF-453B-95C7-9073F0C0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E924DAE-CC86-470C-8E95-27C9834B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14B6B53-16FB-4BD0-A121-AE52771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037E122-8599-4C2B-9AEC-6611BF44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A42F2F3-AE97-413C-AD9D-06CAC0FE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C4BB272-113F-4737-9BC4-8CEC102E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11EE3-E720-46C3-9E6D-FD53B02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2F2-C5F4-41CB-AB1F-4FB7715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6E31E-D7EB-4C91-AD75-6E9E032D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98DA3-0D48-4D25-B3BD-731D74E1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5317A-4A0B-4E4D-ACE1-B7784AFB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7B68AA-072E-4A2C-83A1-BA5D0EAB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BB1B1-4EC6-4607-B510-A9B393DC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A151D-CA9F-4951-BC25-A9459B0B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E9083-E044-446E-85B4-DF1B7C6B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7CE4D-6EB4-476C-AD4A-32707CA9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5F840-F601-4551-84DF-0DB41101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1EC3C-8D87-4042-BF72-7F219E7B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C2B-3667-4344-813D-286F05C6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3BE94-CA14-4E5B-8EA0-8D1CAA20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7FCA8-84F5-4BE0-AA27-5826C79C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99DE9-C039-4EB3-B3C1-77EC4B66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417D6-0D70-4FE1-9973-B2745E0C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728FD-3F07-4172-A34E-BF57EC17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016C9-1527-47D6-A8C8-F817FA93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2C049-8132-472B-8178-F7DFC5F2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AD198-01AC-4350-A107-E25769D8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785B8-406F-4123-BD92-18A32C45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8AF5D-E36E-40A9-AF18-AAFC60CA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2AB-04D6-4F6A-9FD8-17FBACFC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74155-8895-4D4B-978B-535B7ABA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7F7D-FE5A-4D06-938D-D0B658DE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17596-838D-463A-9AF8-FFA56571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4DC5-936B-48E6-AA5E-873242BC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970B9-D08A-4716-9064-35DA3D99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33BA2-861F-445E-86A5-B044B32D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6A419-845B-44D7-A6EF-898B5C7F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361C5-DD52-4662-B860-FB486C5C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6DA27-2AC7-47E8-AF8E-B6A99CAF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B8AB7-FA4D-4419-AC88-56676D2C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115A-0E3D-43D7-9B56-BD4789A5A4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6DA8-457A-4A75-887F-AB7BE3939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21FA-B5DB-43D5-8BBE-0DBC09011A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A5DB-031E-41EB-B05D-F0243A1F47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07D8-49FF-403B-AB3D-E34968DB4A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7077-F8E1-40A8-8199-CCB1C37FD24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9361-C8A2-47F6-8DDE-8240AC307F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44C4-4622-4D22-9A2B-64DCEA695F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C2C0-E4F1-40A4-B9F5-8D13542ED8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1C61-6FF9-421F-B301-2D6E4AB9A9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56B4-6E89-410A-BE14-3407A064DC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2ACD-26CD-43C2-83F2-67AF1B5638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B120-8FD0-4BF5-BDE7-E54CFBDD0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E143-2C7A-4AF0-BC0D-7F00360941E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2D67-FA18-4316-8293-C73A02D97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C765-B271-46A5-892E-8B8CEC208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5DDF-64E8-4A97-9BA5-F2CAACD8D9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ED01-3555-4DFA-A0D5-954497F7B3C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A7D9-C60F-4827-BEB9-4A02E9A4F7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1ED7-1555-4037-A9B5-7CD4DCF4A8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3E04-F9ED-4B3E-9851-246AAE6BA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A741-E232-407A-9F39-9A903128C5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10FA-C2C9-4B86-BFDE-00F7E2488B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A466-4982-4E1F-BBB5-D1E76B0DFC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35A9-9166-4A06-A11A-C9A0A8C492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B703-851E-486E-8FA7-C74CD10579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1C1F-6A3C-485A-886C-0C3C8F5648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3125-A645-4007-B036-D49A51BBE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B3C3-7E23-4688-8B3E-A37023989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C7FC-3141-4CEB-AA4F-151DE3400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1E76-4FA4-45C5-8AB2-735079E720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FEB5-8CB0-4AD8-94C1-ABAD40A54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E5B-3852-40B5-A393-5AE837052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947B-F3D5-4C58-BAD1-B729D46A37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7581-CE13-4329-8A69-5D735ABD7C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E169-805F-41E6-BA91-4290AD58A0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5913-D0AE-4A2A-B05A-8CDDF6A5B4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D88A-4DF0-4E88-86AA-E4508BF650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2166-EA1E-4B10-9B2C-1A6435BCD3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1F16-7B16-4DCF-85A3-982AC9CCD5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014D-5E01-4867-9371-10FBFCF91C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B178-5F95-45BF-9B30-36A03E15D6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63DC-FABE-4423-AED2-60EECE3D28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0BCC-30DD-464C-BE68-D6FF5AD7EE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408A-14A8-4AC3-82CE-AE38ECE58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B084-96E6-4D54-972F-718A22312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CB22-3AE7-4AC2-BDAA-B030142C2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AAC3-BB18-4DEF-B46B-1E9B6C131F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A56-8544-43CE-930A-7CCBB5BBDC4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63D-1378-419D-8370-3A54B36621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6C52-ABB8-46D8-8552-A1CE1D82C5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FA17-2BC8-41EF-8E31-D17D70D528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AE3D-0880-4C0F-AD12-FBA330D1D5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F852-1090-4F4B-9D4A-2D2D99B33B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3FC8-52B7-4D66-9016-9EE22650F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3F1A-7224-4778-B065-DA3C3701CD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316-3A5E-40BC-B166-B8A52DC5B8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4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5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1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6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7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8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1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2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1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8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9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0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3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4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5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5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2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3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4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9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5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6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7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3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4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5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RomaK</cp:lastModifiedBy>
  <dcterms:modified xsi:type="dcterms:W3CDTF">2015-09-04T09:32:36Z</dcterms:modified>
  <cp:revision>7</cp:revision>
  <dc:subject/>
  <dc:title>Presidents of the Phillipines</dc:title>
</cp:coreProperties>
</file>