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8E6A-9613-45F2-8FAC-795516138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744-7266-4472-9C89-D93C7D6A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45C-E9E7-477C-B7F1-F4A98501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2AD1E-F05D-4EBB-BA77-6A6E711B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5641F-ADCA-4588-A895-7CFDCAF4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A7E6D-C54F-448C-845F-658CF69B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85636-5290-464F-BB26-84D8A9E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CAD95-5872-4BF5-9508-85342F3F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EAACF-1B92-423D-A1BC-B8F8AB28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638C8-DC04-4B82-A991-2196E45D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146AE-95B8-4375-A1EB-CF11E507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D2A38-AE30-423C-8E9C-F4542A20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35D04-B4F6-456C-9DBE-349B80A6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D63-D26B-4387-9144-729829E1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568B3-C0C4-4764-82B9-6735DB82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1D8AC-24CB-4B72-A84E-AFFB87D3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048AB-9A6C-4C70-93DC-61FB375E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9888F-31B3-4D38-A581-6577A835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CA9BF-1A62-424E-BF5A-D25D0B43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8097C-5A60-4AA4-8FEF-9A605B6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F7F61-8CB4-4710-B8AA-AC3989C4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94A94-E3D3-4730-9B3B-6A5CADFE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D84FD-BFD4-499B-B26F-A04BA5C2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11B2C-BD40-49CE-8026-26B552C0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508-9D14-4738-A607-F5B7EE8A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87D8C-C6FC-4ACA-8899-F5A67D98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C4AC0-6034-4BB8-A8C6-31689F58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01DF1-93B2-450D-AF9A-7222960A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9893A-9F9B-4A0C-B47A-FDB6F092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65888-6EA2-4632-8939-F414F8E7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64B61-0857-46E3-9035-79A6A148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696B4-654E-4458-A4DB-6E85037F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FBFA4-206D-4A1E-B82C-6468778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0748B-AFCA-4CC1-8213-206C8271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D1D08-70DC-4FE9-B996-F97C77A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9525-345F-4375-9869-02BF09E8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CF001-89B2-4860-8D63-CEE4A4E0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F52BE-8667-4231-B6A5-F8CE2288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96165-CA12-473E-954D-1BDA2216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A93F5-7862-441E-8843-7DBEF31E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7BF87-8D4B-4B12-8AFC-862C5704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92DF2-0282-4D39-B92F-3C83F0D6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746EB-7628-4EB0-8F5E-50A23389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AFB6A-3047-43F0-843E-7DEFDB93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232CD-4CBB-4894-89C8-EF0B9F94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07A67-E0F2-42CF-A04E-01AC9552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9C6A-2891-4760-AE4F-C9EC2451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9B848-D0FE-421C-9CE0-C8FFBCE3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F6C51-CE60-4618-BD82-5526663F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284BC-DC7C-45C0-ADA1-A9253129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864A1-7D5A-452E-932F-48F48550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27F10-CBD2-456E-A1A9-958CC51B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66AC3-BD51-4FB5-B37D-DB41B085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E9DA6-3C8C-40AF-856C-20A247D5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2BD94-7A0A-4BCF-9596-7AD5B422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D0A22-B70A-4B3E-8E85-BAAC6CF5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87E52-154F-4B42-B870-FD6CDD7A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85B4-8116-4DD7-BBFF-0E0841E3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040F8-6A81-45BF-886A-BCCCECD5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F52C1-F5B1-43A5-9C8D-42DF0594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48796-AB4B-40B0-A8EB-95D9D634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28983-A0E7-42F5-B4E5-8356E30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0012D-FF4B-4AD0-AD6E-FB27884D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43EB2-61C0-42FC-B8F2-84708B18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2A2FB-C636-490E-A714-0EF1940E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EB7D7-2781-4A94-BABB-F19E9180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2858C-12C3-44BE-92E5-8406FD87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5F46C-E726-4F33-86E8-71E8A335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D958-8372-4EF0-8797-752EA259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9F32A-7490-47B0-8E30-FA2FC4A0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F2BF9-973F-4951-A509-42CF21B3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9C361-0995-4D9E-BCF9-0B22EC41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1C97E-59F2-4F1A-9C69-B09F329F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07805-2A71-4C0F-89E4-983247BD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DB41F-68A2-4213-8E09-92ED33DD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120E74-DEAB-4257-903D-5FCA08AA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445F0-2062-4D23-AA06-6D6E69B2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FE487-4B6A-4F19-835B-7135F507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FC03E4-6686-47CD-9737-3FB1271B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817B-17D2-42A3-9C0E-74F2FADB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2029F-34EF-4A5A-8B88-1FD36375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823E7-A768-42C1-BBA5-BB4A79EF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15A1A-22D2-458F-815C-8005AF1A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37786-E98E-4363-90CE-F27D4854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557C04-523C-41BA-8055-95904456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8136E-55D2-4E25-B16A-792B6FC6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BA4B0-E938-4028-9377-84B9D470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C4C87-E994-4071-860F-1F64ECFE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DFE48-0F28-4401-82AF-7C1C93A9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B419D-8D8A-482A-ABAE-965F8FC6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A262-36A4-427B-8174-B139BA6F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AAA52-369F-493B-979C-B0F4AA08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8274E-2E0B-47AA-A4F6-9C3DE34C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AF4AB-F065-4A4B-9FB6-65D3DC43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63C99-DBDF-4F7B-A4AC-AF5EA67A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97DB7-9C28-44D8-AD7F-FF6592B7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CD4E6-45DB-4760-94E0-08BA9A07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218EC-5F41-4957-AA92-26E91E12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633F5F-02FF-42A7-B5EE-A391561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6D5B73-6CB3-42ED-8C5A-0728FE79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A67BD-BF4F-4971-B465-FD8F25B7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E26A-FB30-47AE-8255-BA324F9C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652C8C-7B00-4D0B-908D-A2670C8D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CE9FDC-CAA8-4442-B445-F732DBAA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852FF-238D-4D3C-969C-0586C7A3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125375-CFBA-48EA-9AB5-FF6850AE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18F220-24BF-432E-B6AD-871FFDFF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12D5F-8623-4195-879E-C4EAA200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7AE48-A9F9-47F4-B9EF-AFDB2C90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1D7DAB-B6EE-444C-B78D-47107019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A600CC-563F-41C1-A43A-C380060F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12706D-B3B5-4A07-A6CC-572B315C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287-3603-4CE7-BB68-2124611B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9AF3-03D2-47BC-8AD9-0A98029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EDBDE-53FF-4C44-9953-CBDC66AE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5503B6-4C52-419F-B1EA-E70CFA8C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E64291-A7A6-4733-A8AF-F6DBFD61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8E9BD-3163-4216-A3A1-FEAF88E0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F57175-A574-44F9-99F5-542ED9FF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455034-F040-426D-97A9-FBFB8EE1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A65F7-EB2D-4A4E-817F-C1D1E18D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94D4CA-1C1A-4562-8280-7A404ECF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1A610-F2BC-4304-8FF8-B53B20AF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1C226-865B-40F5-A54C-E0F8ADE7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0B59-542A-40C0-A8E1-60367CA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2BB67-D7AD-4962-83D7-A9868931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B6AA2-B4E5-4FD1-B697-E245F830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F258BB-DEA2-4779-A811-A01DA0AD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E1B9D-4FCA-43AC-B1C1-AAB6FED6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A9972-9315-4C7D-BCC5-EAF5A0A6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57F69-4772-4ADE-B086-47F9AFE2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E44634-6D06-4954-91CC-A8EB7DFF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5CE09-1B5B-48BF-BA9B-8654BA59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8B74B2-3B58-45B7-937C-2E5F92A8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E41053-D33F-4DF9-AD75-B8E9DC7A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AC56-0609-4DE2-9BFA-7F79F9F5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0AD90-3A89-40EB-ACBA-3BE1DDBD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E2ADB3-33D8-4831-8497-4CD46DFB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D4F60-DA0E-44A6-9B6B-34373239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CD9ED-DE37-4CB6-970C-924B7CBB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9934A4-A54E-4FD4-AB6B-552B14A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93A106-484A-4881-896B-D1E512F1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44715B-074E-4E21-A7FC-55AC5B7F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67D90F-2E23-4826-B2DF-2A2BB1D8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F78750-41D9-4D37-8779-EC29B2E8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499CD5-886B-4941-96D9-2D159089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5B38-DD13-45AD-BE2D-0CC7626D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F87661-6BBD-4C96-9828-0F02A2CF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56C686-0ADF-460C-8A47-EDAD1AD1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A0D71-6FBF-4A10-96C6-6B495E00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8714BF-B33B-4BBF-AD9E-2B0826BF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2D8988-92B4-4E2E-8BA0-EFA5E53B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10D730-FC7E-44C8-B487-94E2176F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0E70D9-8409-4A72-BE4B-D7ACEEAA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E2FB99-5423-4C63-A0E4-C0A7176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4D726-5DBD-483E-A50A-D3718521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5218AD-82C9-490F-985F-39120D3B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6A28-7307-468B-8F31-75DDD707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30CE5-8FA8-4C8B-B513-D348B222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4C8C7-6A18-4978-ADB1-DABCA865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4640F4-F0F5-4527-8A77-6DA0CDF0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18189E-CCF2-428C-AE4C-153D3824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550838-3C08-4936-9A06-A43DF2D2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C6D3D6-84A5-4A48-AE13-E96D612C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2B9631-9EA3-4CCD-93D8-7A748D86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C51205-110C-490C-A598-664F6359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52E187-1875-4D42-AEB1-F50B39CB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C0D1A4-0D1E-41CA-8F76-7098A1EB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1BFA-B12C-4194-982D-645DDA60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46FD5-70AE-4D9C-B359-CBC0C870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7FDFA0-EEB4-4CB0-8903-4A6BBE2B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1B433-E027-4F53-BF5B-504B9163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66B74F-A05B-48D6-92B2-8E1EC48B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5E414E-369E-4D38-B5D3-B503D1BC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BFA9B7-BCBD-4CB7-BA4B-5B6E501B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F3466A-F04F-4E2F-9391-36D816C3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1A1209-D7DF-442B-AB6F-A359B69E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44C088-EAD0-42BD-A5DE-2F3689C8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04D4C5-70E9-4A7F-B7DF-7746FD2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ED05-2EF7-4644-94DC-403C9569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8470B2-3544-4DCB-AA6E-ACC0CB5A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D92C79-22A2-4176-A2E2-EE6B82B4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F0CE9E-AD3A-4EE1-9DC1-0C8EDB05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D28F21-7F98-403A-9907-8115BE78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B388D3-8DC7-4A10-9605-CFB83DE9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BA0599-B722-4214-80F6-56270281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C5B738-79C9-43A4-AE0B-A77604CB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DCDB6A-3217-4088-BC31-D9F42BBD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781C88-5EC2-4640-B01F-3598AEFC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5CC70D-ADD4-4AE7-A26B-20C2E56A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31B1C-12F3-494F-8076-0DE2992F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8DEFCB-B025-4B88-AD73-2A5AD0C6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2593CF-8E57-45AD-8043-A5FFFEB7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97B0B0-40BF-43D2-9C2C-63F55D70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CC2771-ED18-44E5-92DD-7ACF454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D66616-B32C-4256-B10E-F4A911D0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FCC91B-5730-4C1C-8166-47E71591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7C8D02-E5DB-4377-BE36-72426128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B06298-CB26-432C-9F94-E22B969B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96E8AD-643C-4B65-ACF3-A0B046D6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490016-960B-4B30-A320-A10310BC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D1320-8C58-4E98-BCFB-C0C3B7D9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B4C11D-F426-4391-9CD1-553A83E4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BDD607-5966-4DF2-BB69-9C4DBD34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25B4A9-93B1-4A2B-BA30-A02D03C8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D24A5B-BEDC-4BC0-94E7-1C9E8EE5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BD22C2-6106-4586-A567-9C6D9465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E0BD94-976B-463E-B63C-EB5FF0C7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341D40-4DB6-4FD2-A734-C1487EA5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D046EB-740F-46F0-9F0F-9DE7A4D5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8CB3D2-3E55-4C21-B506-5A667E4A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A4371A-BB39-43F2-9DC9-1CDEA0F0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2D6B-D228-4741-BC9E-ECA52AF9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708D53-1FF6-4081-BCD3-14110FDA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07EEA6-4FFA-4F94-B56E-8301F8BC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00FDEC-24BD-41DF-897D-063F296D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0322B2-6DB0-44CD-A99E-8B78EDC8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E7F59D-12CC-4E7A-8FC3-7F55E321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8ADA7D-C917-4488-A2A0-55771C28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334B32-2F2A-48FB-A143-318A6077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7B8B1D-B4D7-4A4C-8164-3F06189D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897025-8E26-43CF-9D28-A18FB3D1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C9EEE5-A337-4C6B-BA81-3D048476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8C0-7E83-4931-BC49-8189DF22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C948-A8BF-4A0B-867E-0F639CFE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8457CE-F2B7-4E1E-8076-7DD15C34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B2E64A-B11F-4CFB-A39A-08F45420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4C7377-CDD9-4D74-ADAC-533C6982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771921-949A-4C50-A218-AFB86CCA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EBFF9F-B0D5-4DCB-8F72-8A68EEAF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22DAAA-654E-496A-BB6C-D4C8F08B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EDCD78-7821-49FF-8A84-2723571C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00FEC7-E93F-4D54-B226-F422967D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6A153E-A2F7-4BAA-A16F-AF4864EB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C29AA1-D5D4-498C-B019-8EBCB963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0D419-45F8-4B4E-BF3D-E3C07460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D1909F-D2D3-41A1-B1D4-0E917A5F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BC3186-DE61-4D92-9C1A-EC9E2425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922524-375A-4D15-BE75-91EE05C0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DBA04B-D0EF-4788-99B9-02499892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F46955-BC9E-4AF7-941E-E0E55505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46ADEB-CF47-48DF-8F65-E657D7FB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F6FA64-C801-491F-8973-64868D1A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3BA5D9-C137-4038-A6E6-00BBC607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FAEBBA-366E-48D9-9E7A-37EB43EB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BD90ED-DD58-4349-825F-A1DAB265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26BDC-F57A-4F4D-B23C-BEFC9D3D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948A00-3D22-4003-A5DE-FB382C11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4346C0-37EF-409E-887F-F2932B13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7E6FAB-A2D7-4147-AC78-4554BE85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7BBB5D-3F27-44F5-8EF1-A59886AD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5569B5-5E1D-4F6E-ACAD-CAB183F1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F605FB-4AEF-487C-8C5E-55A0C06E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0B448C-AB87-4685-B163-E5C7916C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B3F9BE-CDEE-4E0A-9DC4-640F6B92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BBDA03-E1FF-4003-A195-767CC717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AB1EF3-2095-44D1-9C3D-5CF523D2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7C50-B234-4699-9419-D3DDC06C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6BAA09-9E08-4265-B18C-2E868AAE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967A2D-49B8-42A2-91D3-4A0BF37B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4E7608-B261-41E1-8A9C-FD84F4D1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B1909A-1031-41C6-A7D2-D38708DF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95443C-431D-4B05-8055-3BCE0995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2F80BC-6055-4B2B-B2EE-CE02B7C2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285C35-469F-48F7-BFDC-FAA5DE1E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BEC599C-997A-4A15-B6BF-CDE03EFE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CE8E312-E3BF-4430-90FC-55DDA671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48BD125-715B-4CDA-B07F-F4C21FE0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9E32A-9460-485F-95CD-D5922986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9D78884-D759-4869-8A27-2D887A47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EF3867A-812A-40B8-9F1D-6A64AA2A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81DEC61-B36B-4187-BF63-63B36B3E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3DFC2CA-EADC-4164-BD3B-760F232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CF263C2-95A8-4DD1-B227-1B469775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BEB768E-9188-4824-9C9B-28CA06FB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B9B802E-8F0A-4C21-B0C7-BA5272C5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53EE070-D718-4AE7-AB9E-3767C6E8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9BFF109-EFAD-44ED-B68D-B92A9637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73EA37-4E10-43E3-BE45-19F93332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7047-311F-4C21-9DF8-1614B03F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19111D-AEC6-4E3D-B714-CB46C89E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C25055-C9E0-4EC2-9B7C-754A34BC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AEEC9C-713C-49B3-BD6A-A904B724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DD7B67-8C1A-4BFB-BA14-1852B8CA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3A06BF-DD32-4774-8846-D721F785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F4A435-159E-4C1D-9A67-5F3E3CC3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5DEA01-FDF8-446F-9275-E28B9949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82A017-3187-4DE2-B1D9-F427DAC6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595BE3-C9AE-4447-962A-D0FE0631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3ED92D-561A-426A-A63B-3BA3969D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95FC-A8B1-4950-963C-3F31600A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F6ABD4-E7FF-4022-88F1-82AF1E12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713A0D-F22C-466C-B7F3-23593034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7EF383-77F4-4BA0-A24B-D54AF008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217167-7098-4F38-ADEA-7B4C1D13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2B96A0-64CB-4C0A-98A5-DE0E03F7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918F05-6F31-47AD-ABF7-F47FCB71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35EB65-176E-4319-A0D4-B8D57757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3D58A6-DE54-414C-B5A3-536DF651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4F8FCD-CE7C-42BF-ABD2-CC65255D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A697CF-14C2-488B-8A5E-5DF1A0D5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669AB-B1A3-432E-931E-7608A681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FD5FB6-DB80-47CC-8B92-FB479C81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8FC1B0-52C7-4A7F-8483-6CB04579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2B9457-9A47-43FC-9E77-C99D9CA0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BD8D99-0AEA-4D63-9DBF-0631994F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3EB0EA-BAA1-43AB-9238-3A2FC0CF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4D1DB0-DC5A-4B94-B870-A78FD9F3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BC3432-FCC4-44A0-9134-B349632F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563701-EC7B-498C-A4B1-07A93FF6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6FEE62-1DEE-4326-A18C-AF47883D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92C088-AE97-4C3A-A37A-C4E3A663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C74ED-EB23-49EF-B4B7-A3095DD5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714A05-162A-4892-99CC-9443A6D0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0C8677-0968-4BE7-9710-B1F717F0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C17784-36EC-43D7-8439-752CD0C3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9AC378-2F0D-4697-A8FF-7E615F7D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14FA6F-57DF-4C64-8113-085A3BFC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4E3B15-A96D-434C-8DC9-F9872EC2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55159D-537A-4EFB-B60D-FA82AF75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2D9BB3-ACD0-41F0-BED3-F612B54B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7F8515-DD5D-432E-A769-DCF38BF7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F4C455-203B-49CD-8FA2-46AEC74C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0BAEC-6D5C-4077-8798-A469B074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993D0D-8335-41C9-949C-0183FB36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E0044C-12F5-4926-A9CB-6D7D5E8C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365BAC-994C-4764-A99C-1FA198A0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F52EC4-E3BD-474E-B2E9-C78347E3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BCFAFF-3BC0-4726-9977-C5C2D1E6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8E2679-2150-4764-96CA-336F449B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4C49F5-DAD2-4C7F-87FB-85A67361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706BE8-2990-44B3-A283-EE52A6D1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37420E-21EF-4F73-B3E1-495E668A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75E260-9B55-4A28-830E-3869C6B5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7A9-BE8D-4A87-A835-5C1F2E07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1358E2-AFC9-4508-BCBC-03D865EE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E5CD7C-EF1E-4471-ADC9-003D5D2B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F3A2D4-AC96-4153-B4D7-E9199D6F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A3FCE3-8E04-49F0-BF78-43A68262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2DCE56-0C3F-4605-82C2-EA8E0317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F258A4-6DBB-40E5-B704-2F1DB1B3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DF1B38-3983-4E0C-9489-58DFC38B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430B18-7D45-4460-BA59-3ECD2294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7899FD-847C-4113-A1DB-19E054FC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BEF240-6FE8-49A5-B4C3-ADF929B1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B02E556-2FBF-4E70-834D-18124921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BAF5B-B2CF-474A-94AF-35CB3864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8823E35-C674-4504-A9AA-27AC52A1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4D286BD-F5D3-49B5-8E1D-7122CCCB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E1FB63A-99B4-4317-B976-5BBE1BD9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50AC988-62B4-4F38-A7D8-A770BED3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ED0A66B-9FB6-41D2-B539-0977742B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D41FB2B-CF57-43E4-B6A8-4CFDD0E3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AF60B6E-3CF8-4382-9048-29FEA391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302EBC7-88A1-40CB-80D5-B46C1235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D6FA4E0-CC1B-496D-9BDD-4DC10E81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A645F15-23DF-4AC6-920A-143DEC95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0CD37-9AF0-4676-A1D9-AB3C7698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490011B-9189-4636-827F-1002BBC8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497A69-8249-4F0A-9288-6FB172AF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839D04-F86F-4645-BF54-4A29998B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77E759-B891-4878-8E3A-F24DAAE4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E85736-B522-494A-A177-E5287FCA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CD55D6-0C44-4B17-A57A-4E87B35D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847C80-AA40-42A9-97AB-DDA21DB7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83296AC-BCCF-4EA0-A728-CF790C2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6919C5-CA8A-4BCC-A29A-5FDB3D8B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5E89F7-8AB3-4341-823F-606F60BB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0144A9-02F2-4ACA-8EBB-6488FCF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53D294-A903-44AD-8B29-C6E788BB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D143BB-5535-4C7A-9B68-60337261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9159A0-41F0-4BCE-9004-5742E993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FD1137-C0F9-457F-AB47-119899C5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36AF95-610F-4A0C-9236-F89888D6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6229EC-F911-4AE8-81D0-DFD06BE2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CD5090-EF00-4FF3-A3D3-64A844AE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4C369B-C82B-40AD-9930-47CBC895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5001BB-493E-42B1-850B-42AA080B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E49719-0C25-4C29-86D5-A93D9287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694D8-E0AB-422E-802D-5FCCC47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59F12A-B137-4B84-90E7-18DFD80A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95184D-10A5-4DF2-8735-50C43027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69F36F-95A5-4523-8370-F2D5AA1E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E86E45-5B29-42F1-8051-EFB9E17F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283AA7-1516-41AC-A68A-F48562FC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8A69203-3D52-41DB-ADC6-84B2071F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BEFA17-3FC2-4121-A626-D8726F7F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E52A38-8228-4F5D-BDC4-546E592F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35B88F-95F9-4125-92C2-842B98C9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69B426B-323E-48FC-8877-AD2D14FA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64E66-5B37-4D3A-AB6F-8ABCD426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C1ADD8-2924-4BEF-9B8F-F1ABAEA9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AFABA7-DFD7-49A3-99A7-318DC2A9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E5A20A-A0CD-4918-9F40-EF47B8E2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2FEC1AC-EACD-4E01-9D00-502B87DC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94A73A-D7F4-44AA-BEA5-84EC8D10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DFBBE5-5CB6-4755-9650-35CF4F7B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414967-3B89-4AF4-8223-8630F406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C91994-5497-441C-9EAE-BDBED473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BE90011-688F-4754-865A-B519E4DE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39AE8C-E186-4F50-AEE2-5933F8AD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6C7B0-4343-4EA2-AD03-A52D2ED9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9F096D-A1D4-4748-8D6C-4E11D308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03D309-ADD0-42D3-9002-EB766F2C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E60A3E-6085-41E1-AAE5-B592F785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F20D5B6-D51B-4F6C-8297-2C1EE7C6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D0B2FBE-0252-419C-8D19-7DBC5CCD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7697561-9B09-4FA7-BDBF-9DB735B1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06E45B2-4C7F-4DA9-BE09-D8CE5F68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454F17-134A-4AAF-A6F9-F3FD54BE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20B7ED-4F6B-40EB-94D3-3E2D8B1E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76E63A-3546-405E-8437-05B6191A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C4B3B-E2A2-46F8-AD01-6C16AA29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BE6F76-9282-4791-9F32-22BDB595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5B6686-1ECF-435E-998F-C2AEDE9B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976D28-907B-40BE-B133-B328B1FB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8831E3-DD45-4F71-B17B-4CA3358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28F0FB-3040-4D68-ADFF-F61D6DE1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82615BD-7E7E-4042-A22C-F59A1EC1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49A2E0-AAE0-47BB-B7F5-67AAD287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F06DBDB-26FA-41D3-B771-38BDAFBC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EECD9B-A86C-4327-866A-7A8DD17D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1A578F4-21AF-4F57-BDB4-F04D96A4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4C1F7-A088-4814-B7B1-49C7FBA5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2651F2-DC86-4421-9BC1-FFCBEA85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77A0DCA-BC03-4696-B692-E99EF4BA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B1423C2-2E6D-4964-BBA5-9B85173B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CE90C9-C0EA-4098-B411-34A141A9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2549EA-B1DA-479A-9A2C-95B4C78C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E5E373C-EDCB-444E-810F-115B490C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3340B0-88ED-42A1-A7C3-8ACE0761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FE7D7B7-92B2-4ADF-836C-06534C37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AFA6510-F7C5-427D-A7B2-93320CFE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8D67C5-EA02-4F9C-BEA7-3860430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08AA3-B37B-4F24-AAC4-F78A14FF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01B119-CEF6-4CFF-9B38-46556465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C44C1F6-E7CC-420A-8FAE-1669DCA7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5509C04-8E57-410C-BA7A-850E879F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233C721-5930-4811-B8DF-5175DAE8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9D280E-2DB4-4CAE-8A1C-A04742CC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C4DAD0-C8A2-4A33-8878-B053CA25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F183BB-61AE-4E60-8715-8F25745A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DE2C13E-21FE-4842-A489-161F864A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B9EE6C-E6EA-4942-94C6-E31082EC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420EF9-8C25-4011-A127-5314A188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D34-199B-408B-9347-ECB4B304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7D8B-761F-4342-AA20-E2EFF68C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DB9F5D-F9B6-4706-BA8B-DFA87AD5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DAC84F4-B631-45FB-9E1E-D5AD7AEF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CAEBF66-4244-4F60-A2CF-F3F630CD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54BBADF-7441-4392-A08B-6C468376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9AA73D3-EC30-4411-BCAC-C5803C84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69E000E-FF41-40DD-9F2D-F941132E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22DA9D-D663-4FA5-BC69-5BDC347B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CAC6B1D-5B29-4FF8-9D5F-3DA5A104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865419F-72CB-4978-9545-993B4610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1846FF4-6057-4046-9B2B-1CA0004C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905D-26C0-4A05-9443-BED72A64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C56BA9-39F4-44CD-A72E-D885B5A0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29264DD-F570-4F41-8D70-A9E9D240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EDDF367-7CC8-4EB4-90FD-96A83509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49E991F-0B2E-414D-9F2E-A6DC1E5D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AC7CF42-D38B-4369-881B-222D371F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3273C3D-98C1-42B9-8043-A22D76DE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0E834DD-7960-440F-8E26-84875E52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406B5E-B2C8-4165-90F2-FE736521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48BF8E-C457-4D6F-9157-33CEF7E5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EE9889-8FA2-48F5-867E-BB01E22A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60C7-E7FE-4536-AB62-EEA1BA06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0E1B239-78D6-4870-8056-AF1810B4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0DDAE9-1452-4B90-8E97-3160F64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F7B3452-DC50-4C59-9942-1D142D6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E976F91-14FE-403A-A1F7-D27EC026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3BD28F9-8CF6-4DEB-8875-EAB32486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647FAF2-8F72-4BE8-B7FC-ED6D385B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6F1F9D3-4A43-4E88-ADDE-4BA4B4A8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BFAFF2C-AACE-46D9-8810-02A3CA12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41E4330-CF4C-4AF5-96FF-AD904498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6967BD-F5E0-405C-906C-3AFB3E43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AF6B6-000D-4A78-8ADD-12B84823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FD71BDB-06D8-4CDF-96E8-A59D26A4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DA8945-B16D-412C-B1FA-D01023AB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B81021-0ECE-4886-86D6-85DB4A32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83C025-495E-4A58-86AB-49479AA2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08E3371-CE35-4392-83A1-F5E22367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CE4D6F3-7753-4A56-A6D4-582D8BB8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70AF98C-7963-416C-9749-CA93BA2B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5F680E3-794C-4DC9-9226-6F4DF16A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5BD7F36-B0D7-4C37-B7EF-2ED480AC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268C0D9-59BF-4EA8-915E-53C9A700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CF41E-1D8D-431B-AFA5-3D38A1F3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CE6B76-15B6-4467-B491-2444A17A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77E370F-A38B-4B08-8BD8-739E5B3E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9293E6B-BCA2-4D36-9407-5CEB6C48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F7E8947-29E6-4F53-8834-6B08DBC1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BC61321-13F5-4793-89F3-B90409D3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7E581D2-DB36-4787-9112-B39C730A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952C97C-5920-473B-987B-85299688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314A76D-0E2D-4089-9026-7D7AD359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00F4338-B04D-4F34-84D5-C02C6F9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EC744E2-3114-4D97-8CB0-294032DD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7E683-997C-432C-9800-106C50AF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78B2EE5-DC00-42E5-BABE-872D3A9E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DD1593B-9BB9-4EFF-9B87-CC0BCF01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6DE94BE-B3DA-469D-B465-0685291A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FD3B300-E912-4C68-9CC7-A579F052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990C016-D3A3-446D-8E04-F5F490C8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1430AB8-CB6A-470A-8B90-BAD79520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22006A2-D860-4D5F-A638-4A26B4FD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57FDB91-0696-4AE8-A9FE-D3F71019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D83D1B4-8AF3-4154-ADE2-4AF60497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B9AA626-9AEE-4B1F-94F0-B1F8F9F1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FF90B-2DBF-4668-AE4B-A6926A27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7009266-207F-4A41-9DF1-2081C598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4C474E3-3739-4190-AE81-A28FDD37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74AD85-7248-49A4-94F5-6D1868AD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62850C0-925D-400F-BDBF-E54F5851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58ECCA0-38EA-4054-89BE-329C69F4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73CD79-B45F-46FD-BCC7-1E1DB672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A59A64F-04F9-4A57-BC91-2518F204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658DCA-23B1-4362-ACDE-4D08FB6C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4FF0FAA-F980-46A7-9EFF-C2FA4F43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F9BE84-760F-48C4-8DC2-32A39E4E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3A69A-33E1-4947-995E-5E769D8B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D5A958-9215-4BE5-9899-77FD6652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9A1EBD0-EE48-4367-836E-9823B497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E21D7A2-BD51-4A17-90F4-F506F5A8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2F69871-E161-4EB6-9544-39BC504D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FB1B184-B953-42C2-8E9E-47F5B69C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67A3C40-48D9-4686-BC28-B37EBA2D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415ADA1-6E1B-49E9-BC1F-53952668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2D049C9-B886-4B5A-9E84-4C192AAB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E816406-0E6A-43D3-B2B9-ECAE78B4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5FF5BC1-7465-40EF-A77B-37B1D179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F31B5-1E78-4338-8A22-50DFC015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26989FF-BA37-4868-B2ED-F40F49C8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004F3FF-756C-4552-B5C0-400B810D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6A0AE26-6101-4C39-80F7-A24E4BBD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8941E59-C1DB-4979-B72A-A305E632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DFD472-250C-41DD-86E3-0301F72E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77018B6-1706-42F3-ADC8-D2F40F71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553E18F-14FF-4ED6-88EA-817AE991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19680D-3474-40B1-9704-1C557895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B9C3CF4-57E9-43A3-9ECD-46917C54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66B0324-B6D1-44B1-BE95-8B96806F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4B806-81D1-4F31-AFB0-989C746C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BEC776F-5A91-4589-A09F-C0AB122D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128FD02-C0FD-44CA-9B6B-A4521AF4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2017071-2F49-4A74-8322-CB2B8A90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A12DAB-E29E-499C-AE37-84E8969D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3037F6E-36DE-45EA-8CC2-6579CFD3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7501517-A865-4EE0-813C-A2EBCD14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6A2C5E9-69B9-43D4-A85B-519EB743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D732AB3-0370-4391-8916-3196EB4D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EE3CAC4-E6EA-4CA1-8FE9-43866CA7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233E25E-C3BE-4D90-B81A-F2470D0F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004-34C3-401C-845A-418861AF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F2520-2DAA-47A8-B6E9-F2AEED9D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0E77603-836E-4AFF-B388-4A5B4E5B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96771F6-8B69-49BD-B8FC-48AB6BEF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6E74ADD-EBDF-4BE6-A8FB-1C3A32A6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057FB04-1B9E-4D83-967F-F7068EE4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C5F0D2E-9105-427F-A645-BEE9D10F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5195E11-5F66-4783-8102-22ADCD2F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CA67163-E78E-471A-9910-37C68134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195F55C-4B1A-4439-A36D-24DDE5EB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89DE472-2524-4CEA-BC84-3EC41BC1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7DB6E64-B29D-4175-8D19-DFC818EC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40B10-822B-4276-8A9C-2A47C52C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B0AB353-AAC6-4FB4-B758-025133C5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9489515-57BF-4E2B-A84C-8AA96CCA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B511AD9-CCEC-4F30-AB37-C54D64A8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A4A169B-FA78-4EC4-9DAD-85290B92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3E6A4D8-7DE7-479E-86C0-4DB6DAD7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0C9B3FB-BA36-488F-A9D4-F7BDA329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9422505-62D5-4478-9F75-F2B38684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2E868F1-FC96-406A-85C5-85DBD54D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AC63797-C27E-4CDE-8499-C1DCE80C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6AC8934-F792-4089-9EFA-5F18F1BA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C1790-2E8D-4B65-A5BC-4D03DB4B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8602F0E-482E-4F98-888A-2ECF1D02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9335DBC-EA40-4ECD-9A20-F117EEAE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4515DCE-4E3F-4645-BD50-0224CA19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9DB5F77-42DD-423B-971F-8F7B225F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F8727F-0B2B-4579-885F-EDE71FDA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F912B4A-E744-4452-9B32-58AE7D8A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7A6F1E8-6A23-4DBF-B578-DC2F2D8F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CC7D61-599F-4499-9ABF-0B616D79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6B40E0E-E7DF-40AC-9495-72F968AC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C8BF442-2976-44AE-850A-CC6A7CC6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1A185-7260-4DC3-83E5-D65E20D6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0D2A64E-AE3C-4764-AC45-6E692B88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5966DD1-71F0-4875-8ABE-F23C7D97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084637E-1357-41F0-9C48-1409188A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65C3238-B61D-4D7F-A77C-E21D34B1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93BBEFE-0441-474C-AB32-E48492C7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B40583E-0B0C-4434-98DF-E0E20DA4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5DDA488-49DC-4677-8A5F-7D3F1BD4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B1207AB-18B1-4DA4-9B55-1D0DCE94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6AAF6FE-D75B-428B-9C26-19CCD3EF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3B91BE-81CA-4C76-AA1D-8C89BA91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A0F31-422F-4087-BE4E-51FD06FC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A789370-CAA1-475D-91BD-0EF9DFFB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3BDC0A-81B4-4D21-98D3-54B8CFA3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7F42D42-5078-40F5-B1AB-7B4B6AC6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C8F79DB-5E5E-438A-B638-91F851E2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B9BA30A-3BF5-4157-98AE-164E8262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7ABA718-B352-4474-9BD7-23F2F6F2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362A028-8D75-4207-86F5-02BDE2B9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795E108-BC65-4997-8ED3-73FD9F07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4648F9C-74C8-42D6-8D50-3864C2DE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7C9B703-CA8D-4E2B-8A3E-80FD06F0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640D-B098-4A95-9F2C-3AA4C0DE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2C19843-E731-410D-A2AC-B0D75715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804A04D-DAEC-4526-91EC-AA56FE87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CAFD123-955D-4D39-B3E2-8BA5AA08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4CF47F7-1D9F-437F-B436-213C802A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6D273CA-F9BA-4B90-AE05-F759A524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4F569D7-1CBC-4227-92E7-9B0281C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B6B7B46-BCB4-486F-A5D2-35AF5F99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90BFCE8-E9F8-4127-A891-A79527BB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908600-55F3-4345-BF2F-C801417D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DB39628-775D-42A9-B534-A86DA756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37614-DBCF-40BC-8DEF-07D65991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6CA91D8-01D4-4F6D-BF77-16928E5D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758072A-DD82-4F32-AFA4-65B4B9D0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B68E4EC-F016-448F-9D18-D1C9AD4F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78AC4CD-2B6C-48C1-BB5F-4F355518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EDA2415-9F4F-4910-B322-1EEC26DF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5FED1BC-E498-45A5-9601-7ADDE43E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D30A92E-0A44-46FE-9823-B500D1E5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F4F2E80-7190-4ADF-B0D7-D3067C6D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1545DD3-0BCF-4FA7-8CFA-74B46622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2710DE0-CE9C-46F5-9260-42B648C9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A916D-70E8-413F-995C-8EC0BACF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EFF489A-FB83-450A-A066-44FADB15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C16ADE0-2460-44CA-BB8A-12F25321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D7974DD-3617-4194-A190-F2A0C9B0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93FF862-E1E3-463C-961A-C768242B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E23E807-3B7A-47B4-8FCD-B0334018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1656C92-7DD4-476E-A502-4C41EF10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4BE8E7D-4E69-415E-AAD2-3C10F679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88C9DBE-60B7-4773-896C-39FEE8F9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65DED7C-4BD2-4CF9-9178-326BE0AC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CEC4D52-57B1-4607-A98A-143C391D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314A1-3974-4055-88D3-1BB93A7E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75A17D1-594B-4913-9B0F-01895A95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F097874-BA95-4D02-9C22-45AD8548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CC6416C-6262-4287-A37D-C96DA186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FE57740-8746-441E-BC0C-5635C190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CC51B8E-5D6E-475E-82CA-29041069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86502-6520-4D4D-BA6A-92A32024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5AB-8F36-497E-AA5A-75687007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B1AE1-E77A-4234-B3B5-65E9EF69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8066D-BEFB-4AB4-9743-E0F7FEDF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CFFCA-92EE-4749-8851-55C6269D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8723D-5973-482B-AB10-3EC8860E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DBE3BA-24CE-4E40-B9B2-5DADDB94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1C3DC-5D1B-472B-B1C4-53066DBF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173D5-1E36-41A3-B59A-7248F63F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C9A12-9D31-4D07-B759-79708AF6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803E55-235A-4E83-8241-ECDE5E9F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0458D-56F2-4742-AAD4-80247F6C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377-3E5D-45E4-993C-598B1CB0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3C504-3E38-4FCF-A4E6-7D0E050B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9C7A14-E61C-453C-93A0-1CC71904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BD95C-0274-4592-9E27-6540E3EB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CB26C-AF75-4759-8F06-37DDAE16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6828F-E4C1-4979-ADB5-AFD70134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17599-5382-4459-B0A9-8B2152D0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415FA-B0E9-49B4-B8E2-740FF3DC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8360C-7D94-4B92-86B1-5499980F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318B3-1476-411F-A78A-E6DEF9D6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D3DD4-6689-464B-8096-EE58DBDB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CD7-59BD-4EF2-B6BA-6D424E3F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D6C82-6675-4E1F-A6A9-7143D300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ABCFA-E894-48EC-AAC9-79088B34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6E7A5-F4EE-41F5-BEB1-2E4C8EC8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D57F0-B661-423E-8B25-649697C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B3492-D9B6-432F-9155-14053B81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35CD7-F8EC-4778-A877-152203A3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4DD22-B49B-40D4-BB72-49F55CB7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AE661-B978-4F73-8FFB-3420AB39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CE22E-13F6-4016-95D9-1485ED7E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E9251-9FC6-464D-8BD3-1EF52563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CDAE-A76F-4C19-BD71-4EA15AC35A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CB14-E3DE-466C-AC72-2EF4F7D8F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F31E-FDE7-410E-BFBA-FAD51757B6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1907-F761-4BD5-BEC4-E8C73DFE3E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DE8C-058B-4081-A070-BD8E4C3B02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7E15-BF47-4193-8E11-7FADB25DBC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34FB-8A18-4727-934F-7A61027B07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4064-3D4B-4879-9248-2CD5FC14D0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84F3-0621-4810-8ED5-D1608B1E52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EE57-4CFF-4673-9440-A819FEA70C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6BA3-9ACC-4BD0-BE8E-1CEE4C00B94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9741-8FFC-42D2-815A-A19E293E67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4097-364C-475B-9912-9EA5F5AFB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269E-F0A0-42A2-B3B2-0B2B730E086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198E-8298-4D82-87A1-8A31DA4A9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F94F-7492-4BD2-A8FE-B14426FA9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A55E-C1B6-4D46-8110-FDB40FD22B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A366-242E-45A0-84E3-249E1C8E3F4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6903-C003-4888-A4B5-E52AD62082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6C0D-A11B-4581-A12E-623491C710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8EB7-1EB7-4121-9B05-0706EB04EE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9F30-856F-4F8D-8683-78D9BF0CB6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6BA7-C2FC-44EF-A0EA-18372B9345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0FF0-2021-44CD-8AF8-BEE204A765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9EFD-4B92-4416-8545-489DDC47D1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7CF4-A4B4-4CF6-84DD-A0D8C05365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126A-997D-457F-8C08-D494549DA7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7BA9-8940-4558-A6B4-CABDA3AEA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DFF8-184B-4043-8D60-2008A8F51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FB55-321A-41AC-803A-8C3C7CB6E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13E8-AD9F-43C5-8A9D-BFD0487EA0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ECE1-45C7-480A-BB86-376FCB7712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837B-CF3A-45D9-95F3-B5B227DAE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59F7-20EB-41FB-8E21-235BE855F3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CD91-3E0F-460C-BCAB-9FBCD8CC7D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39B2-BE36-4171-B582-8A9B1AB075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9F50-FF8A-4B6E-B864-F982F0C5618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E243-62AE-4C99-BE43-DE85524339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234C-4ABE-4617-A685-4A867A1CF5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2FBF-F08D-4D67-ABFF-71A234A959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1720-9BB3-4A15-BD7A-506F844504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6AB9-D905-453E-BE31-5576528610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FD2F-54A2-4DC7-8902-19501A2AF6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1898-C2BC-4E1F-93C1-15F70A60483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C5DC-79ED-4F75-AAC5-CC9618E39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8B87-002C-4755-AF3D-18D2BCF74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C61B-02FA-4BF4-AD8A-F95EF32DC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6816-618F-4A2E-8253-17CDECF050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6C66-F637-4605-BA2D-47A6CF712DD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6573-3B98-4BE6-9F7C-C2289170B2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D42D-4A20-44AB-BB3B-BFDDBE670D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BCD1-595E-4B03-9F24-0C41F48C6F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E874-A282-4EAA-A687-A51F3A7962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197-F64B-49B4-94A7-B534D22799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D5F4-91B7-4562-B830-1CDB61060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579D-B9DD-483D-97A9-368E4D7CAA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2A80-AC44-40ED-AC45-E4F789ADF0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4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5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1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6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7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8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1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2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1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3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8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9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0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3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4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5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5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2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3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4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9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5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6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7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3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4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5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RomaK</cp:lastModifiedBy>
  <dcterms:modified xsi:type="dcterms:W3CDTF">2015-09-04T09:32:36Z</dcterms:modified>
  <cp:revision>7</cp:revision>
  <dc:subject/>
  <dc:title>Presidents of the Phillipines</dc:title>
</cp:coreProperties>
</file>