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5B4F-D2FC-4312-B9C8-1477AC7D4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62C05-F07F-4072-9513-BB6F14638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CDB32-D265-4AA0-B1D4-596A9C4F5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249AD-D299-45C5-8387-E98CBDF7A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A4EC2-AA42-4B0B-858B-F8FEEFF69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4CF1F-7266-471E-ACF9-74AF94ACC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56D74-748A-44F4-ABCF-CC9A79864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FCE0C-ED08-4A10-9007-69710FF4E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E9975-50F9-412C-9661-CB9E8D684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AAF0-DF21-47A8-A683-42E4F4799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6ED85-FA46-40AD-B4AA-317545601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97A10-6DAA-4C9E-9065-10E26BCA3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5ED24-0FC2-48A8-9C22-B84B80F8E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A6AA-23CE-4588-8640-9ABAC622730C}"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Windfall profits tax  in August 1981, helping end the 1979 energy crisis</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Windfall profits tax in 1988 during 1980s oil glut</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x Reform Act of 1986, Reagan and Congress sought to broaden the tax base and reduce perceived tax favoritism</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2000"/>
          </a:bodyPr>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Gross Domestic Product (GDP) growth recovered strongly after the 1982 recession  at annual rate of 3.4% per year slightly lower than post-World War II average of 3.6%</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Trickle-down economic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Cold War related defense spending caused large budget defici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Savings and Loan crisi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United States borrowed heavily both domestically and abroad raising national debt $700 billion to $3 trillion</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RomaK</cp:lastModifiedBy>
  <dcterms:modified xsi:type="dcterms:W3CDTF">2015-09-04T09:32:43Z</dcterms:modified>
  <cp:revision>131</cp:revision>
  <dc:subject/>
  <dc:title>Reaganomics</dc:title>
</cp:coreProperties>
</file>