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3772-0371-4DAD-8DBC-950F34A8F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0892F-08EA-4C51-BE93-4ED575E6F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98B36-7D07-4671-8AF6-62265DD3B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16CBD-A505-4F2F-B17D-18D5D7391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AA9FE-0BAB-415D-B523-5387FBC19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D1A68-A295-4F6B-99EB-642C01C12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E7198-2199-4741-A8E4-43B8AAA06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9E5F6-869A-4EA7-A94B-79B6F6E09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8DAB7-DA31-48ED-B21B-106B91AB6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A1A9F-FCD3-41C4-946F-58EF6E007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2B61C-93BC-4FA1-A420-663100409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DEF12-2BF4-4E05-942D-AA05DEEF0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8587C-1F46-451A-9FD1-7BBB01AE2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72DE-7994-44ED-9A2B-10BBE373BB0F}"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Windfall profits tax  in August 1981, helping end the 1979 energy crisis</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Windfall profits tax in 1988 during 1980s oil glut</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x Reform Act of 1986, Reagan and Congress sought to broaden the tax base and reduce perceived tax favoritism</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2000"/>
          </a:bodyPr>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Gross Domestic Product (GDP) growth recovered strongly after the 1982 recession  at annual rate of 3.4% per year slightly lower than post-World War II average of 3.6%</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7000"/>
          </a:bodyPr>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Trickle-down economic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Cold War related defense spending caused large budget defici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Savings and Loan crisi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United States borrowed heavily both domestically and abroad raising national debt $700 billion to $3 trillion</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RomaK</cp:lastModifiedBy>
  <dcterms:modified xsi:type="dcterms:W3CDTF">2015-09-04T09:32:43Z</dcterms:modified>
  <cp:revision>131</cp:revision>
  <dc:subject/>
  <dc:title>Reaganomics</dc:title>
</cp:coreProperties>
</file>