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3F7A-1559-440B-8C62-0C3252DEC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AB9AF-95D3-4935-8437-43E8A0635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4331B-AB89-4D01-9545-BF4EF0D04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B8BC3-DAE1-4302-B5ED-59A64FDB3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A19B5-0124-48F7-B48C-90E6DF04C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B7525-F211-4274-9741-38F7ED0D4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2F134-E4DA-473D-9D30-72DBF6C71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0F26A-D3F9-4F26-BB0E-EABB82E95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77A03-B6BC-4F04-BB34-92F7503B4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2EF28-9D02-4002-BCB8-AF7AEAAE9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49CA0-38F1-4549-AC47-03C8ED97C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CB287-EE9D-46D0-B356-08A807C41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161AD-33A2-4484-A38A-59DBFD324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12D1-9A73-4D91-A1DB-D905FC49D199}"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Windfall profits tax  in August 1981, helping end the 1979 energy crisis</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Windfall profits tax in 1988 during 1980s oil glut</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ax Reform Act of 1986, Reagan and Congress sought to broaden the tax base and reduce perceived tax favoritism</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2000"/>
          </a:bodyPr>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Gross Domestic Product (GDP) growth recovered strongly after the 1982 recession  at annual rate of 3.4% per year slightly lower than post-World War II average of 3.6%</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7000"/>
          </a:bodyPr>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Trickle-down economic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Cold War related defense spending caused large budget defici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Savings and Loan crisi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United States borrowed heavily both domestically and abroad raising national debt $700 billion to $3 trillion</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8440" indent="-29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RomaK</cp:lastModifiedBy>
  <dcterms:modified xsi:type="dcterms:W3CDTF">2015-09-04T09:32:43Z</dcterms:modified>
  <cp:revision>131</cp:revision>
  <dc:subject/>
  <dc:title>Reaganomics</dc:title>
</cp:coreProperties>
</file>