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6D1B-BF63-47C2-B7F6-AB05615E4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261E1-4E22-4386-B175-B0A64C51F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9264A-D8E8-4F8F-947E-0CB2EF43C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3F9D4-EC34-40E9-9BD9-CF90188B5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BA21D-37EC-4761-AC5C-AFC897E13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655C4-5A38-4B2F-A814-FCCFB317E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CA264-C9EA-4F99-B5D9-0296508F1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B240C-8EB3-41F4-BA4F-A5617D828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D2649-FF60-4D28-9F5E-2FBC1C518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5F515-4CDC-414B-A756-ED9BBA19F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46A3C-5CA0-4CF4-A46A-74A41A45A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97C04-9FDB-4A0D-8522-4F428D143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F1C82-A506-4C61-A96C-A8A869982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C4FA-C259-471E-B635-053218019409}"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Windfall profits tax  in August 1981, helping end the 1979 energy crisis</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Windfall profits tax in 1988 during 1980s oil glut</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ax Reform Act of 1986, Reagan and Congress sought to broaden the tax base and reduce perceived tax favoritism</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2000"/>
          </a:bodyPr>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Gross Domestic Product (GDP) growth recovered strongly after the 1982 recession  at annual rate of 3.4% per year slightly lower than post-World War II average of 3.6%</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7000"/>
          </a:bodyPr>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Trickle-down economic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Cold War related defense spending caused large budget defici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Savings and Loan crisi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United States borrowed heavily both domestically and abroad raising national debt $700 billion to $3 trillion</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8440" indent="-29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RomaK</cp:lastModifiedBy>
  <dcterms:modified xsi:type="dcterms:W3CDTF">2015-09-04T09:32:43Z</dcterms:modified>
  <cp:revision>131</cp:revision>
  <dc:subject/>
  <dc:title>Reaganomics</dc:title>
</cp:coreProperties>
</file>