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D9F5-D405-42E1-B8FB-C082EC53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E66-30ED-4040-933C-09C53D56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015-2EC8-40DB-9247-9E8E3E53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B30-2BCA-4482-B48F-806AD1D7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07D-0DF2-440D-9FCD-9402F09D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742-C617-499B-AA97-20B771DB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B4F-B4D8-437C-81C9-81B6E1FE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B46-CDAA-4A88-9847-FAD87000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432-0531-4C36-BF01-4CC0228C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00C-8D5C-4683-8E26-8B071FE7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B24-A92D-4E27-80EF-B34B8E35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4C6-5DBC-4D07-8324-F7319878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4B9-5DE1-40A8-9AD1-E7491EB9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9F9F-2736-418C-AF42-E09202DE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2" r="13540" b="6679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RomaK</cp:lastModifiedBy>
  <dcterms:modified xsi:type="dcterms:W3CDTF">2015-09-04T09:33:12Z</dcterms:modified>
  <cp:revision>43</cp:revision>
  <dc:subject/>
  <dc:title>Corporate Creativity</dc:title>
</cp:coreProperties>
</file>