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8632-1E9A-4F5B-B952-289CF2BE8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855-3398-4BE3-BEBB-B73A343A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B6B-5027-44E9-9C74-82970734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951-7EA1-45BD-AA52-4CCDBD92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88F-7548-4D15-8AE9-1C730017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316-C321-46E7-84CE-2115B698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53E-7A61-4984-A32E-3DA63F0E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4A1-8498-453E-82AB-073FF65F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6D9-B46D-4741-AC81-49B11912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02B-D536-48A7-9D86-BD5A1F22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0FE-DB05-4F06-A98E-447ED4ED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BB4-317A-48FE-A3DB-75665296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522-08AF-4561-8CB6-7445D99C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CF7C-C7C3-4177-AC25-BC156A7C3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2" r="13540" b="6679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RomaK</cp:lastModifiedBy>
  <dcterms:modified xsi:type="dcterms:W3CDTF">2015-09-04T09:33:12Z</dcterms:modified>
  <cp:revision>43</cp:revision>
  <dc:subject/>
  <dc:title>Corporate Creativity</dc:title>
</cp:coreProperties>
</file>