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DDF7-9EB8-4647-8E14-01FD0F9A7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C83-99BF-4622-999C-8D48B998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343-DCFD-428D-AC89-16F21B9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720-E2A0-469A-B1A3-93754483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37C-B47F-4488-BD78-DC3B7388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77E-822F-4370-991C-452D62EB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292-21CB-4F59-BA28-32CF9383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204-F778-4EA1-ACC6-EFC0D4AF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55B-7E71-48E4-AF63-AB7210E3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4EB-3FBB-4AB7-ACAF-57EDED9C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E84-BB8F-484F-B139-E96C54F2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BB0-9288-4EDF-ABB2-74B8B806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7EF-6D1E-4F50-8353-0BCC7630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2EB-12DD-43B7-8FC6-0C76178E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2" r="13540" b="6679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RomaK</cp:lastModifiedBy>
  <dcterms:modified xsi:type="dcterms:W3CDTF">2015-09-04T09:33:12Z</dcterms:modified>
  <cp:revision>43</cp:revision>
  <dc:subject/>
  <dc:title>Corporate Creativity</dc:title>
</cp:coreProperties>
</file>