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29.png" ContentType="image/png"/>
  <Override PartName="/ppt/media/image3.wmf" ContentType="image/x-wmf"/>
  <Override PartName="/ppt/media/image15.jpeg" ContentType="image/jpeg"/>
  <Override PartName="/ppt/media/image2.png" ContentType="image/png"/>
  <Override PartName="/ppt/media/image25.png" ContentType="image/png"/>
  <Override PartName="/ppt/media/image28.wmf" ContentType="image/x-wmf"/>
  <Override PartName="/ppt/media/image17.png" ContentType="image/png"/>
  <Override PartName="/ppt/media/image27.png" ContentType="image/png"/>
  <Override PartName="/ppt/media/image26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1.jpeg" ContentType="image/jpeg"/>
  <Override PartName="/ppt/media/image4.wmf" ContentType="image/x-wmf"/>
  <Override PartName="/ppt/media/image21.png" ContentType="image/png"/>
  <Override PartName="/ppt/media/image19.png" ContentType="image/png"/>
  <Override PartName="/ppt/media/image16.jpeg" ContentType="image/jpeg"/>
  <Override PartName="/ppt/media/image1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5B027-2B81-4990-AA5D-3DF73ADD335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13 Origin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ploring the who, when, where, and why behind the 13 original colonies of early Americ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13 Origin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oring the who, when, where, and why behind the 13 original colonies of early Americ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lony #4: Rhode Isla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1636, Rhode Island became a colony after Roger Williams, a clergyman, obtained a charter from England to form the colon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spoke out against the Puritans strictness and went to this area to settle and provide religious choi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hode Island also had freedom of relig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w England Colon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oger William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nister, author”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ony #4: Rhode Is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1636, Rhode Island became a colony after Roger Williams, a clergyman, obtained a charter from England to form the colon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spoke out against the Puritans strictness and went to this area to settle and provide religious choi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hode Island also had freedom of relig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 England Colo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ger William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nister, author”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lony #5: Connecticu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so founded in 1636 by a clergyman by then name of Thomas Hook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led a group of people from Rhode Island to start their own colony and they had freedom of relig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w England Colon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map of the Connecticut, New Haven, and Saybrook coloni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ony #5: Connectic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 founded in 1636 by a clergyman by then name of Thomas Hook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led a group of people from Rhode Island to start their own colony and they had freedom of relig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 England Colo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map of the Connecticut, New Haven, and Saybrook colon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lony #6: North Caroli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unded in 1663 by English nobl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arter granted by Charles II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arleston: main city was named after Charles II. Became very important port cit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d politics forced a split of the colony into North and Sout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thern Colon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ing Charles I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ony #6: North Caroli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nded in 1663 by English nob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ter granted by Charles I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leston: main city was named after Charles II. Became very important port c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d politics forced a split of the colony into North and Sou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thern Colo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ng Charles 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lony #7: South Caroli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1729 South Carolina received its name after a political dispute and became a colon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d large plantations for growing crops and raising livestoc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thern Colon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ony #7: South Caroli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1729 South Carolina received its name after a political dispute and became a colon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d large plantations for growing crops and raising livesto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thern Colo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lony #8: New Yor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rted as New Netherland, a Dutch colony in 16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ames Duke of York was given it from Charles II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nglish took over in 1664 and renamed it New Yor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ddle Colony (Breadbasket Colon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ames, Duke of Yor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ony #8: New Y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d as New Netherland, a Dutch colony in 16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ames Duke of York was given it from Charles I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nglish took over in 1664 and renamed it New Yor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ddle Colony (Breadbasket Colon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ames, Duke of Y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lony #9: New Hampshi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d to the king of England in 1679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oyal colony: king chooses governor and no elected governm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w England Colon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ony #9: New Hampshi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d to the king of England in 1679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yal colony: king chooses governor and no elected govern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 England Colo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lony #10: Pennsylvan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1681, William Penn was granted a charter for land between Maryland and New Yor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ing Charles was in debt to Penn’s fath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nn was a Quaker and he gave the people two rights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Freedom of Relig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Right to elect public officia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ddle Colony (Breadbasket Colon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ony #10: Pennsylv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1681, William Penn was granted a charter for land between Maryland and New Yor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ng Charles was in debt to Penn’s fat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nn was a Quaker and he gave the people two right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Freedom of Relig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Right to elect public offici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ddle Colony (Breadbasket Colo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lony #11: Delawa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1682, the Duke of York granted William Penn this lan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became a colony in 1704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ddle Colony (Breadbasket Colon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ony #11: Delaw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1682, the Duke of York granted William Penn this la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became a colony in 170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ddle Colony (Breadbasket Colon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lony #12: New Jerse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uke of York split this land in half for two friends. (East Jersey &amp; West Jerse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overnment quarrels caused them to be combined in 170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ddle Colony (Breadbasket Colon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p of New Netherland (17th century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ony #12: New Jers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uke of York split this land in half for two friends. (East Jersey &amp; West Jerse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vernment quarrels caused them to be combined in 170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ddle Colony (Breadbasket Colon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p of New Netherland (17th century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lony #13: Georg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became a colony in 173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ames Oglethorpe was granted a charter to start Georgia for the poor and unfortunate who leave pris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was known as a buffer zone between the Spanish and the English coloni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thern Colon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ony #13: Georg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became a colony in 173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ames Oglethorpe was granted a charter to start Georgia for the poor and unfortunate who leave pris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as known as a buffer zone between the Spanish and the English colon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thern Colo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structional Objectiv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LW: Identify the 13 original English colonies, when they were founded, who established them, and wh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LW: Complete map activity related to establishment of 13 coloni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.P.I. 8.5.6: Classify characteristics of major historic events: coloniza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.P.I. 8.5.7: Recognize the historical impacts of European settlements in North Americ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tructional Obj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LW: Identify the 13 original English colonies, when they were founded, who established them, and wh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LW: Complete map activity related to establishment of 13 colon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.P.I. 8.5.6: Classify characteristics of major historic events: coloniz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.P.I. 8.5.7: Recognize the historical impacts of European settlements in North Americ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13 Originals (Conclusion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o you think you would have handled trying to start a new colon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was the big thing most people wanted when these new colonies were starte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were the New England Colonie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were the Middle or Breadbasket Colonie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were the Southern Colonie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13 Originals (Conclus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you think you would have handled trying to start a new colon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was the big thing most people wanted when these new colonies were start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were the New England Coloni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were the Middle or Breadbasket Coloni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were the Southern Coloni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eat Job!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at Job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’s it to you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would it be like to start a new tow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kind of obstacles would you fac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uld you have enough support (money and friends) to do i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there something you have ever tried to start in your life that might be like thi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may have been some of the questions the early settlers asked themselves when they start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o you think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’s it to you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would it be like to start a new tow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kind of obstacles would you fac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uld you have enough support (money and friends) to do i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re something you have ever tried to start in your life that might be like thi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may have been some of the questions the early settlers asked themselves when they star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you think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t’s get Start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get Star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lony # 1: Virgin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unded in 1607 (Jamestown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ptain John Smith is given credit for starting this colon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ny people at this time wanted to leave their homeland in order to have more freedoms and to not be under the strict rule of the kings of Englan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thern Colon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ony # 1: Virgi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nded in 1607 (Jamestow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ptain John Smith is given credit for starting this colon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people at this time wanted to leave their homeland in order to have more freedoms and to not be under the strict rule of the kings of Engla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thern Colo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lony # 1: Virgin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p of Virginia published by John Smith (1612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Jamestown Settlement, replicas of Christopher Newport's 3 ships are docked in the harbor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ocahontas statue was erected in Jamestown, Virginia in 192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ony # 1: Virgi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p of Virginia published by John Smith (1612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Jamestown Settlement, replicas of Christopher Newport's 3 ships are docked in the harbo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ocahontas statue was erected in Jamestown, Virginia in 192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lony # 2: Massachuset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unded in 1620 by the Pilgrim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ymouth was the original name of the settlem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ohn Carver was the leader of the Pilgrims and author of the Mayflower Compac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ritans then came and settled Boston (Mass. Bay Colon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ohn Winthrop was the governor of this settlem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w England Colon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ymouth Plantation, with Cape Cod Bay visible in the distanc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yflower in Plymouth Harbor by William Halsall (1882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ony # 2: Massachuset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nded in 1620 by the Pilgri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ymouth was the original name of the settle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Carver was the leader of the Pilgrims and author of the Mayflower Compa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ritans then came and settled Boston (Mass. Bay Colon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Winthrop was the governor of this settle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 England Colo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ymouth Plantation, with Cape Cod Bay visible in the distan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flower in Plymouth Harbor by William Halsall (1882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lony # 2: Massachuset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irst Thanksgiv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ony # 2: Massachuset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rst Thanksgiv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lony # 3: Maryla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unded in 1634 by George Calvert who started a charter but didn’t live to see it come true. He believed all people should have religious freedo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ing Charles I was king and didn’t agree with the religious freedo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1649, the Toleration Act was passed that guaranteed equality of rights for everyone for relig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thern Colon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orge Calvert, Lord Baltimor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ony # 3: Mary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nded in 1634 by George Calvert who started a charter but didn’t live to see it come true. He believed all people should have religious freedo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ng Charles I was king and didn’t agree with the religious freedo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1649, the Toleration Act was passed that guaranteed equality of rights for everyone for relig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thern Colo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orge Calvert, Lord Baltimor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5A435-EEAA-4E1D-B5B2-28289B596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15887-1E48-48A7-B586-A965A76B9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D6A26-BBA5-435E-9B71-3CE6AADE1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45AA0-1250-4ACE-9B6A-220DE03F8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66658-5E7F-4405-9241-319AD1738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E79C3-918D-4BBE-B993-DB16820A5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DC967-EEEA-4CB4-BF1C-BF470B1E8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B5EE8-BF5D-4644-BEE6-8DE58BEEE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A801E-3464-4CCD-AB56-50CD28A22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6E46A-7E1D-4030-8340-1A7070D79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1772C-43CA-4DE5-9E99-21FAE3E55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4BADA-5FDB-47BC-97EB-07D4B6841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352BC-6B1B-48BA-A972-E0357C134E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mage:CaptJohnSmith.jpg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mage:Virginia_map_john_smith_large.jpg" TargetMode="External"/><Relationship Id="rId2" Type="http://schemas.openxmlformats.org/officeDocument/2006/relationships/image" Target="../media/image8.jpeg"/><Relationship Id="rId3" Type="http://schemas.openxmlformats.org/officeDocument/2006/relationships/hyperlink" Target="http://en.wikipedia.org/wiki/Image:Jamestown-Virginia-settlement-ships-NOAA.jpg" TargetMode="External"/><Relationship Id="rId4" Type="http://schemas.openxmlformats.org/officeDocument/2006/relationships/image" Target="../media/image9.jpeg"/><Relationship Id="rId5" Type="http://schemas.openxmlformats.org/officeDocument/2006/relationships/hyperlink" Target="http://en.wikipedia.org/wiki/Jamestown_Settlement" TargetMode="External"/><Relationship Id="rId6" Type="http://schemas.openxmlformats.org/officeDocument/2006/relationships/hyperlink" Target="http://en.wikipedia.org/wiki/Christopher_Newport" TargetMode="External"/><Relationship Id="rId7" Type="http://schemas.openxmlformats.org/officeDocument/2006/relationships/hyperlink" Target="http://en.wikipedia.org/wiki/Image:Pocahontas_at_jamestown.jpg" TargetMode="External"/><Relationship Id="rId8" Type="http://schemas.openxmlformats.org/officeDocument/2006/relationships/image" Target="../media/image10.jpeg"/><Relationship Id="rId9" Type="http://schemas.openxmlformats.org/officeDocument/2006/relationships/hyperlink" Target="http://en.wikipedia.org/wiki/Jamestown%2C_Virginia" TargetMode="External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mage:Plimoth_Plantation.JPG" TargetMode="External"/><Relationship Id="rId2" Type="http://schemas.openxmlformats.org/officeDocument/2006/relationships/image" Target="../media/image11.jpeg"/><Relationship Id="rId3" Type="http://schemas.openxmlformats.org/officeDocument/2006/relationships/hyperlink" Target="http://en.wikipedia.org/wiki/Plimoth_Plantation" TargetMode="External"/><Relationship Id="rId4" Type="http://schemas.openxmlformats.org/officeDocument/2006/relationships/hyperlink" Target="http://en.wikipedia.org/wiki/Cape_Cod_Bay" TargetMode="External"/><Relationship Id="rId5" Type="http://schemas.openxmlformats.org/officeDocument/2006/relationships/hyperlink" Target="http://en.wikipedia.org/wiki/Image:MayflowerHarbor.jpg" TargetMode="External"/><Relationship Id="rId6" Type="http://schemas.openxmlformats.org/officeDocument/2006/relationships/image" Target="../media/image12.jpeg"/><Relationship Id="rId7" Type="http://schemas.openxmlformats.org/officeDocument/2006/relationships/hyperlink" Target="http://en.wikipedia.org/w/index.php?title=William_Halsall&amp;action=edit" TargetMode="External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838080"/>
            <a:ext cx="8305920" cy="1470240"/>
          </a:xfrm>
          <a:prstGeom prst="rect">
            <a:avLst/>
          </a:prstGeom>
          <a:solidFill>
            <a:srgbClr val="c0c0c0">
              <a:alpha val="7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000000"/>
                </a:solidFill>
                <a:latin typeface="Monotype Corsiva"/>
              </a:rPr>
              <a:t>The 13 Originals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4648320"/>
            <a:ext cx="6400800" cy="1752480"/>
          </a:xfrm>
          <a:prstGeom prst="rect">
            <a:avLst/>
          </a:prstGeom>
          <a:solidFill>
            <a:srgbClr val="c0c0c0">
              <a:alpha val="60000"/>
            </a:srgbClr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onotype Corsiva"/>
              </a:rPr>
              <a:t>Exploring the who, when, where, and why behind the 13 original colonies of early Americ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2300"/>
                            </p:stCondLst>
                            <p:childTnLst>
                              <p:par>
                                <p:cTn id="1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3300"/>
                            </p:stCondLst>
                            <p:childTnLst>
                              <p:par>
                                <p:cTn id="1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Monotype Corsiva"/>
              </a:rPr>
              <a:t>Colony #4: Rhode Island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163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Rhode Island became a colony after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Roger William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 clergyman, obtained a charter from England to form the colo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 spoke out against the Puritans strictness and went to this area to settle and provide religious choi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hode Island also ha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freedom of relig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New England Colo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7" descr="225px-Franklin_Simmons_Statue"/>
          <p:cNvPicPr/>
          <p:nvPr/>
        </p:nvPicPr>
        <p:blipFill>
          <a:blip r:embed="rId1"/>
          <a:stretch/>
        </p:blipFill>
        <p:spPr>
          <a:xfrm>
            <a:off x="5595840" y="1523880"/>
            <a:ext cx="2826000" cy="3767400"/>
          </a:xfrm>
          <a:prstGeom prst="rect">
            <a:avLst/>
          </a:prstGeom>
          <a:ln w="0">
            <a:noFill/>
          </a:ln>
        </p:spPr>
      </p:pic>
      <p:sp>
        <p:nvSpPr>
          <p:cNvPr id="88" name="Text Box 8"/>
          <p:cNvSpPr/>
          <p:nvPr/>
        </p:nvSpPr>
        <p:spPr>
          <a:xfrm>
            <a:off x="5410080" y="5410080"/>
            <a:ext cx="35053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William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nister, author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nodeType="afterEffect" fill="hold">
                            <p:stCondLst>
                              <p:cond delay="1950"/>
                            </p:stCondLst>
                            <p:childTnLst>
                              <p:par>
                                <p:cTn id="32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1" dur="8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2" dur="8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3" dur="8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8" dur="8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9" dur="8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0" dur="8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5" dur="8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6" dur="8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7" dur="8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2" dur="8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4" dur="8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Monotype Corsiva"/>
              </a:rPr>
              <a:t>Colony #5: Connecticu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founded in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636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y a clergyman by then name of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Thomas Hook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 led a group of people from Rhode Island to start their own colony and they had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freedom of relig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New England Colo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7" descr="A map of the Connecticut, New Haven, and Saybrook colonies."/>
          <p:cNvPicPr/>
          <p:nvPr/>
        </p:nvPicPr>
        <p:blipFill>
          <a:blip r:embed="rId1"/>
          <a:stretch/>
        </p:blipFill>
        <p:spPr>
          <a:xfrm>
            <a:off x="4648320" y="1676520"/>
            <a:ext cx="4190760" cy="3563640"/>
          </a:xfrm>
          <a:prstGeom prst="rect">
            <a:avLst/>
          </a:prstGeom>
          <a:ln w="0">
            <a:noFill/>
          </a:ln>
        </p:spPr>
      </p:pic>
      <p:sp>
        <p:nvSpPr>
          <p:cNvPr id="92" name="Text Box 8"/>
          <p:cNvSpPr/>
          <p:nvPr/>
        </p:nvSpPr>
        <p:spPr>
          <a:xfrm>
            <a:off x="4800600" y="53341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map of the Connecticut, New Haven, and Saybrook coloni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nodeType="afterEffect" fill="hold">
                            <p:stCondLst>
                              <p:cond delay="2900"/>
                            </p:stCondLst>
                            <p:childTnLst>
                              <p:par>
                                <p:cTn id="37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77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78" dur="770" fill="hold"/>
                                        <p:tgtEl>
                                          <p:spTgt spid="9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80" dur="77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8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82" dur="77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8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77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87" dur="770" fill="hold"/>
                                        <p:tgtEl>
                                          <p:spTgt spid="9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89" dur="77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91" dur="77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9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1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0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9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Monotype Corsiva"/>
              </a:rPr>
              <a:t>Colony #6: North Carolin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581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nded in 1663 by English no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ter granted by Charles I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leston: main city was named after Charles II. Became very important port c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d politics forced a split of the colony into North and Sou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outhern Colo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" descr=""/>
          <p:cNvPicPr/>
          <p:nvPr/>
        </p:nvPicPr>
        <p:blipFill>
          <a:blip r:embed="rId1"/>
          <a:stretch/>
        </p:blipFill>
        <p:spPr>
          <a:xfrm>
            <a:off x="4267080" y="1219320"/>
            <a:ext cx="2451240" cy="25668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6" descr=""/>
          <p:cNvPicPr/>
          <p:nvPr/>
        </p:nvPicPr>
        <p:blipFill>
          <a:blip r:embed="rId2"/>
          <a:stretch/>
        </p:blipFill>
        <p:spPr>
          <a:xfrm>
            <a:off x="6781680" y="3429000"/>
            <a:ext cx="2028960" cy="3124080"/>
          </a:xfrm>
          <a:prstGeom prst="rect">
            <a:avLst/>
          </a:prstGeom>
          <a:ln w="0">
            <a:noFill/>
          </a:ln>
        </p:spPr>
      </p:pic>
      <p:sp>
        <p:nvSpPr>
          <p:cNvPr id="97" name="Text Box 8"/>
          <p:cNvSpPr/>
          <p:nvPr/>
        </p:nvSpPr>
        <p:spPr>
          <a:xfrm>
            <a:off x="7010280" y="297180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ing Charles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50" dur="1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57" dur="1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64" dur="1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71" dur="10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78" dur="10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6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2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Monotype Corsiva"/>
              </a:rPr>
              <a:t>Colony #7: South Carolin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6" descr=""/>
          <p:cNvPicPr/>
          <p:nvPr/>
        </p:nvPicPr>
        <p:blipFill>
          <a:blip r:embed="rId1"/>
          <a:stretch/>
        </p:blipFill>
        <p:spPr>
          <a:xfrm>
            <a:off x="457200" y="2133720"/>
            <a:ext cx="4038480" cy="297180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729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outh Carolina received its name after a political dispute and became a colon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d large plantations for growing crops and raising livestoc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outhern Colo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1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03" nodeType="after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1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1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Monotype Corsiva"/>
              </a:rPr>
              <a:t>Colony #8: New York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4" descr=""/>
          <p:cNvPicPr/>
          <p:nvPr/>
        </p:nvPicPr>
        <p:blipFill>
          <a:blip r:embed="rId1"/>
          <a:stretch/>
        </p:blipFill>
        <p:spPr>
          <a:xfrm>
            <a:off x="685800" y="1676520"/>
            <a:ext cx="3276720" cy="419076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rted as New Netherland, a Dutch colony in 16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James Duke of Yor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as given it from Charles I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nglish took over in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166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renamed it New Yor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Middle Colony (Breadbasket Colon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762120" y="5943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, Duke of Y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37" nodeType="afterEffect" fill="hold" presetClass="entr" presetID="3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2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8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3" dur="2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8" dur="2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3" dur="2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20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Monotype Corsiva"/>
              </a:rPr>
              <a:t>Colony #9: New Hampshir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d to the king of England in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679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yal colony: king chooses governor and no elected govern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New England Colo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5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5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77" nodeType="afterEffect" fill="hold" presetClass="entr" presetID="4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nodeType="clickEffect" fill="hold">
                      <p:stCondLst>
                        <p:cond delay="indefinite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9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9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9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9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0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nodeType="clickEffect" fill="hold">
                      <p:stCondLst>
                        <p:cond delay="indefinite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1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1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1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1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1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nodeType="clickEffect" fill="hold">
                      <p:stCondLst>
                        <p:cond delay="indefinite"/>
                      </p:stCondLst>
                      <p:childTnLst>
                        <p:par>
                          <p:cTn id="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3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3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3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3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3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Monotype Corsiva"/>
              </a:rPr>
              <a:t>Colony #10: Pennsylvani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647960" y="1600200"/>
            <a:ext cx="4267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168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William Pen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as granted a charter for land between Maryland and New Yor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ing Charles was in debt to Penn’s fa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nn was a Quaker and he gave the people two right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Freedom of Relig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Right to elect public officia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Middle Colony (Breadbasket Colo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8" dur="indefinite" restart="never" nodeType="tmRoot">
          <p:childTnLst>
            <p:seq>
              <p:cTn id="639" dur="indefinite" nodeType="mainSeq">
                <p:childTnLst>
                  <p:par>
                    <p:cTn id="640" nodeType="clickEffect" fill="hold">
                      <p:stCondLst>
                        <p:cond delay="indefinite"/>
                      </p:stCondLst>
                      <p:childTnLst>
                        <p:par>
                          <p:cTn id="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4" dur="77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45" dur="770" fill="hold"/>
                                        <p:tgtEl>
                                          <p:spTgt spid="10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47" dur="77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9" dur="77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nodeType="clickEffect" fill="hold">
                      <p:stCondLst>
                        <p:cond delay="indefinite"/>
                      </p:stCondLst>
                      <p:childTnLst>
                        <p:par>
                          <p:cTn id="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2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6" dur="2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2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2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nodeType="clickEffect" fill="hold">
                      <p:stCondLst>
                        <p:cond delay="indefinite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3" dur="20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4" dur="2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2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2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1" dur="20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2" dur="2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2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2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9" dur="20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0" dur="2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2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2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nodeType="clickEffect" fill="hold">
                      <p:stCondLst>
                        <p:cond delay="indefinite"/>
                      </p:stCondLst>
                      <p:childTnLst>
                        <p:par>
                          <p:cTn id="6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20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8" dur="2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2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2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nodeType="clickEffect" fill="hold">
                      <p:stCondLst>
                        <p:cond delay="indefinite"/>
                      </p:stCondLst>
                      <p:childTnLst>
                        <p:par>
                          <p:cTn id="6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5" dur="20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6" dur="20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20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20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9" nodeType="withEffect" fill="hold" presetClass="entr" presetID="5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1" dur="77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02" dur="770" fill="hold"/>
                                        <p:tgtEl>
                                          <p:spTgt spid="10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0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04" dur="77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0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06" dur="77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Monotype Corsiva"/>
              </a:rPr>
              <a:t>Colony #11: Delawar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1682, the Duke of York granted William Penn this l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became a colony in 1704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iddle Colony (Breadbasket Colon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5" descr=""/>
          <p:cNvPicPr/>
          <p:nvPr/>
        </p:nvPicPr>
        <p:blipFill>
          <a:blip r:embed="rId1"/>
          <a:stretch/>
        </p:blipFill>
        <p:spPr>
          <a:xfrm>
            <a:off x="5257800" y="1752480"/>
            <a:ext cx="28558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8" dur="indefinite" restart="never" nodeType="tmRoot">
          <p:childTnLst>
            <p:seq>
              <p:cTn id="709" dur="indefinite" nodeType="mainSeq">
                <p:childTnLst>
                  <p:par>
                    <p:cTn id="710" nodeType="clickEffect" fill="hold">
                      <p:stCondLst>
                        <p:cond delay="indefinite"/>
                      </p:stCondLst>
                      <p:childTnLst>
                        <p:par>
                          <p:cTn id="7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7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8" nodeType="afterEffect" fill="hold">
                            <p:stCondLst>
                              <p:cond delay="1850"/>
                            </p:stCondLst>
                            <p:childTnLst>
                              <p:par>
                                <p:cTn id="719" nodeType="afterEffect" fill="hold" presetClass="entr" presetID="5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2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2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nodeType="clickEffect" fill="hold">
                      <p:stCondLst>
                        <p:cond delay="indefinite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9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nodeType="clickEffect" fill="hold">
                      <p:stCondLst>
                        <p:cond delay="indefinite"/>
                      </p:stCondLst>
                      <p:childTnLst>
                        <p:par>
                          <p:cTn id="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7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nodeType="clickEffect" fill="hold">
                      <p:stCondLst>
                        <p:cond delay="indefinite"/>
                      </p:stCondLst>
                      <p:childTnLst>
                        <p:par>
                          <p:cTn id="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5" dur="1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1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1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1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Monotype Corsiva"/>
              </a:rPr>
              <a:t>Colony #12: New Jersey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4" descr=""/>
          <p:cNvPicPr/>
          <p:nvPr/>
        </p:nvPicPr>
        <p:blipFill>
          <a:blip r:embed="rId1"/>
          <a:stretch/>
        </p:blipFill>
        <p:spPr>
          <a:xfrm>
            <a:off x="380880" y="2133720"/>
            <a:ext cx="4038840" cy="297180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647960" y="160020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Duke of Yor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plit this land in half for two friends. (East Jersey &amp; West Jerse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vernment quarrels caused them to be combined in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70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iddle Colony (Breadbasket Colon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762120" y="5181480"/>
            <a:ext cx="33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p of New Netherland (17th century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9" dur="indefinite" restart="never" nodeType="tmRoot">
          <p:childTnLst>
            <p:seq>
              <p:cTn id="750" dur="indefinite" nodeType="mainSeq">
                <p:childTnLst>
                  <p:par>
                    <p:cTn id="751" nodeType="clickEffect" fill="hold">
                      <p:stCondLst>
                        <p:cond delay="indefinite"/>
                      </p:stCondLst>
                      <p:childTnLst>
                        <p:par>
                          <p:cTn id="7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5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3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7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nodeType="clickEffect" fill="hold">
                      <p:stCondLst>
                        <p:cond delay="indefinite"/>
                      </p:stCondLst>
                      <p:childTnLst>
                        <p:par>
                          <p:cTn id="7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2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6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nodeType="clickEffect" fill="hold">
                      <p:stCondLst>
                        <p:cond delay="indefinite"/>
                      </p:stCondLst>
                      <p:childTnLst>
                        <p:par>
                          <p:cTn id="7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1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5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Monotype Corsiva"/>
              </a:rPr>
              <a:t>Colony #13: Georgi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became a colony in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173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James Oglethorp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as granted a charter to start Georgia for the poor and unfortunate who leave pris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was known as a buffer zone between the Spanish and the English colon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outhern Colo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5" descr=""/>
          <p:cNvPicPr/>
          <p:nvPr/>
        </p:nvPicPr>
        <p:blipFill>
          <a:blip r:embed="rId1"/>
          <a:stretch/>
        </p:blipFill>
        <p:spPr>
          <a:xfrm>
            <a:off x="4876920" y="1676520"/>
            <a:ext cx="374004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6" dur="indefinite" restart="never" nodeType="tmRoot">
          <p:childTnLst>
            <p:seq>
              <p:cTn id="787" dur="indefinite" nodeType="mainSeq">
                <p:childTnLst>
                  <p:par>
                    <p:cTn id="788" nodeType="clickEffect" fill="hold">
                      <p:stCondLst>
                        <p:cond delay="indefinite"/>
                      </p:stCondLst>
                      <p:childTnLst>
                        <p:par>
                          <p:cTn id="7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2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94" nodeType="afterEffect" fill="hold" presetClass="entr" presetID="3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6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9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nodeType="clickEffect" fill="hold">
                      <p:stCondLst>
                        <p:cond delay="indefinite"/>
                      </p:stCondLst>
                      <p:childTnLst>
                        <p:par>
                          <p:cTn id="8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4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nodeType="clickEffect" fill="hold">
                      <p:stCondLst>
                        <p:cond delay="indefinite"/>
                      </p:stCondLst>
                      <p:childTnLst>
                        <p:par>
                          <p:cTn id="8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2" dur="1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1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1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1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nodeType="clickEffect" fill="hold">
                      <p:stCondLst>
                        <p:cond delay="indefinite"/>
                      </p:stCondLst>
                      <p:childTnLst>
                        <p:par>
                          <p:cTn id="8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0" dur="1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1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1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1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nodeType="clickEffect" fill="hold">
                      <p:stCondLst>
                        <p:cond delay="indefinite"/>
                      </p:stCondLst>
                      <p:childTnLst>
                        <p:par>
                          <p:cTn id="8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8" dur="10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10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10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10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52120" y="30456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Monotype Corsiva"/>
              </a:rPr>
              <a:t>Instructional Objectiv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LW: Identify the 13 original English colonies, when they were founded, who established them, and wh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LW: Complete map activity related to establishment of 13 colon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.P.I. 8.5.6: Classify characteristics of major historic events: coloniz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.P.I. 8.5.7: Recognize the historical impacts of European settlements in North Ameri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MCBS01029_0000[1]"/>
          <p:cNvPicPr/>
          <p:nvPr/>
        </p:nvPicPr>
        <p:blipFill>
          <a:blip r:embed="rId1"/>
          <a:stretch/>
        </p:blipFill>
        <p:spPr>
          <a:xfrm>
            <a:off x="228600" y="152280"/>
            <a:ext cx="1789200" cy="19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"/>
          <p:cNvPicPr/>
          <p:nvPr/>
        </p:nvPicPr>
        <p:blipFill>
          <a:blip r:embed="rId1"/>
          <a:stretch/>
        </p:blipFill>
        <p:spPr>
          <a:xfrm>
            <a:off x="1523880" y="228600"/>
            <a:ext cx="609624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Monotype Corsiva"/>
              </a:rPr>
              <a:t>The 13 Originals (Conclusion)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you think you would have handled trying to start a new colon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was the big thing most people wanted when these new colonies were start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were the New England Coloni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were the Middle or Breadbasket Coloni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were the Southern Coloni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2" dur="indefinite" restart="never" nodeType="tmRoot">
          <p:childTnLst>
            <p:seq>
              <p:cTn id="833" dur="indefinite" nodeType="mainSeq">
                <p:childTnLst>
                  <p:par>
                    <p:cTn id="834" nodeType="clickEffect" fill="hold">
                      <p:stCondLst>
                        <p:cond delay="indefinite"/>
                      </p:stCondLst>
                      <p:childTnLst>
                        <p:par>
                          <p:cTn id="8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3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3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nodeType="clickEffect" fill="hold">
                      <p:stCondLst>
                        <p:cond delay="indefinite"/>
                      </p:stCondLst>
                      <p:childTnLst>
                        <p:par>
                          <p:cTn id="8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6" dur="77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47" dur="77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49" dur="77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51" dur="77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nodeType="clickEffect" fill="hold">
                      <p:stCondLst>
                        <p:cond delay="indefinite"/>
                      </p:stCondLst>
                      <p:childTnLst>
                        <p:par>
                          <p:cTn id="8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7" dur="77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58" dur="77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60" dur="77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62" dur="77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nodeType="clickEffect" fill="hold">
                      <p:stCondLst>
                        <p:cond delay="indefinite"/>
                      </p:stCondLst>
                      <p:childTnLst>
                        <p:par>
                          <p:cTn id="8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8" dur="77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69" dur="77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7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71" dur="77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7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73" dur="77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7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nodeType="clickEffect" fill="hold">
                      <p:stCondLst>
                        <p:cond delay="indefinite"/>
                      </p:stCondLst>
                      <p:childTnLst>
                        <p:par>
                          <p:cTn id="8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9" dur="77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80" dur="77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8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82" dur="77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8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84" dur="77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8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nodeType="clickEffect" fill="hold">
                      <p:stCondLst>
                        <p:cond delay="indefinite"/>
                      </p:stCondLst>
                      <p:childTnLst>
                        <p:par>
                          <p:cTn id="8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0" dur="77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91" dur="77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9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93" dur="77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9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95" dur="77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9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Monotype Corsiva"/>
              </a:rPr>
              <a:t>Great Job!!!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7" descr="MCj04280650000[1]"/>
          <p:cNvPicPr/>
          <p:nvPr/>
        </p:nvPicPr>
        <p:blipFill>
          <a:blip r:embed="rId1"/>
          <a:stretch/>
        </p:blipFill>
        <p:spPr>
          <a:xfrm>
            <a:off x="1600200" y="2050920"/>
            <a:ext cx="5943600" cy="3622680"/>
          </a:xfrm>
          <a:prstGeom prst="rect">
            <a:avLst/>
          </a:prstGeom>
          <a:ln w="0">
            <a:noFill/>
          </a:ln>
        </p:spPr>
      </p:pic>
      <p:pic>
        <p:nvPicPr>
          <p:cNvPr id="126" name="MSSN2976.wav" descr=""/>
          <p:cNvPicPr/>
          <p:nvPr/>
        </p:nvPicPr>
        <p:blipFill>
          <a:blip r:embed="rId2"/>
          <a:stretch/>
        </p:blipFill>
        <p:spPr>
          <a:xfrm>
            <a:off x="8534520" y="63244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7" dur="indefinite" restart="never" nodeType="tmRoot">
          <p:childTnLst>
            <p:seq>
              <p:cTn id="898" dur="indefinite" nodeType="mainSeq">
                <p:childTnLst>
                  <p:par>
                    <p:cTn id="899" nodeType="clickEffect" fill="hold">
                      <p:stCondLst>
                        <p:cond delay="indefinite"/>
                      </p:stCondLst>
                      <p:childTnLst>
                        <p:par>
                          <p:cTn id="9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3" dur="77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04" dur="770" fill="hold"/>
                                        <p:tgtEl>
                                          <p:spTgt spid="12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0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06" dur="77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08" dur="77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1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4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18" dur="5760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61722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Monotype Corsiva"/>
              </a:rPr>
              <a:t>What’s it to you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6324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askerville Old Face"/>
              </a:rPr>
              <a:t>What would it be like to start a new tow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askerville Old Face"/>
              </a:rPr>
              <a:t>What kind of obstacles would you fac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askerville Old Face"/>
              </a:rPr>
              <a:t>Would you have enough support (money and friends) to do i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askerville Old Face"/>
              </a:rPr>
              <a:t>Is there something you have ever tried to start in your life that might be like thi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askerville Old Face"/>
              </a:rPr>
              <a:t>These may have been some of the questions the early settlers asked themselves when they star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7" descr="MCj04151440000[1]"/>
          <p:cNvPicPr/>
          <p:nvPr/>
        </p:nvPicPr>
        <p:blipFill>
          <a:blip r:embed="rId1"/>
          <a:stretch/>
        </p:blipFill>
        <p:spPr>
          <a:xfrm>
            <a:off x="6477120" y="2133720"/>
            <a:ext cx="2104920" cy="3457440"/>
          </a:xfrm>
          <a:prstGeom prst="rect">
            <a:avLst/>
          </a:prstGeom>
          <a:ln w="0">
            <a:noFill/>
          </a:ln>
        </p:spPr>
      </p:pic>
      <p:sp>
        <p:nvSpPr>
          <p:cNvPr id="56" name="AutoShape 8"/>
          <p:cNvSpPr/>
          <p:nvPr/>
        </p:nvSpPr>
        <p:spPr>
          <a:xfrm>
            <a:off x="6553080" y="228600"/>
            <a:ext cx="2133720" cy="1523880"/>
          </a:xfrm>
          <a:prstGeom prst="cloudCallout">
            <a:avLst>
              <a:gd name="adj1" fmla="val 29689"/>
              <a:gd name="adj2" fmla="val 8843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nap ITC"/>
              </a:rPr>
              <a:t>What do you think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MSj02914.wav" descr=""/>
          <p:cNvPicPr/>
          <p:nvPr/>
        </p:nvPicPr>
        <p:blipFill>
          <a:blip r:embed="rId2"/>
          <a:stretch/>
        </p:blipFill>
        <p:spPr>
          <a:xfrm>
            <a:off x="7315200" y="35053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1650"/>
                            </p:stCondLst>
                            <p:childTnLst>
                              <p:par>
                                <p:cTn id="49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2650"/>
                            </p:stCondLst>
                            <p:childTnLst>
                              <p:par>
                                <p:cTn id="5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3650"/>
                            </p:stCondLst>
                            <p:childTnLst>
                              <p:par>
                                <p:cTn id="6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3" dur="1271" fill="hold"/>
                                        <p:tgtEl>
                                          <p:spTgt spid="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Monotype Corsiva"/>
              </a:rPr>
              <a:t>Let’s get Started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MCj04325520000[1]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209680" y="1676520"/>
            <a:ext cx="4572000" cy="4572000"/>
          </a:xfrm>
          <a:prstGeom prst="rect">
            <a:avLst/>
          </a:prstGeom>
          <a:ln w="0">
            <a:noFill/>
          </a:ln>
        </p:spPr>
      </p:pic>
      <p:pic>
        <p:nvPicPr>
          <p:cNvPr id="60" name="MSj02914.wav" descr=""/>
          <p:cNvPicPr/>
          <p:nvPr/>
        </p:nvPicPr>
        <p:blipFill>
          <a:blip r:embed="rId3"/>
          <a:stretch/>
        </p:blipFill>
        <p:spPr>
          <a:xfrm>
            <a:off x="4419720" y="61722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3" dur="2169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Monotype Corsiva"/>
              </a:rPr>
              <a:t>Colony # 1: Virgini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nded in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1607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Jamestow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Captain John Smi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given credit for starting this colo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people at this time wanted to leave their homeland in order to have more freedoms and to not be under the strict rule of the kings of Engl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outhern Colo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7" descr="Statue at Jamestown VA, photo Aug 200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95880" y="1600200"/>
            <a:ext cx="25765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0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Monotype Corsiva"/>
              </a:rPr>
              <a:t>Colony # 1: Virgini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7" descr="Map of Virginia published by John Smith (1612)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4920" y="4191120"/>
            <a:ext cx="3200400" cy="2463840"/>
          </a:xfrm>
          <a:prstGeom prst="rect">
            <a:avLst/>
          </a:prstGeom>
          <a:ln w="0">
            <a:noFill/>
          </a:ln>
        </p:spPr>
      </p:pic>
      <p:sp>
        <p:nvSpPr>
          <p:cNvPr id="66" name="Text Box 8"/>
          <p:cNvSpPr/>
          <p:nvPr/>
        </p:nvSpPr>
        <p:spPr>
          <a:xfrm>
            <a:off x="3505320" y="6019920"/>
            <a:ext cx="32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p of Virginia published by John Smith (1612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10" descr="At Jamestown Settlement, replicas of Christopher Newport's 3 ships are docked in the harbour.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80880" y="1066680"/>
            <a:ext cx="3333960" cy="2181240"/>
          </a:xfrm>
          <a:prstGeom prst="rect">
            <a:avLst/>
          </a:prstGeom>
          <a:ln w="0">
            <a:noFill/>
          </a:ln>
        </p:spPr>
      </p:pic>
      <p:sp>
        <p:nvSpPr>
          <p:cNvPr id="68" name="Text Box 11"/>
          <p:cNvSpPr/>
          <p:nvPr/>
        </p:nvSpPr>
        <p:spPr>
          <a:xfrm>
            <a:off x="304920" y="3276720"/>
            <a:ext cx="342900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Jamestown Settlemen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replicas of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Christopher Newpor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's 3 ships are docked in the harbor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13" descr="A Pocahontas statue was erected in Jamestown, Virginia in 1922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483240" y="1143000"/>
            <a:ext cx="2376720" cy="4876920"/>
          </a:xfrm>
          <a:prstGeom prst="rect">
            <a:avLst/>
          </a:prstGeom>
          <a:ln w="0">
            <a:noFill/>
          </a:ln>
        </p:spPr>
      </p:pic>
      <p:sp>
        <p:nvSpPr>
          <p:cNvPr id="70" name="Text Box 14"/>
          <p:cNvSpPr/>
          <p:nvPr/>
        </p:nvSpPr>
        <p:spPr>
          <a:xfrm>
            <a:off x="4191120" y="2514600"/>
            <a:ext cx="20574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Pocahontas statue was erected in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Jamestown, Virgini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 192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77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8" dur="770" fill="hold"/>
                                        <p:tgtEl>
                                          <p:spTgt spid="6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0" dur="77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2" dur="77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200" spc="-1" strike="noStrike">
                <a:solidFill>
                  <a:srgbClr val="000000"/>
                </a:solidFill>
                <a:latin typeface="Monotype Corsiva"/>
              </a:rPr>
              <a:t>Colony # 2: Massachusetts</a:t>
            </a: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nded in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162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y the Pilgri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ymouth was the original name of the settle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John Carv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as the leader of the Pilgrims and author of the Mayflower Compac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ritans then came and settled Boston (Mass. Bay Colon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John Winthro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as the governor of this settle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New England Colo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7" descr="Plimoth Plantation, with Cape Cod Bay visible in the distanc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562720" y="1295280"/>
            <a:ext cx="3276360" cy="1984320"/>
          </a:xfrm>
          <a:prstGeom prst="rect">
            <a:avLst/>
          </a:prstGeom>
          <a:ln w="0">
            <a:noFill/>
          </a:ln>
        </p:spPr>
      </p:pic>
      <p:sp>
        <p:nvSpPr>
          <p:cNvPr id="74" name="Text Box 8"/>
          <p:cNvSpPr/>
          <p:nvPr/>
        </p:nvSpPr>
        <p:spPr>
          <a:xfrm>
            <a:off x="5638680" y="3276720"/>
            <a:ext cx="3200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Plymouth Plant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with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Cape Cod Ba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visible in the distan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13" descr="Mayflower in Plymouth Harbor by William Halsall (1882)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486400" y="4419720"/>
            <a:ext cx="3505320" cy="2033640"/>
          </a:xfrm>
          <a:prstGeom prst="rect">
            <a:avLst/>
          </a:prstGeom>
          <a:ln w="0">
            <a:noFill/>
          </a:ln>
        </p:spPr>
      </p:pic>
      <p:sp>
        <p:nvSpPr>
          <p:cNvPr id="76" name="Text Box 14"/>
          <p:cNvSpPr/>
          <p:nvPr/>
        </p:nvSpPr>
        <p:spPr>
          <a:xfrm>
            <a:off x="228600" y="5791320"/>
            <a:ext cx="518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ayflower in Plymouth Harb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y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William Halsal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882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2050"/>
                            </p:stCondLst>
                            <p:childTnLst>
                              <p:par>
                                <p:cTn id="1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200" spc="-1" strike="noStrike">
                <a:solidFill>
                  <a:srgbClr val="000000"/>
                </a:solidFill>
                <a:latin typeface="Monotype Corsiva"/>
              </a:rPr>
              <a:t>Colony # 2: Massachusetts</a:t>
            </a: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8" descr="Image:The First Thanksgiving Jean Louis Gerome Ferris.png"/>
          <p:cNvPicPr/>
          <p:nvPr/>
        </p:nvPicPr>
        <p:blipFill>
          <a:blip r:embed="rId1"/>
          <a:stretch/>
        </p:blipFill>
        <p:spPr>
          <a:xfrm>
            <a:off x="533520" y="1752480"/>
            <a:ext cx="3962160" cy="30276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0" descr="John Winthrop"/>
          <p:cNvPicPr/>
          <p:nvPr/>
        </p:nvPicPr>
        <p:blipFill>
          <a:blip r:embed="rId2"/>
          <a:stretch/>
        </p:blipFill>
        <p:spPr>
          <a:xfrm>
            <a:off x="5105520" y="1752480"/>
            <a:ext cx="3338280" cy="3810240"/>
          </a:xfrm>
          <a:prstGeom prst="rect">
            <a:avLst/>
          </a:prstGeom>
          <a:ln w="0">
            <a:noFill/>
          </a:ln>
        </p:spPr>
      </p:pic>
      <p:sp>
        <p:nvSpPr>
          <p:cNvPr id="80" name="Text Box 11"/>
          <p:cNvSpPr/>
          <p:nvPr/>
        </p:nvSpPr>
        <p:spPr>
          <a:xfrm>
            <a:off x="533520" y="4952880"/>
            <a:ext cx="34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irst Thanksgiv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77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4" dur="770" fill="hold"/>
                                        <p:tgtEl>
                                          <p:spTgt spid="7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56" dur="77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58" dur="77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Monotype Corsiva"/>
              </a:rPr>
              <a:t>Colony # 3: Maryland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nded in </a:t>
            </a:r>
            <a:r>
              <a:rPr b="0" lang="en-US" sz="2100" spc="-1" strike="noStrike">
                <a:solidFill>
                  <a:srgbClr val="ff0000"/>
                </a:solidFill>
                <a:latin typeface="Arial"/>
              </a:rPr>
              <a:t>1634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by </a:t>
            </a:r>
            <a:r>
              <a:rPr b="0" lang="en-US" sz="2100" spc="-1" strike="noStrike">
                <a:solidFill>
                  <a:srgbClr val="0000ff"/>
                </a:solidFill>
                <a:latin typeface="Arial"/>
              </a:rPr>
              <a:t>George Calvert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who started a charter but didn’t live to see it come true. He believed all people should have religious freedom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King Charles I was king and didn’t agree with the </a:t>
            </a:r>
            <a:r>
              <a:rPr b="0" i="1" lang="en-US" sz="2100" spc="-1" strike="noStrike" u="sng">
                <a:solidFill>
                  <a:srgbClr val="000000"/>
                </a:solidFill>
                <a:uFillTx/>
                <a:latin typeface="Arial"/>
              </a:rPr>
              <a:t>religious freedom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n 1649, the Toleration Act was passed that guaranteed equality of rights for everyone for religion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000000"/>
                </a:solidFill>
                <a:latin typeface="Arial"/>
              </a:rPr>
              <a:t>Southern Colony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7" descr="George Calvert, 1st Baron Baltimore"/>
          <p:cNvPicPr/>
          <p:nvPr/>
        </p:nvPicPr>
        <p:blipFill>
          <a:blip r:embed="rId1"/>
          <a:stretch/>
        </p:blipFill>
        <p:spPr>
          <a:xfrm>
            <a:off x="5791320" y="1676520"/>
            <a:ext cx="2468520" cy="3719520"/>
          </a:xfrm>
          <a:prstGeom prst="rect">
            <a:avLst/>
          </a:prstGeom>
          <a:ln w="0">
            <a:noFill/>
          </a:ln>
        </p:spPr>
      </p:pic>
      <p:sp>
        <p:nvSpPr>
          <p:cNvPr id="84" name="Text Box 8"/>
          <p:cNvSpPr/>
          <p:nvPr/>
        </p:nvSpPr>
        <p:spPr>
          <a:xfrm>
            <a:off x="5638680" y="5562720"/>
            <a:ext cx="289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alvert, Lord Baltimo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6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2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20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20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2000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5T22:41:51Z</dcterms:created>
  <dc:creator>Technology</dc:creator>
  <dc:description/>
  <dc:language>en-US</dc:language>
  <cp:lastModifiedBy>RomaK</cp:lastModifiedBy>
  <dcterms:modified xsi:type="dcterms:W3CDTF">2015-09-04T09:33:19Z</dcterms:modified>
  <cp:revision>11</cp:revision>
  <dc:subject/>
  <dc:title>The 13 Original colonies of America</dc:title>
</cp:coreProperties>
</file>