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E1FE-3FF0-4320-B17B-7DFBA8BAEC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305-81A7-4F59-9637-6E0541BD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398-123A-4332-BDE9-185134CB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755-86EF-41FC-A388-182C6B0E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364B-AC30-437A-A7A6-FDAB0563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B2D8-964F-4013-8A57-A287EB6F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E9D-6E20-423E-B7D6-D1EB6EE0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AC0-9444-417F-AB64-88A30D96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123-0838-4235-9E54-F7C00D6F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75A-149A-4EED-B162-983E623B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6B4-71AD-4576-839B-CE725250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367-95C3-4135-A776-3E841027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A66-7C2C-4BF8-AAE3-704B691F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D08B-3DB5-4B89-B4AD-DC7722670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RomaK</cp:lastModifiedBy>
  <dcterms:modified xsi:type="dcterms:W3CDTF">2015-09-04T09:33:55Z</dcterms:modified>
  <cp:revision>22</cp:revision>
  <dc:subject/>
  <dc:title>The French and Indian War</dc:title>
</cp:coreProperties>
</file>