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BEA6-F44F-4FCA-AFC1-9406558FF6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. The French Monarchy in 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The French Monarchy in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I. A Moderate Start to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. A Moderate Start to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Émigré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erson who flees his or her country for political reas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imited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publi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body of fundamental principles according to which a state is govern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adic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xtrem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odera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 extreme, mil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iber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eedom, being fre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dition of being equ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atern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rotherly or like broth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ig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ule; the rule of a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migr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who flees his or her country for political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of fundamental principles according to which a state is gov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xtreme, m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being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 of being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ter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ly or like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; the rule of a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 II.  A Moderate Start to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Reforms of the Assembly: 1789 Augus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uprisings forced action from the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ssembly made huge 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bolished most feudal custo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nded serfdom; ended tax exempt privilege of nob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ll male citizens eligible for government/church posi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dopted Declaration of the Rights of Ma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democratic princip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quality for all citize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rotection of personal proper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fluenced by ideas of philosop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ligious reforms: 1789-9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reedom of worship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trol of church given to the gover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izens could elect bishops/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elling of church lan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stitution: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rance a limited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eparation of powers: executive, legislative, judiciar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tesquieu’s three branc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untry divided into 83 reg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qual rights to all citize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.  Responses: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dissatisfied with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ome thought it went too far or not far enoug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fled France – émigré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oyal family tried to flee but fail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ept under guar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demands for end of monarchy and establishment of a Republi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se of radical parties and their representativ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ximilian Robespier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Estates General to National Assembly: 1789 May-Ju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ach estate elected deput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wanted all estates to meet together with equal votes for deput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 the past, estates met separately; had one vote per esta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eant 1st and 2nd estates could outvote 3r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hoped individual deputies from other estates would support th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ordered estates to meet separate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declared themselves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laimed the right to write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ennis Court Oat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swore not to leave without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gave in and estates met togeth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division between and within the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Popular Uprisings: 1789 Ju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and workers in Paris wanted quick action from the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till faced inflation, unemployment, food short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order troops to Paris; caused more unres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July 14: Paris crowd stormed the Bastil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in the countryside turned on landl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aided storehouses, destroyed tax rec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ducting own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 II.  A Moderate Start to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Reforms of the Assembly: 1789 Aug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prisings forced action from th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ssembly made huge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bolished most feudal cus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ded serfdom; ended tax exempt privilege of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 male citizens eligible for government/church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dopted Declaration of the Rights of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mocratic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quality for all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tection of personal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fluenced by ideas of philosop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ligious reforms: 1789-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reedom of wo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rol of church given to th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izens could elect bishops/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lling of church 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stitution: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rance a limited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paration of powers: executive, legislative, judici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tesquieu’s three bra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untry divided into 83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qual rights to all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Responses: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dissatisfied with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me thought it went too far or not far en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fled France – émigr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oyal family tried to flee but fai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ept under gu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mands for end of monarchy and establishment of a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se of radical parties and their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ximilian Robespie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Estates General to National Assembly: 1789 May-J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estate elected dep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wanted all estates to meet together with equal votes for dep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 the past, estates met separately; had one vote per e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eant 1st and 2nd estates could outvote 3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hoped individual deputies from other estates would suppor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ordered estates to meet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declared themselves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aimed the right to write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nnis Court O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swore not to leave without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gave in and estates me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division between and within the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Popular Uprisings: 1789 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and workers in Paris wanted quick action from th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ill faced inflation, unemployment, food shor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order troops to Paris; caused more un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July 14: Paris crowd stormed the Bast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in the countryside turned on land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ided storehouses, destroyed tax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ducting ow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tion Review: page 3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Identify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ennis Court Oath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legates of the Third Estate and some nobles and clergy swore an oath not to disband until they had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ational Assembly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Third Estate declared itself this in order to write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claration of the Rights of Man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dopted by the National Assembly – stated the democratic principles that would define the French gover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ivil Constitution of the Clergy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90, gave the government control of the church and allowed citizens to elect bishops and 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Why did the Third Estate want the Estates General to meet as a single bod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o avoid being outvoted by the First and Second Estates.  If each delegate had a vote then the 3rd Estate, with help from sympathizers from the 1st and 2nd, could win a majority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Review: page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denti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nis Court Oa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f the Third Estate and some nobles and clergy swore an oath not to disband until they had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Assembl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Estate declared itself this in order to write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on of the Rights of M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pted by the National Assembly – stated the democratic principles that would define the French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vil Constitution of the Cler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90, gave the government control of the church and allowed citizens to elect bishops and 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did the Third Estate want the Estates General to meet as a singl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being outvoted by the First and Second Estates.  If each delegate had a vote then the 3rd Estate, with help from sympathizers from the 1st and 2nd, could win a major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significance did the main events play during the course of the French Revolution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states General Summon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ird Estate declares itself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pular uprisings (Paris and peasant revolt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forms of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Constitution of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sponses to the Constitution of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ance at w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ational Conven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ttacks on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ign of Terr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gnificance did the main events play during the course of the French Rev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tes General Summ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Estate declares itself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uprisings (Paris and peasant revol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s of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itution of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 to the Constitution of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s on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gn of T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is meant by a country’s econom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happens when a country’s economy is prospering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e: 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roduction, distribution, and consumption of goo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eant by a country’s ec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a country’s economy is prosper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: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ion, distribution, and consumption of 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oo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istrib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sump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king Someth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o receives the products and how much they receiv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kind of products are purchas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receives the products and how much they rece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products are purch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.  The French Monarchy in 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Overview of France: 170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chest, most powerful nation in Europ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trong army and nav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hilosophers led the Enlighte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fluential in fashions, art and clot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The Old Regime (Anciem Regime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 Structu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arch has absolute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entralized power in royal ‘bureaucracy’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work to preserve royal authority and social structu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ople divided into three estates (classe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irst: clergy; second: nobility; third: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. 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First Estate: Clergy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 and comm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igher clergy lived in luxury an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riticized by parish 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an churches/school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ept birth/death rec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ared for the po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llected the tithe (a tax on income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hurch owned huge amounts of lan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d paid no tax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Second Estate: No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ess than 2% of popu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reat wealth and 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xempt from most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ch or poor, most defended traditional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de peasants pay feudal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ought to strengthen political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Third Estate: 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98% of popu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cluded the bourgeoisie (middle class), peasants,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ourgeoisie resented the privileges of first/second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elieved in equality and social justic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alled for tax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better off than elsewhere but not by muc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 serfdom but still had old feudal du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ad to do unpaid service for landlords/monarc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eavy taxes, church tithe, re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ffered from inflation because food prices ro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sented privileges of first/second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 The French Monarchy in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Overview of France: 17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chest, most powerful nation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rong army and 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ilosophers led the Enlighte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fluential in fashions, art and clo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The Old Regime (Anciem Reg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arch has absolut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entralized power in royal ‘bureaucrac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ork to preserve royal authority and soci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ople divided into three estates (clas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: clergy; second: nobility; third: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First Estate: Cl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 and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igher clergy lived in luxury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ized by parish 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churches/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ept birth/death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red for th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llected the tithe (a tax on inco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hurch owned huge amounts of 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id no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Second Estate: N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ss than 2%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eat wealth and 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empt from mos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ch or poor, most defended traditio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de peasants pay feudal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ught to strengthen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Third Estate: 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98%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cluded the bourgeoisie (middle class), peasants,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urgeoisie resented the privileges of first/second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lieved in equality and 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lled for tax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better off than elsewhere but not by m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 serfdom but still had old feudal d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d to do unpaid service for landlords/mon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avy taxes, church tithe, 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ffered from inflation because food prices 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ented privileges of first/second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tion Review: page 2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a. What groups made up each of the three estates in France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rst Estate: higher clergy, who were also nobles; parish priests, who were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ond Estate: no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ird Estate: commoners – bourgeoisie (middle class), peasants,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b. What privileges did the First and Second Estates enjo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Higher clergy:  lived in luxury – some in Versailles. Owned vast amount of land and paid no taxe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bility: many had great wealth; exempt from most taxes; collected feudal du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List three factors that contributed to the French economic crisis of the 1770’s and 1780’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rade regulations (tolls)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uild monopol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uge debt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pport of American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orrowed money to support Versailles and fight wars in Europe and oversea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Review: page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. What groups made up each of the three estates in Fr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state: higher clergy, who were also nobles; parish priests, who were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Estate: n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Estate: commoners – bourgeoisie (middle class), peasants,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b. What privileges did the First and Second Estates enjo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clergy:  lived in luxury – some in Versailles. Owned vast amount of land and paid no tax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ility: many had great wealth; exempt from most taxes; collected feudal d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List three factors that contributed to the French economic crisis of the 1770’s and 178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ade regulations (toll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uild monopo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uge deb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 of America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rrowed money to support Versailles and fight wars in Europe and overs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The Growing Economic Cri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 In General: 170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conomy prosper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pulation growth – 18 million to 25 mill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ood surpluses helped textile/mining industr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(mercantilism: export more than you import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.  Hardships: 1770’s/8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iddle Age regula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axing on merchant trad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opolies by guilds made it difficult for entrepreneu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* government debt high and increas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pay for wa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pport the Versailles Cour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merican Revolution double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XVI was not an able rul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Unit Tw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Reform Attempts: 1774-177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appointed Robert Turgot as finance minist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trolled government financial spend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duced court expen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moved internal customs taxes on foo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imited power of some guil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urgot attempted to tax nobles (a major reform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ittle succes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needed the parlements to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pprove this tax but they were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trolled by nob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of the Robe rejected the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dismissed Turgot in 177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.  The Writing on the Wall:  1776-178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overnment secured new bank loa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elped only for a little whi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1786: bankers refused to lend more mone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1787 and 1788: had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read shortages upset peop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went to Parlements for a new tax, his wishes were reject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called for the Estates General to mee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he Estates General represented all three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hoped to win support for reforms that would restore economic sta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The Growing Economic C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n General: 17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conomy prosp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pulation growth – 18 million to 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od surpluses helped textile/mining indus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rcantilism: export more than you impo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rdships: 1770’s/8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ddle Age reg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xing on merchant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opolies by guilds made it difficult for 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government debt high and in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pay for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 the Versaille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erican Revolution doub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XVI was not an able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Uni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Reform Attempts: 1774-1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appointed Robert Turgot as financ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rolled government financial spe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duced court exp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moved internal customs taxes o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mited power of some gui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urgot attempted to tax nobles (a major refo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ttle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needed the parlements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e this tax but they we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by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of the Robe rejected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dismissed Turgot in 1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The Writing on the Wall:  1776-17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overnment secured new bank l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lped only for a little w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86: bankers refused to lend more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87 and 1788: had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read shortages upset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went to Parlements for a new tax, his wishes were rej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called for the Estates General to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Estates General represented all three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hoped to win support for reforms that would restore economic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rievan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mall to moderate political, economic, or social compla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sudden profound change which destroys the old political and social syst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e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to moderate political, economic, or social compl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dden profound change which destroys the old political and soci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were the main causes of the French Revolution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arch had absolute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irst and Second Estates had many 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lergy collected tit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hurch owned much lan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nobles enjoyed great wealt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only nobles could become army offic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only nobles could hold high church offi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collected feudal dues from peasa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hird Estate paid most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had to perform unpaid servi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had to pay taxes, tithes, and re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were forbidden to kill animals that ate their crop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damaged crops by hunt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y workers suffered from inf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 1770’s, economic activity slow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gulations from Middle Ages hampered trade and manufactur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custom duties within Franc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ntrepreneurs could not set up busines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uge government deb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ankers refused to lend more mone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read short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Louis didn’t back his ministers’ 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didn’t allow themselves to be tax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felt only “lower classes” should be tax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dismissed Turgo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main causes of the French Rev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arch had absolut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nd Second Estates had many 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ergy collected ti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hurch owned much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nobles enjoyed great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y nobles could become army offi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y nobles could hold high church off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collected feudal dues from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rd Estate paid mos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had to perform unpai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had to pay taxes, tithes, and 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were forbidden to kill animals that ate thei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damaged crops by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y workers suffered from inf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 1770’s, economic activity s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lations from Middle Ages hampered trade and 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custom duties withi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trepreneurs could not set up busin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uge government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nkers refused to lend more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read shor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Louis didn’t back his ministers’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didn’t allow themselves to be ta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felt only “lower classes” should be ta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dismissed Turg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530-AC84-4EA8-A279-91B90C78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5E20-E5C6-48AD-8058-137A6A9C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848-31A0-446B-8714-7AD62CCB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21B-8265-480D-BAF9-B0F84202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3C70-1D92-43EB-9241-D028B262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F311-10BB-44B7-83D4-1044FB20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1E1E-D962-4D07-84F8-D6151106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8967-7567-47FD-9E2E-11212F80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0B59-EA73-40C5-A1CB-CB40E498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762A-76D7-43D7-88A6-7F25CEC5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90CC-BCD9-4074-A09D-52FBC251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6C0-3119-49F8-81F1-66830552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065F-D7FB-4E46-98A5-0D76B6B5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D6E9-5038-4348-9C40-44F5ECA1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9530-9F31-4735-AB38-D7A1BC79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D239-06AC-44BD-9930-33451B37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EDDF-92BE-441A-B784-362415EE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DB045-329D-4867-A9AD-9298FBD5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59BEF-D51A-428E-A235-E1097147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99D99-345A-4902-A576-1B409448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AE814-E639-4895-B774-4CC31C96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4B379-B94A-4B80-A38F-16A07DDC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4FA-6798-446B-AF57-F2D41559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54928-AE4B-450C-80A3-1CEB225E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C5226-2959-4357-94A4-18CC1BD5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2DBDC-927F-4E80-A83D-AD347474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4B5A9-B371-411F-A735-B378AE0B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96E44-197A-4A23-AE60-4ADCBB51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06AAE-7BA4-4A97-A0AC-34CEA581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5386B-D8DC-44E9-8BE5-E4CEBF78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C87-EE3C-4566-A7C6-B814DB09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3548-ACD5-4574-95CD-F0760F6A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20B-D77E-4106-9EAB-E066D183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9EF-59EF-46CF-BDF3-1BD2FA93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7A7-151F-44F0-9240-6FFFDF3D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DCA-DA80-4EC3-91A1-5C0BB08D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4476-D97F-4738-B696-34F1B137848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F51E-2546-422B-B03C-00737DC662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8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FA23-0832-41C2-98F3-C90A23D7A095}" type="slidenum">
              <a:rPr b="0" lang="en-GB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nit Tw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987640" y="4797000"/>
            <a:ext cx="59277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I. The French Monarchy in Cris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413760" y="278136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1789 to 18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nit Tw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987640" y="4797000"/>
            <a:ext cx="59277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II. A Moderate Start to the Revol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413760" y="278136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1789 to 18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ef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Émigré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erson who flees his or her country for political reas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imited monarch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publi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stitu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body of fundamental principles according to which a state is gover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7164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dic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trem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oder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Not extreme, mil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iber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reedom, being fre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qual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dition of being equ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ratern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rotherly or like broth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ig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ule; the rule of a monarch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0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8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8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8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6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7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8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5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88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9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9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9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9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9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5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0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5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0" y="0"/>
            <a:ext cx="869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 II.  A Moderate Start to the Revolu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284720" y="0"/>
            <a:ext cx="504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C.  Reforms of the Assembly: 1789 Augus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uprisings forced action from the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ssembly made huge reform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bolished most feudal custom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nded serfdom; ended tax exempt privilege of nobl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all male citizens eligible for government/church positions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dopted Declaration of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ights of Ma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democratic principl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quality for all citize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rotection of personal propert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influenced by ideas of philosop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eligious reforms: 1789-90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freedom of worship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 of church given to the governmen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itizens could elect bishops/pries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elling of church lan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stitution: 179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France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imited monarch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eparation of powers: executive, legislative, judiciar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ontesquieu’s three branc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untry divided into 83 regio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qual rights to all citize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D.  Responses: 179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any dissatisfied with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ome thought it went too far or not far enoug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nobles fled France –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émigré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oyal family tried to flee but faile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ept under guar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- demands for end of monarchy and establishment of a Republic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ise of radical parties and their representativ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ximilian Robespierr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476280"/>
            <a:ext cx="450072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A.  Estates General to National Assembly: 1789 May-Ju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ach estate elected deputi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wanted all estates to meet together with equal votes for deputi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in the past, estates met separately; had one vote per estat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eant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s could outvote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hoped individual deputies from other estates would support them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ordered estates to meet separate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declared themselves the National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laimed the right to write a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Tennis Court Oat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swore not to leave without a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gave in and estates met togethe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any division between and within the estat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B.  Popular Uprisings: 1789 Ju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and workers in Paris wanted quick action from the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till faced inflation, unemployment, food shortag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order troops to Paris; caused more unres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July 14: Paris crowd stormed the Bastil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in the countryside turned on landlor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aided storehouses, destroyed tax recor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ducting own revol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64960" y="274680"/>
            <a:ext cx="7521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ection Review: page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Ident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nnis Court Oath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legates of the Third Estate and some nobles and clergy swore an oath not to disband until they had a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ational Assembl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Third Estate declared itself this in order to write a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claration of the Rights of Man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dopted by the National Assembly – stated the democratic principles that would define the French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ivil Constitution of the Clergy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790, gave the government control of the church and allowed citizens to elect bishops and pri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Why did the Third Estate want the Estates General to meet as a single 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o avoid being outvoted by the First and Second Estates.  If each delegate had a vote then the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Estate, with help from sympathizers from the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and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, could win a major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0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0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0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0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0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8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3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8" dur="50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76500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hat significance did the main events play during the course of the French Rev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Main Event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Significance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A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B.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C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D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E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F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G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H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I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J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47"/>
          <p:cNvSpPr/>
          <p:nvPr/>
        </p:nvSpPr>
        <p:spPr>
          <a:xfrm>
            <a:off x="900000" y="62064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Estates General Summon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Text Box 48"/>
          <p:cNvSpPr/>
          <p:nvPr/>
        </p:nvSpPr>
        <p:spPr>
          <a:xfrm>
            <a:off x="900000" y="1268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Third Estate declares itself the National Assembl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900000" y="1844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Popular uprisings (Paris and peasant revolts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900000" y="2492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forms of the National Assembl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900000" y="3141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The Constitution of 179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900000" y="3716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sponses to the Constitution of 179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Text Box 53"/>
          <p:cNvSpPr/>
          <p:nvPr/>
        </p:nvSpPr>
        <p:spPr>
          <a:xfrm>
            <a:off x="900000" y="4365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France at wa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Text Box 54"/>
          <p:cNvSpPr/>
          <p:nvPr/>
        </p:nvSpPr>
        <p:spPr>
          <a:xfrm>
            <a:off x="900000" y="501336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National Conven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Text Box 55"/>
          <p:cNvSpPr/>
          <p:nvPr/>
        </p:nvSpPr>
        <p:spPr>
          <a:xfrm>
            <a:off x="900000" y="5589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Attacks on the Revolu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Text Box 56"/>
          <p:cNvSpPr/>
          <p:nvPr/>
        </p:nvSpPr>
        <p:spPr>
          <a:xfrm>
            <a:off x="900000" y="623736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ign of Terro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Text Box 57"/>
          <p:cNvSpPr/>
          <p:nvPr/>
        </p:nvSpPr>
        <p:spPr>
          <a:xfrm>
            <a:off x="4572000" y="620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Text Box 58"/>
          <p:cNvSpPr/>
          <p:nvPr/>
        </p:nvSpPr>
        <p:spPr>
          <a:xfrm>
            <a:off x="4572000" y="1268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Text Box 59"/>
          <p:cNvSpPr/>
          <p:nvPr/>
        </p:nvSpPr>
        <p:spPr>
          <a:xfrm>
            <a:off x="4572000" y="1844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Text Box 60"/>
          <p:cNvSpPr/>
          <p:nvPr/>
        </p:nvSpPr>
        <p:spPr>
          <a:xfrm>
            <a:off x="4572000" y="2492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Text Box 61"/>
          <p:cNvSpPr/>
          <p:nvPr/>
        </p:nvSpPr>
        <p:spPr>
          <a:xfrm>
            <a:off x="4572000" y="3141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Text Box 62"/>
          <p:cNvSpPr/>
          <p:nvPr/>
        </p:nvSpPr>
        <p:spPr>
          <a:xfrm>
            <a:off x="4572000" y="3716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Text Box 63"/>
          <p:cNvSpPr/>
          <p:nvPr/>
        </p:nvSpPr>
        <p:spPr>
          <a:xfrm>
            <a:off x="4572000" y="4365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Text Box 64"/>
          <p:cNvSpPr/>
          <p:nvPr/>
        </p:nvSpPr>
        <p:spPr>
          <a:xfrm>
            <a:off x="4572000" y="501336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Text Box 65"/>
          <p:cNvSpPr/>
          <p:nvPr/>
        </p:nvSpPr>
        <p:spPr>
          <a:xfrm>
            <a:off x="4572000" y="5589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Text Box 66"/>
          <p:cNvSpPr/>
          <p:nvPr/>
        </p:nvSpPr>
        <p:spPr>
          <a:xfrm>
            <a:off x="4572000" y="623736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What is meant by a country’s economy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What happens when a country’s economy is prospering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Define: Econom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The production, distribution, and consumption of goo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Goo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Produc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Distrib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Consump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Produ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Making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Who receives the products and how much they rece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What kind of products are purcha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Unit Tw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025280"/>
            <a:ext cx="421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.  The French Monarchy in Cr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.  Overview of France: 170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hest, most powerful nation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trong army and na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hilosophers led the Enlighte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fluential in fashions, art and clot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B.  The Old Regime (Anciem Reg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onarch has absolut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entralized power in royal ‘bureaucracy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work to preserve royal authority and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eople divided into three estates (cla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irst: clergy; second: nobility; third: commo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4720" y="980640"/>
            <a:ext cx="48592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 E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 First Estate: Clerg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ble and com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igher clergy lived in luxury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ized by parish pri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an churches/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kept birth/death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red for the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llected the tithe (a tax on inco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urch owned huge amounts of 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paid no 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.  Second Estate: No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ess than 2% of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reat wealth and privil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xempt from most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h or poor, most defended tradition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de peasants pay feudal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ought to strengthen political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0" y="1025640"/>
            <a:ext cx="42116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.  Third Estate:  Common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98% of popula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included the bourgeoisie (middle class), peasants, city work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bourgeoisie resented the privileges of first/second estat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believed in equality and social justi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alled for tax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better off than elsewhere but not by muc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no serfdom but still had old feudal du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had to do unpaid service for landlords/monarc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heavy taxes, church tithe, ren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ity work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suffered from inflation because food prices ros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sented privileges of first/second estat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2" name="Picture 9" descr="Third Estate"/>
          <p:cNvPicPr/>
          <p:nvPr/>
        </p:nvPicPr>
        <p:blipFill>
          <a:blip r:embed="rId1"/>
          <a:stretch/>
        </p:blipFill>
        <p:spPr>
          <a:xfrm>
            <a:off x="4643280" y="1125360"/>
            <a:ext cx="40449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9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5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8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4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7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3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9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3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2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5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8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1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4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7" dur="5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0" dur="5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Illumination Medieval - cleric, knight, workman"/>
          <p:cNvPicPr/>
          <p:nvPr/>
        </p:nvPicPr>
        <p:blipFill>
          <a:blip r:embed="rId1"/>
          <a:stretch/>
        </p:blipFill>
        <p:spPr>
          <a:xfrm>
            <a:off x="5364000" y="404640"/>
            <a:ext cx="3522960" cy="360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First Estate"/>
          <p:cNvPicPr/>
          <p:nvPr/>
        </p:nvPicPr>
        <p:blipFill>
          <a:blip r:embed="rId2"/>
          <a:stretch/>
        </p:blipFill>
        <p:spPr>
          <a:xfrm>
            <a:off x="1403280" y="2492280"/>
            <a:ext cx="2862360" cy="383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Louis XVI Sun King"/>
          <p:cNvPicPr/>
          <p:nvPr/>
        </p:nvPicPr>
        <p:blipFill>
          <a:blip r:embed="rId3"/>
          <a:stretch/>
        </p:blipFill>
        <p:spPr>
          <a:xfrm>
            <a:off x="250920" y="1484280"/>
            <a:ext cx="322416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280" y="96480"/>
            <a:ext cx="6542280" cy="124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ection Review: page 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2a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. What groups made up each of the three estates in France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First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higher clergy, who were also nobles; parish priests, who were common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Second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nobil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Third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commoners – bourgeoisie (middle class), peasants, city work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2b.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 What privileges did the First and Second Estates enjoy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Higher clergy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 lived in luxury – some in Versailles. Owned vast amount of land and paid no tax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Nobility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many had great wealth; exempt from most taxes; collected feudal du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3.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  List three factors that contributed to the French economic crisis of the 1770’s and 1780’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poor harvests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trade regulations (tolls)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guild monopoli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huge debt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support of American Revolu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borrowed money to support Versailles and fight wars in Europe and overse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4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0" y="620640"/>
            <a:ext cx="4211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C.  The Growing Economic Cris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 In General: 1700’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economy prosper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opulation growth – 18 million to 25 mill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ood surpluses helped textile/mining industri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mercantilism: export more than you import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 Hardships: 1770’s/80’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oor harve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iddle Age regulation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taxing on merchant trad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onopolies by guilds made it difficult for entrepreneu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* government debt high and increas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to pay for wa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support the Versailles Cour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American Revolution doubl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b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XVI was not an able rule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6836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Unit Tw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211640" y="476280"/>
            <a:ext cx="464328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3.  Reform Attempts: 1774-1776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appointed Robert Turgot as finance minister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led government financial spending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reduced court expens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removed internal customs taxes on food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imited power of some guild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Turgot attempted to tax nobles (a major reform)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ittle succes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needed the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arlemen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to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pprove this tax but they wer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led by nobl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bles of the Rob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rejected th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dea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dismissed Turgot in 1776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4.  The Writing on the Wall:  1776-1788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government secured new bank loan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helped only for a little while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1786: bankers refused to lend more money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1787 and 1788: had poor harvest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bread shortages upset people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went to Parlements for a new tax, his wishes were rejected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called for the Estates General to meet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The Estates General represented all three estat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hoped to win support for reforms that would restore economic stability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rievanc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mall to moderate political, economic, or social complai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risi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form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volu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sudden profound change which destroys the old political and social syste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5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5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46836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aramond"/>
              </a:rPr>
              <a:t>What were the main causes of the French Revolution?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522360"/>
          <a:ext cx="9144000" cy="6335640"/>
        </p:xfrm>
        <a:graphic>
          <a:graphicData uri="http://schemas.openxmlformats.org/drawingml/2006/table">
            <a:tbl>
              <a:tblPr/>
              <a:tblGrid>
                <a:gridCol w="3635280"/>
                <a:gridCol w="2808360"/>
                <a:gridCol w="270036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Grievance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risi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Failed Reform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27"/>
          <p:cNvSpPr/>
          <p:nvPr/>
        </p:nvSpPr>
        <p:spPr>
          <a:xfrm>
            <a:off x="0" y="1052640"/>
            <a:ext cx="363528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monarch had absolute powe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First and Second Estates had many privileg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lergy collected tit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hurch owned much lan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many nobles enjoyed great wealt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only nobles could become army officer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only nobles could hold high church offic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nobles collected feudal dues from peasa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Third Estate paid most tax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had to perform unpaid servic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had to pay taxes, tithes, and re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were forbidden to kill animals that ate their crop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nobles damaged crops by hunting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ity workers suffered from infla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708360" y="1052640"/>
            <a:ext cx="266400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in 1770’s, economic activity slow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regulations from Middle Ages hampered trade and manufactur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many custom duties within Fran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entrepreneurs could not set up business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huge government deb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bankers refused to lend more mone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bread shortag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6516720" y="1052640"/>
            <a:ext cx="26272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King Louis didn’t back his ministers’ reform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nobles didn’t allow themselves to be tax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nobles felt only “lower classes” should be tax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King dismissed Turgo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2:19:57Z</dcterms:created>
  <dc:creator>DELI</dc:creator>
  <dc:description/>
  <dc:language>en-US</dc:language>
  <cp:lastModifiedBy>RomaK</cp:lastModifiedBy>
  <dcterms:modified xsi:type="dcterms:W3CDTF">2015-09-04T09:34:08Z</dcterms:modified>
  <cp:revision>50</cp:revision>
  <dc:subject/>
  <dc:title>Unit Two The French Revolution and Napoleon</dc:title>
</cp:coreProperties>
</file>