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0156-B79E-4984-A59F-4159BBA6E1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’s Finest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to the P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marathon has its roots in 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dippides died from exhaustion after delivering hi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26 mile marathon races remember his heroic act of martyr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for Rev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Emperor Darius never returned, but his son Emperor Xerxes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80 B.C. the Persians returned 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rought even more men this time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 met a force of Greeks at Thermopy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a small mountain pass that controlled access to all of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wo days 7,000 Greeks held the Persians back, bu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w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ek traitor showed the Persians a secret passag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Persians to sneak up from behind and attack the Gr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Greek defenders ran a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roic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0 Spartans stayed behind and fought to their 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lowed the other Greeks to escape capture or certain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ome the Pers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poured into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t their revenge by wreaking hav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ven burned Athens to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reeks to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were quick to follow the retreating Greeks to Sala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re is Persi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Clever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hen turned quickly around and began ramming the Persi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s once again retreated back to Per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nal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Plata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and Persians at equal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nd Sparta fought side by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ilitary superiority won out and Persia retreated for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Greeks d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ent advantage of the def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etter soldi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 element of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had been settling on the west coast of Asia Minor (Pers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 conquered thes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sent troops to support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shing the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eror Darius of Persia crushed the revolt rather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cided to punish Athens for helping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ining for a few years Darius sent troops to invade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on to the Bay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 of Mara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thens took on the mighty Persian Empire by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ous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 troops—1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ian troops—2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Athens really have any hope against these od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sian soldiers turned and ran from the oncoming Athen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henian army almost drove the Persians back to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ans—6, 400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ns—192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ius returned to Persia never to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390-D20C-4FEA-BEB3-843C54B6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1A6-131A-433F-A056-058F9074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E5D-CAAB-4AE4-828F-F560CBA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D58-D424-40C3-B80B-8FC3FCDD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082-0E40-47AA-AD3B-B802ABFB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874-B9BC-4C8C-8A79-59D71B5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E23C-01B9-494C-ADB4-A7427EB9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5C09-239C-49B0-8868-5B126E55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2D5-C9AB-4470-8502-2A10D7B9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8019-ED61-4246-8E4E-CC5E890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CE4-5D50-4254-82F4-63CBABE1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07B1-267D-4C3F-A3E7-10C3F11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C20-66E7-4146-8E61-0B95DB09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9C3D-790F-4DC6-8437-89723D43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FFAB-48AF-434E-ACCC-0AA8699D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A6CD-32D9-484B-9F15-0CA8DFBD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3AFA-1DFF-4959-8051-4A1A274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241-CD8C-47F1-A44D-D4E6D565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916-A3EB-40F9-B7A3-9716EA3A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5A0-402D-45C1-BA8C-D25EEDD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A3F-9C89-499B-B2A3-4A73E11A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CED-CCDA-46BB-8BAC-C87836F8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9F7-EF8D-4EA5-84E1-B0C6FC0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994-F191-4290-B8BB-3FFE858D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F9C0-28BF-4339-8926-0B6BA01B5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827-9659-44C6-A5CD-348991A69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ersian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ce’s Finest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nection to the Pa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dern marathon has its roots in the Battle of Marath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reek soldier, Phidippides, ran from Marathon to Athens (26 miles) to tell the Athenians of the Greek victory and to warn them that the Persians may try to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dippides died from exhaustion after delivering his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’s 26 mile marathon races remember his heroic act of martyr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ck for Reveng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Emperor Darius never returned, but his son Emperor Xerxes d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80 B.C. the Persians returned 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rought even more men this time a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Thermopyla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s met a force of Greeks at Thermopyl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as a small mountain pass that controlled access to all of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wo days 7,000 Greeks held the Persians back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thermopyl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Downf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k traitor showed the Persians a secret passag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Persians to sneak up from behind and attack the Gree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Greek defenders ran a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Heroic 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0 Spartans stayed behind and fought to their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llowed the other Greeks to escape capture or certain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spartans0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spartansend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653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e come the Pers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poured into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got their revenge by wreaking hav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even burned Athens to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ere the Greeks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Salam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their city-state burned the Athenian people and the army escaped to the island of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s were quick to follow the retreating Greeks to Salam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re is Persia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Picture 4" descr="greecepersiamaplarge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ose Clever Athenia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eeks ships first sailed from shore like they were fleeing the is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then turned quickly around and began ramming the Persian shi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Persians knew what had happened half of their fleet was on the ocean fl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sians once again retreated back to Per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axisalamiseng"/>
          <p:cNvPicPr/>
          <p:nvPr/>
        </p:nvPicPr>
        <p:blipFill>
          <a:blip r:embed="rId1"/>
          <a:stretch/>
        </p:blipFill>
        <p:spPr>
          <a:xfrm>
            <a:off x="0" y="9828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nal Batt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ttle of Plata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eks and Persians at equal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nd Sparta fought side by s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 military superiority won out and Persia retreated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did the Greeks do i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rea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herent advantage of the de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etter soldi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used the element of surp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Figh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eks had been settling on the west coast of Asia Minor (Pers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 conquered thes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499 B.C. Greeks in these colonies revolted against Persian rule (they were used to ruling themselves—democrac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sent troops to support the revo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ushing the Revol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eror Darius of Persia crushed the revolt rather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decided to punish Athens for helping the colo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raining for a few years Darius sent troops to invade Gre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ed on to the Bay of Marath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Battle of Marath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s asked Sparta to help, but Spartan troops would not arrive for 9 days (they were in the middle of religious festiv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jealous city-states decided not to help Athens against the Persian Emp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Athens took on the mighty Persian Empire by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erious Mismat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an troops—10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nian troops—20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d Athens really have any hope against these od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c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was well-trained and did not break formation as they charged the Persian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zed charge surprised the large but scattered (and poorly organized) Persian arm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rsian soldiers turned and ran from the oncoming Atheni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10029246aBattle%20of%20Marath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Slaugh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henian army almost drove the Persians back to the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ans—6, 400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ens—192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us returned to Persia never to retu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2:47:39Z</dcterms:created>
  <dc:creator>brobison</dc:creator>
  <dc:description/>
  <dc:language>en-US</dc:language>
  <cp:lastModifiedBy>RomaK</cp:lastModifiedBy>
  <dcterms:modified xsi:type="dcterms:W3CDTF">2015-09-04T09:34:23Z</dcterms:modified>
  <cp:revision>9</cp:revision>
  <dc:subject/>
  <dc:title>The Persian Wars</dc:title>
</cp:coreProperties>
</file>