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722A-738B-4C7A-B218-5530C981E0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321E-EB52-45E9-81AC-C151C199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8A1-E956-4347-B744-F0F34B56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836F-8DB1-4916-879C-AE617C00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392-57D9-4B40-BE9F-BE64AA90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02F6-F18B-4CFC-AB0E-FA755FF1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5121-6515-4497-BB37-9032F471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C779-35EB-404B-B13F-C743CD5C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1058-30A8-4C99-890E-FF048663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456F-E4AE-43EC-BB6F-BA6784B5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CB19-7465-4E58-8F89-CF394333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5FFF-7A46-4D1B-835B-8EFA24D1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FE88-3E5C-4A3C-9662-E0B79F88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79B1-82A1-4B8D-88C4-0DEED77D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6E43-906D-4A9D-B2E8-BB47EC82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B0A3-7014-40D1-B789-CE562E96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8295-6532-442F-8221-D889D10F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17B9-45CA-4D1F-92C8-546B47E2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671A-BDA9-4919-8F22-0273F670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162F-090B-41C4-B2FB-4BAE16AB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5468-AC35-4494-9279-D6721792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C44A-1508-42E5-AF4C-15E2D6FA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6190-B0E6-4E7B-A593-AFAF4E8F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C92-49C8-46ED-8430-D9872780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1EC-CCF1-4656-91D5-B3E56D01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0831-DF5E-451F-B12E-57F542220B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8AF6-17F0-44C1-9227-1259CEF38F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ersian Wa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nection to the Pa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 for Reve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Thermopyla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thermopyl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Downfa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Heroic A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partans0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spartansend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653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re come the Pers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Salam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re is Persi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Picture 4" descr="greecepersiamaplarge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ose Clever Athen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maxisalamiseng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75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Final Batt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id the Greeks do i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Figh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ushing the Revol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Marath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erious Mismat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c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10029246aBattle%20of%20Marath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laugh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2:47:39Z</dcterms:created>
  <dc:creator>brobison</dc:creator>
  <dc:description/>
  <dc:language>en-US</dc:language>
  <cp:lastModifiedBy>RomaK</cp:lastModifiedBy>
  <dcterms:modified xsi:type="dcterms:W3CDTF">2015-09-04T09:34:23Z</dcterms:modified>
  <cp:revision>9</cp:revision>
  <dc:subject/>
  <dc:title>The Persian Wars</dc:title>
</cp:coreProperties>
</file>