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25D6-D36F-499E-81C7-7D1DA6AAD6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706-30CA-4F87-B737-99CAEF1F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7A5-CCE9-4E8B-9634-A2AE5783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3EA-0909-4E8F-B623-31EFEDEA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960-D8A8-4608-B3FC-2AD85922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3712-6260-462D-AF00-B1F7F663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FE21-1062-433C-A6E9-ED8BF99C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68F9-DA70-4337-9995-CFC49D86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D04E-D2C2-46AF-9A75-87B52F95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C76C-5FE4-48D8-8A03-FA604B4D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189A-61B5-4BF5-8EEF-B1F4703C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A0B3-2A75-409B-AD7E-8F60ABC2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4B4-30A3-4E62-9470-65100E85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CB69-CE26-4B9E-AC3A-67F64F99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31F1-F5C3-4078-B2CE-5D8325D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DA9D-E26A-4FF7-A825-A216D491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DE6C-ECE9-4068-B632-7F8959B4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B3C9-D89A-46BA-80F3-BC50C665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6BA-7088-450B-8B1A-1A1C145A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57D-4627-4771-B99C-8DC62C25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7B3-9EF3-4FAF-A682-F331FBF4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917-EABE-43CA-A53A-98C53D71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963-6406-4B8A-AC63-AC9616E8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5B8-A78C-47F8-A4A4-1E6F5E8A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959-E0F3-450C-ABE4-C0DE083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855D-44FA-444A-9CC6-F38E4C579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FC45-4F92-49AF-A1E7-4DD755F43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RomaK</cp:lastModifiedBy>
  <dcterms:modified xsi:type="dcterms:W3CDTF">2015-09-04T09:34:23Z</dcterms:modified>
  <cp:revision>9</cp:revision>
  <dc:subject/>
  <dc:title>The Persian Wars</dc:title>
</cp:coreProperties>
</file>