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7BA2-CE85-4638-B817-32BE43EA36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04E-8E61-4C90-B797-9AFAB787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B68-1A6D-4596-B0C1-75BD4C5B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B7D-DC3C-445D-9CBC-7E7D8A47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97C-ED54-4A5D-8758-C1372288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272-C283-4096-AAB7-74A21E1A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E66-949E-49A0-8C72-860DA9C9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6E6-926A-4740-8A61-E24959EE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9BE-60CC-4C68-8581-400741BD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FB2-DEE8-4A08-A29D-B099FE92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3B5-AE95-4152-96CE-3743CBB9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D76-75AF-4582-8C40-19A95B99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84A-A85C-472B-BF8C-598DEEC6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C73D-4357-44CB-8565-D9AC8C2A2519}" type="slidenum">
              <a:rPr b="0" lang="en-GB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Railroads</a:t>
            </a:r>
            <a:br>
              <a:rPr sz="4400"/>
            </a:br>
            <a:r>
              <a:rPr b="0" lang="en-GB" sz="3200" spc="-1" strike="noStrike">
                <a:solidFill>
                  <a:srgbClr val="ff66ff"/>
                </a:solidFill>
                <a:latin typeface="High Tower Text"/>
              </a:rPr>
              <a:t>The first transcontinental railroad</a:t>
            </a:r>
            <a:endParaRPr b="0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High Tower Text"/>
              </a:rPr>
              <a:t>The American W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Building of the Railroads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Built in 1860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Two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Central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Union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Met and joined railroad in Promontory, Uta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Date of completion 10 May 186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By 1893 there were 6 major railroad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Why did America need Railroads?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Communication from East to West was not very go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velling time from East to West took 6 months 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It would help fulfil ‘Manifest Destiny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he U.S. needed to keep up with other cou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de links with China and Jap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elp to bring law and order to the W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Quick and easy travel to the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Previous metho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Wagon Tr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Fo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By bo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Pony Expres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The railroad turned a 6 month journey into a maximum of 8 d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Picture 9" descr="wagon%20train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Cheap land for people wanting to go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Once the Railroads were built the Railroad companies had no use for the excess la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Sold land off chea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Benefitted Homesteaders and Ranchers who came wes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Picture 6" descr="10772801"/>
          <p:cNvPicPr/>
          <p:nvPr/>
        </p:nvPicPr>
        <p:blipFill>
          <a:blip r:embed="rId1"/>
          <a:stretch/>
        </p:blipFill>
        <p:spPr>
          <a:xfrm>
            <a:off x="179280" y="206064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Destruction of the Indians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used the Railroad to go west to hunt the buffal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were only interested in buffalo sk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75 sou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85 nor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Indians depended on the buffalo, but now they were gone! </a:t>
            </a:r>
            <a:r>
              <a:rPr b="0" lang="cy-GB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6" descr="buffalo-skulls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Helps develop the Cattle Industry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attle were transported by the railroads making it easier to move them from Texas to the Ea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ow Towns grew up around these railroad sto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8" descr="CattleMarket%20Engrave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66ff"/>
                </a:solidFill>
                <a:latin typeface="High Tower Text"/>
              </a:rPr>
              <a:t>Task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Essay Questi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ow important were the railroad and railroad companies in opening up the wes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1:  Plann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2:  Writ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6Z</dcterms:created>
  <dc:creator>cjames</dc:creator>
  <dc:description>The Railroads The first transcontinental railroad</dc:description>
  <cp:keywords>The Railroads The first transcontinental railroad</cp:keywords>
  <dc:language>en-US</dc:language>
  <cp:lastModifiedBy>RomaK</cp:lastModifiedBy>
  <dcterms:modified xsi:type="dcterms:W3CDTF">2015-09-04T09:34:31Z</dcterms:modified>
  <cp:revision>8</cp:revision>
  <dc:subject>The Railroads The first transcontinental railroad</dc:subject>
  <dc:title>The Railroads The first transcontinental railroad</dc:title>
</cp:coreProperties>
</file>