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07F9-96FD-4792-9C5F-973CFE3185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transcontinental railr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ilding of the Rail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t in 1860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Pacific Railroad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 and joined railroad in Promontory,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 of completion 10 May 18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93 there were 6 major railroad compa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America need Rail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from East to West was not very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ling time from East to West took 6 months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help fulfil ‘Manifest Destiny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eeded to keep up with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 links with China and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o bring law and order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Quick and easy travel to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ous metho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gon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y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ilroad turned a 6 month journey into a maximum of 8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Cheap land for people wanting to go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Railroads were built the Railroad companies had no use for the exces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d land off che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ted Homesteaders and Ranchers who came w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Destruction of the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used the Railroad to go west to hunt the buff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 were only interested in buffalo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75 sou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5 northern buffalo herds wip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depended on the buffalo, but now they were gone! 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 of the Railroads: Helps develop the Cattle 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tle were transported by the railroads making it easier to move them from Texas to th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 Towns grew up around these railroad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mportant were the railroad and railroad companies in opening up the w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:  Plann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:  Writing your 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1F29-2434-4461-92C7-6A0E116C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31C-E643-400F-B08E-B1EA057D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4853-DDCF-465E-947F-5A295C4B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58FE-0784-4E1E-B724-D2B17C7BD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F1FA-07B6-4A5E-8218-0718F32A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07FE-77B4-4772-9052-25727465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FF28-032F-4CFD-84D1-C6CD13FF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B958-579C-4C76-8F78-06B1387C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C22-1EF7-4DAB-A277-85353349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28B-258D-4C41-93E4-CD2B84A1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C13-0809-444C-9A7D-CA5AC21E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C7EE-1241-448A-8F06-35A7DA99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0F92-FE71-4249-BABF-78187C0244D8}" type="slidenum">
              <a:rPr b="0" lang="en-GB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Railroads</a:t>
            </a:r>
            <a:br>
              <a:rPr sz="4400"/>
            </a:br>
            <a:r>
              <a:rPr b="0" lang="en-GB" sz="3200" spc="-1" strike="noStrike">
                <a:solidFill>
                  <a:srgbClr val="ff66ff"/>
                </a:solidFill>
                <a:latin typeface="High Tower Text"/>
              </a:rPr>
              <a:t>The first transcontinental railroad</a:t>
            </a:r>
            <a:endParaRPr b="0" lang="en-US" sz="32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High Tower Text"/>
              </a:rPr>
              <a:t>The American W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The Building of the Railroads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Built in 1860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Two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Central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Union Pacific Railroad Compan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Met and joined railroad in Promontory, Uta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High Tower Text"/>
              </a:rPr>
              <a:t>Date of completion 10 May 186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By 1893 there were 6 major railroad compan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66ff"/>
                </a:solidFill>
                <a:latin typeface="High Tower Text"/>
              </a:rPr>
              <a:t>Why did America need Railroads?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Communication from East to West was not very goo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velling time from East to West took 6 months +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It would help fulfil ‘Manifest Destiny’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he U.S. needed to keep up with other countri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Trade links with China and Japa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elp to bring law and order to the Wes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Quick and easy travel to the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Previous methods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Wagon Tra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Foo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By boa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Pony Expres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The railroad turned a 6 month journey into a maximum of 8 day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" name="Picture 9" descr="wagon%20train"/>
          <p:cNvPicPr/>
          <p:nvPr/>
        </p:nvPicPr>
        <p:blipFill>
          <a:blip r:embed="rId1"/>
          <a:stretch/>
        </p:blipFill>
        <p:spPr>
          <a:xfrm>
            <a:off x="4500720" y="1989000"/>
            <a:ext cx="4392360" cy="317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Cheap land for people wanting to go West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Once the Railroads were built the Railroad companies had no use for the excess la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Sold land off chea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Benefitted Homesteaders and Ranchers who came wes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9" name="Picture 6" descr="10772801"/>
          <p:cNvPicPr/>
          <p:nvPr/>
        </p:nvPicPr>
        <p:blipFill>
          <a:blip r:embed="rId1"/>
          <a:stretch/>
        </p:blipFill>
        <p:spPr>
          <a:xfrm>
            <a:off x="179280" y="2060640"/>
            <a:ext cx="4537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Destruction of the Indians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used the Railroad to go west to hunt the buffal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Hunters were only interested in buffalo ski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75 sou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1885 northern buffalo herds wiped out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ffff00"/>
                </a:solidFill>
                <a:latin typeface="High Tower Text"/>
              </a:rPr>
              <a:t>Indians depended on the buffalo, but now they were gone! </a:t>
            </a:r>
            <a:r>
              <a:rPr b="0" lang="cy-GB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6" descr="buffalo-skulls"/>
          <p:cNvPicPr/>
          <p:nvPr/>
        </p:nvPicPr>
        <p:blipFill>
          <a:blip r:embed="rId1"/>
          <a:stretch/>
        </p:blipFill>
        <p:spPr>
          <a:xfrm>
            <a:off x="4648320" y="1773360"/>
            <a:ext cx="40384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ff"/>
                </a:solidFill>
                <a:latin typeface="High Tower Text"/>
              </a:rPr>
              <a:t>Effect of the Railroads: Helps develop the Cattle Industry</a:t>
            </a:r>
            <a:endParaRPr b="0" lang="en-US" sz="40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attle were transported by the railroads making it easier to move them from Texas to the Ea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00"/>
                </a:solidFill>
                <a:latin typeface="High Tower Text"/>
              </a:rPr>
              <a:t>Cow Towns grew up around these railroad sto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8" descr="CattleMarket%20Engrave"/>
          <p:cNvPicPr/>
          <p:nvPr/>
        </p:nvPicPr>
        <p:blipFill>
          <a:blip r:embed="rId1"/>
          <a:stretch/>
        </p:blipFill>
        <p:spPr>
          <a:xfrm>
            <a:off x="457200" y="1989000"/>
            <a:ext cx="40384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ff66ff"/>
                </a:solidFill>
                <a:latin typeface="High Tower Text"/>
              </a:rPr>
              <a:t>Task</a:t>
            </a:r>
            <a:endParaRPr b="0" lang="en-US" sz="4400" spc="-1" strike="noStrike">
              <a:solidFill>
                <a:srgbClr val="ff66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Essay Question: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How important were the railroad and railroad companies in opening up the wes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1:  Plann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00"/>
                </a:solidFill>
                <a:latin typeface="High Tower Text"/>
              </a:rPr>
              <a:t>Step 2:  Writing your answ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42:06Z</dcterms:created>
  <dc:creator>cjames</dc:creator>
  <dc:description>The Railroads The first transcontinental railroad</dc:description>
  <cp:keywords>The Railroads The first transcontinental railroad</cp:keywords>
  <dc:language>en-US</dc:language>
  <cp:lastModifiedBy>RomaK</cp:lastModifiedBy>
  <dcterms:modified xsi:type="dcterms:W3CDTF">2015-09-04T09:34:31Z</dcterms:modified>
  <cp:revision>8</cp:revision>
  <dc:subject>The Railroads The first transcontinental railroad</dc:subject>
  <dc:title>The Railroads The first transcontinental railroad</dc:title>
</cp:coreProperties>
</file>