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18F1-ABFF-4F44-B1DF-D1440342D6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FA2F-7BC6-4626-95A3-458E48A7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B4E-0594-4E7D-98CD-21D7C40C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902A-8F27-441D-BCE3-CE6FF5CF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36A9-2FF7-4EE9-B59A-5C6DC0F6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D948-4E90-49E6-9768-4998D8B1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CE8-DB80-4A6B-80BC-DE1D1529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49E-E0A4-48E0-98C3-D6F5B356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5AAE-D21E-4886-9DC7-9DEC3416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CFF7-3BCE-458A-BA74-C8ED497D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4A5F-AA88-47E5-A33C-60EAB3DB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099-B4C6-4374-90D8-E13E9C8B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1AE-5DAB-4C55-A224-C3DC72D0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F256-102C-43D1-AB4C-4B68D4BB2B45}" type="slidenum">
              <a:rPr b="0" lang="en-GB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Railroads</a:t>
            </a:r>
            <a:br>
              <a:rPr sz="4400"/>
            </a:br>
            <a:r>
              <a:rPr b="0" lang="en-GB" sz="3200" spc="-1" strike="noStrike">
                <a:solidFill>
                  <a:srgbClr val="ff66ff"/>
                </a:solidFill>
                <a:latin typeface="High Tower Text"/>
              </a:rPr>
              <a:t>The first transcontinental railroad</a:t>
            </a:r>
            <a:endParaRPr b="0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High Tower Text"/>
              </a:rPr>
              <a:t>The American W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Building of the Railroads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Built in 1860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Two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Central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Union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Met and joined railroad in Promontory, Uta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Date of completion 10 May 186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By 1893 there were 6 major railroad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Why did America need Railroads?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Communication from East to West was not very go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velling time from East to West took 6 months 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It would help fulfil ‘Manifest Destiny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he U.S. needed to keep up with other cou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de links with China and Jap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elp to bring law and order to the W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Quick and easy travel to the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Previous metho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Wagon Tr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Fo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By bo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Pony Expres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The railroad turned a 6 month journey into a maximum of 8 d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Picture 9" descr="wagon%20train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Cheap land for people wanting to go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Once the Railroads were built the Railroad companies had no use for the excess la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Sold land off chea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Benefitted Homesteaders and Ranchers who came wes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Picture 6" descr="10772801"/>
          <p:cNvPicPr/>
          <p:nvPr/>
        </p:nvPicPr>
        <p:blipFill>
          <a:blip r:embed="rId1"/>
          <a:stretch/>
        </p:blipFill>
        <p:spPr>
          <a:xfrm>
            <a:off x="179280" y="206064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Destruction of the Indians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used the Railroad to go west to hunt the buffal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were only interested in buffalo sk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75 sou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85 nor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Indians depended on the buffalo, but now they were gone! </a:t>
            </a:r>
            <a:r>
              <a:rPr b="0" lang="cy-GB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6" descr="buffalo-skulls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Helps develop the Cattle Industry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attle were transported by the railroads making it easier to move them from Texas to the Ea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ow Towns grew up around these railroad sto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8" descr="CattleMarket%20Engrave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66ff"/>
                </a:solidFill>
                <a:latin typeface="High Tower Text"/>
              </a:rPr>
              <a:t>Task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Essay Questi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ow important were the railroad and railroad companies in opening up the wes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1:  Plann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2:  Writ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6Z</dcterms:created>
  <dc:creator>cjames</dc:creator>
  <dc:description>The Railroads The first transcontinental railroad</dc:description>
  <cp:keywords>The Railroads The first transcontinental railroad</cp:keywords>
  <dc:language>en-US</dc:language>
  <cp:lastModifiedBy>RomaK</cp:lastModifiedBy>
  <dcterms:modified xsi:type="dcterms:W3CDTF">2015-09-04T09:34:31Z</dcterms:modified>
  <cp:revision>8</cp:revision>
  <dc:subject>The Railroads The first transcontinental railroad</dc:subject>
  <dc:title>The Railroads The first transcontinental railroad</dc:title>
</cp:coreProperties>
</file>