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5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713E-1175-4486-AAA7-A282C9FC02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o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for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invaded Washington, D.C. in 18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ish soldiers burned the Capitol, the White House, and other public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British burned the White House, Dolley Madison saved a famous painting of George Washing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le at Fort McHen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is Scott Key: an American lawyer and prisoner of the Brit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w an American flag flying over Ft. McHenry after the ba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lag inspired Key to write “The Star-Spangled Bann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of New Orleans (18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famous/important battle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lead to victory by General Andrew Jack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ttle continued even after the war ended because word did not reach the Americans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aty of Gh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December, 1815, British and Americans met in Ghent, Belgium to negotiate a peace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the wa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American became better al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gained respect from other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ter 6, Sec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and France were fighting a war in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tain began capturing American sailors and “impressing” them, or forcing them to work on British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07, Britain had seized more than 1,000 American 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bargo Act of 1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Jefferson convinced Congress to declare an embar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fferson believed the embargo would hurt Britain, but it really hurt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809, Congress ended the embargo with all countries except Britain and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’s Desire for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saw that Canada was not well-defended by 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anted more land and believed that people in Canada would want to join the United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Haw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Republican Congressmen from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by Senator John C. Calhoun of South Carolina and Henry Clary of Kentuc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ion of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, a Democratic-Republican, w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pring of 1812, Madison decided to go to war agains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in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were unprepared for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captured Detroit and the Americans failed to capture Can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Native Americans helped the British because they wanted to stop Americans from taking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r at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.S. Navy was young and outnumb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November of 1812, the British blockaded the Chesapeake and Delaware B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ockade grew throughout the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1813, most American ships were unable to leave thei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AF43-896B-4723-AB26-BFD1FCA2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7558-38F3-46E1-851B-E21B19CA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6CB5-961F-4B0E-AF89-AB103CB5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2563-A3E5-4C0F-ACA1-FE483231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4605-873C-40CD-B5D5-FEF8D8CAA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F093-9462-4B73-8255-5E6D90F9A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B616-D7EC-45EF-9848-62E391C3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2986-C64A-40AB-AD7A-961C75406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D824-6FD5-46BC-84C2-D82591FD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59C6-5825-4CB7-9B1A-455A0927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058F0-D379-4DAC-BF24-ED6CF164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D08-2301-4FDD-BA74-BB0C10F9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5C626-2D13-4693-B32B-86879AAC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6232-E659-40A0-84F7-E89BED12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2D09-1DA2-4869-A6E8-A99FD74B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BEA7-3E4C-4441-AF0A-9D5B917E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A4BF-A83D-425B-9CC6-FCDFE074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0EFB7-24F5-409B-A93C-0D310EC5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5ED5-9608-4262-A6E2-80E185E0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96418-AF23-4D94-9CE2-9855E700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DC08E-0FA6-44E2-8DAD-F7D38678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EB61F-D16B-4A82-9FC9-61BFF9BA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E16-EB11-4F43-81D1-A37C7ADE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0BE7C-241E-4EFE-A611-8A320B55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A140C-319F-4719-800E-32CD2037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F9FF8-5C9E-422B-B5A5-929AE7DB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401BC-746D-485E-89B3-026D038E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A735F-8A29-4472-9B4B-45268A76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1813A-C800-4C9D-8C87-89776102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814EF-086E-4458-86B3-F3510B265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7F011-D197-4DAC-A5ED-8812F021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C78EB-C851-4088-AA87-DEBE7E8F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4AF08-0012-47FF-BDC1-65A5A7EB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4A05-62A6-41D0-8F23-EA716608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AA84E-90B4-4510-B04A-35EB211C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194F2-C7A9-4021-887C-C14197CD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2C8B-3490-4013-BDB9-A874AD4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CB36-B017-41FF-94A0-900DE72C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76277-F0C5-4B48-B7F7-6D90B356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399C-9F1B-4D13-B5D2-4963A50E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ACBB6-A738-4506-B71F-CCFB5FE6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5EDB4-D121-4E5C-BF00-EB360D8BA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4100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30080" y="175212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22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4100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30080" y="4339800"/>
            <a:ext cx="284616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08EAA-2DE7-4C73-8407-FB91544C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F46C-9AE4-4988-89C4-3082747C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F4B-ADBD-4880-B128-87C5EDA2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75EA-1DE4-40A4-8CDC-4AE810E5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1800" y="433980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BBC-8A5F-4258-8E07-34FE1AD0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752120"/>
            <a:ext cx="431352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39800"/>
            <a:ext cx="8839440" cy="23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D07-27DC-47DF-9D33-E6F29F2D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2600" y="93600"/>
            <a:ext cx="9144000" cy="1677960"/>
            <a:chOff x="-12600" y="93600"/>
            <a:chExt cx="9144000" cy="1677960"/>
          </a:xfrm>
        </p:grpSpPr>
        <p:sp>
          <p:nvSpPr>
            <p:cNvPr id="1" name="Rectangle 3"/>
            <p:cNvSpPr/>
            <p:nvPr/>
          </p:nvSpPr>
          <p:spPr>
            <a:xfrm>
              <a:off x="0" y="152388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173340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12600" y="93600"/>
              <a:ext cx="1322280" cy="1571760"/>
              <a:chOff x="-12600" y="93600"/>
              <a:chExt cx="1322280" cy="157176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-12600" y="936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-6480" y="3078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57320" y="336600"/>
                <a:ext cx="782640" cy="108756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49280" y="7412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F552-3C3C-41AB-B2EA-1DACB1EF5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6D94-188F-4A65-BEA3-DCAD00525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D0E5-D280-4670-A576-EC847B851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131" name="Rectangle 3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000000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969696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5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134" name="Freeform 6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7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8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9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152280" y="1752120"/>
            <a:ext cx="88394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Click to edit the outline text format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con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2" marL="15238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Third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3" marL="1981080" indent="-609480">
              <a:spcBef>
                <a:spcPts val="799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our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4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Fif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5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ix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  <a:p>
            <a:pPr lvl="6" marL="2438280" indent="-60948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Georgia"/>
              </a:rPr>
              <a:t>Seventh Outline Level</a:t>
            </a:r>
            <a:endParaRPr b="1" lang="en-US" sz="3200" spc="-1" strike="noStrike">
              <a:solidFill>
                <a:srgbClr val="a50021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5166-F6B3-4694-A723-463438F49E23}" type="slidenum">
              <a:rPr b="0" lang="en-US" sz="1400" spc="-1" strike="noStrike">
                <a:solidFill>
                  <a:srgbClr val="ddddd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BernhardMod BT"/>
              </a:rPr>
              <a:t>Click to edit the title text format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ocabulary 6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bar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prep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numb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48320" y="114300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usal to trade with another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ake contro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ce where ships s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ing sailors to work on another 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nter with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off an area with 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other side has more soldiers/people than you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map 1812"/>
          <p:cNvPicPr/>
          <p:nvPr/>
        </p:nvPicPr>
        <p:blipFill>
          <a:blip r:embed="rId1"/>
          <a:stretch/>
        </p:blipFill>
        <p:spPr>
          <a:xfrm>
            <a:off x="762120" y="3240"/>
            <a:ext cx="7772400" cy="6837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2" descr="123"/>
          <p:cNvPicPr/>
          <p:nvPr/>
        </p:nvPicPr>
        <p:blipFill>
          <a:blip r:embed="rId1"/>
          <a:stretch/>
        </p:blipFill>
        <p:spPr>
          <a:xfrm>
            <a:off x="304920" y="1143000"/>
            <a:ext cx="2617560" cy="32004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038120" y="1447560"/>
            <a:ext cx="4953240" cy="5257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on Land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for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invaded Washington, D.C. in 181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ish soldiers burned the Capitol, the White House, and other public build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fore the British burned the White House,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Dolley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saved a famous painting of George Washingt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2" name="Picture 25" descr="Dolly Fire"/>
          <p:cNvPicPr/>
          <p:nvPr/>
        </p:nvPicPr>
        <p:blipFill>
          <a:blip r:embed="rId2"/>
          <a:stretch/>
        </p:blipFill>
        <p:spPr>
          <a:xfrm>
            <a:off x="1371600" y="3887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886200" y="1752480"/>
            <a:ext cx="510552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Battle at Fort McHenr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ancis Scott Ke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 an American lawyer and prisoner of the Britis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w an American flag flying over Ft. McHenry after the batt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flag inspired Key to write “The Star-Spangled Banner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4" name="Picture 3" descr="FortMcHenry1814a"/>
          <p:cNvPicPr/>
          <p:nvPr/>
        </p:nvPicPr>
        <p:blipFill>
          <a:blip r:embed="rId1"/>
          <a:stretch/>
        </p:blipFill>
        <p:spPr>
          <a:xfrm>
            <a:off x="228600" y="1143000"/>
            <a:ext cx="261936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flag"/>
          <p:cNvPicPr/>
          <p:nvPr/>
        </p:nvPicPr>
        <p:blipFill>
          <a:blip r:embed="rId2"/>
          <a:stretch/>
        </p:blipFill>
        <p:spPr>
          <a:xfrm>
            <a:off x="1542960" y="4324320"/>
            <a:ext cx="3181320" cy="2381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5192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Battle of New Orleans (1815)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most famous/important battle of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lead to victory by General Andrew Jacks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attle continued even after the war ended because word did not reach the Americans for several week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7" name="Picture 8" descr="bonorr"/>
          <p:cNvPicPr/>
          <p:nvPr/>
        </p:nvPicPr>
        <p:blipFill>
          <a:blip r:embed="rId1"/>
          <a:stretch/>
        </p:blipFill>
        <p:spPr>
          <a:xfrm>
            <a:off x="6019920" y="3733920"/>
            <a:ext cx="2933640" cy="2943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ajackson"/>
          <p:cNvPicPr/>
          <p:nvPr/>
        </p:nvPicPr>
        <p:blipFill>
          <a:blip r:embed="rId2"/>
          <a:stretch/>
        </p:blipFill>
        <p:spPr>
          <a:xfrm>
            <a:off x="4672080" y="1219320"/>
            <a:ext cx="2185920" cy="283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Ghent"/>
          <p:cNvPicPr/>
          <p:nvPr/>
        </p:nvPicPr>
        <p:blipFill>
          <a:blip r:embed="rId1"/>
          <a:stretch/>
        </p:blipFill>
        <p:spPr>
          <a:xfrm>
            <a:off x="380880" y="1295280"/>
            <a:ext cx="3505320" cy="24544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Georgia"/>
              <a:buAutoNum type="alpha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Georgia"/>
              </a:rPr>
              <a:t>The Treaty of Ghent</a:t>
            </a:r>
            <a:endParaRPr b="1" lang="en-US" sz="2400" spc="-1" strike="noStrike">
              <a:solidFill>
                <a:srgbClr val="a50021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December, 1815, British and Americans met in Ghent, Belgium to negotiate a peace trea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5588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Results of the war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American became better all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0840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 gained respect from other countr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1" name="Picture 4" descr="Treaty of Ghent"/>
          <p:cNvPicPr/>
          <p:nvPr/>
        </p:nvPicPr>
        <p:blipFill>
          <a:blip r:embed="rId2"/>
          <a:stretch/>
        </p:blipFill>
        <p:spPr>
          <a:xfrm>
            <a:off x="1447920" y="3886200"/>
            <a:ext cx="3504960" cy="245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4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dddddd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BernhardMod BT"/>
              </a:rPr>
              <a:t>End</a:t>
            </a:r>
            <a:endParaRPr b="1" lang="en-US" sz="4400" spc="-1" strike="noStrike">
              <a:solidFill>
                <a:srgbClr val="a50021"/>
              </a:solidFill>
              <a:latin typeface="BernhardMod B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5"/>
          <p:cNvSpPr/>
          <p:nvPr/>
        </p:nvSpPr>
        <p:spPr>
          <a:xfrm>
            <a:off x="14479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hapter 6, Sec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3809880" y="1752120"/>
            <a:ext cx="518184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a50021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Causes of the War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Impress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and France were fighting a war in Europ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ritain began capturing American sailors and “impressing” them, or forcing them to work on British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07, Britain had seized more than 1,000 American ship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1" name="Picture 11" descr="impressment2"/>
          <p:cNvPicPr/>
          <p:nvPr/>
        </p:nvPicPr>
        <p:blipFill>
          <a:blip r:embed="rId1"/>
          <a:stretch/>
        </p:blipFill>
        <p:spPr>
          <a:xfrm>
            <a:off x="152280" y="1143000"/>
            <a:ext cx="3505320" cy="3006720"/>
          </a:xfrm>
          <a:prstGeom prst="rect">
            <a:avLst/>
          </a:prstGeom>
          <a:ln w="19080">
            <a:solidFill>
              <a:srgbClr val="003366"/>
            </a:solidFill>
            <a:miter/>
          </a:ln>
        </p:spPr>
      </p:pic>
      <p:pic>
        <p:nvPicPr>
          <p:cNvPr id="192" name="Picture 7" descr="1808_11ill"/>
          <p:cNvPicPr/>
          <p:nvPr/>
        </p:nvPicPr>
        <p:blipFill>
          <a:blip r:embed="rId2"/>
          <a:stretch/>
        </p:blipFill>
        <p:spPr>
          <a:xfrm>
            <a:off x="1676520" y="4191120"/>
            <a:ext cx="3352680" cy="2460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9" descr="149-Embargo"/>
          <p:cNvPicPr/>
          <p:nvPr/>
        </p:nvPicPr>
        <p:blipFill>
          <a:blip r:embed="rId1"/>
          <a:stretch/>
        </p:blipFill>
        <p:spPr>
          <a:xfrm>
            <a:off x="76320" y="1523880"/>
            <a:ext cx="3902040" cy="2602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657240" y="1752120"/>
            <a:ext cx="5334120" cy="43434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Embargo Act of 1807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sident Jefferson convinced Congress to declare an embarg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efferson believed the embargo would hurt Britain, but it really hurt Americ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5238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1809, Congress ended the embargo with all countries except Britain and Fr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5" name="Picture 17" descr="no embargo"/>
          <p:cNvPicPr/>
          <p:nvPr/>
        </p:nvPicPr>
        <p:blipFill>
          <a:blip r:embed="rId2"/>
          <a:stretch/>
        </p:blipFill>
        <p:spPr>
          <a:xfrm>
            <a:off x="1371600" y="4137120"/>
            <a:ext cx="3433680" cy="2415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46483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lvl="1" marL="103464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America’s Desire for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saw that Canada was not well-defended by 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478160" indent="-591120">
              <a:spcBef>
                <a:spcPts val="601"/>
              </a:spcBef>
              <a:buClr>
                <a:srgbClr val="000000"/>
              </a:buClr>
              <a:buFont typeface="Georgi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anted more land and believed that people in Canada would want to join the United St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7" name="Picture 11" descr="Map: British North America and the United States at the time of the War"/>
          <p:cNvPicPr/>
          <p:nvPr/>
        </p:nvPicPr>
        <p:blipFill>
          <a:blip r:embed="rId1"/>
          <a:stretch/>
        </p:blipFill>
        <p:spPr>
          <a:xfrm>
            <a:off x="4572000" y="1143000"/>
            <a:ext cx="4516560" cy="5715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809880" y="1752480"/>
            <a:ext cx="5181840" cy="373392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Hawks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group of Republican Congressmen from the South and We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anted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45080" indent="-59724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d by Senator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ohn C. Calhou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South Carolina and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Henry Clary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f Kentuck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99" name="Picture 10" descr="john c calhoun"/>
          <p:cNvPicPr/>
          <p:nvPr/>
        </p:nvPicPr>
        <p:blipFill>
          <a:blip r:embed="rId1"/>
          <a:stretch/>
        </p:blipFill>
        <p:spPr>
          <a:xfrm>
            <a:off x="228600" y="1143000"/>
            <a:ext cx="2765520" cy="3154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henry clay"/>
          <p:cNvPicPr/>
          <p:nvPr/>
        </p:nvPicPr>
        <p:blipFill>
          <a:blip r:embed="rId2"/>
          <a:stretch/>
        </p:blipFill>
        <p:spPr>
          <a:xfrm>
            <a:off x="1371600" y="3657600"/>
            <a:ext cx="2808360" cy="3154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343400" cy="28958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 fontScale="94000"/>
          </a:bodyPr>
          <a:p>
            <a:pPr marL="572760" indent="-572760"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Election of 1808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James Madison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, a Democratic-Republican, w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02600" indent="-572760"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the Spring of 1812, Madison decided to go to war against Britai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2" name="Picture 9" descr="war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4648320" y="3719520"/>
            <a:ext cx="4267080" cy="298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Madison"/>
          <p:cNvPicPr/>
          <p:nvPr/>
        </p:nvPicPr>
        <p:blipFill>
          <a:blip r:embed="rId2"/>
          <a:stretch/>
        </p:blipFill>
        <p:spPr>
          <a:xfrm>
            <a:off x="3386160" y="1403280"/>
            <a:ext cx="3548160" cy="2482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47960" y="1752120"/>
            <a:ext cx="4343400" cy="495324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in Canad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mericans were unprepared for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ritish captured Detroit and the Americans failed to capture Canad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y Native Americans helped the British because they wanted to stop Americans from taking more lan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5" name="Picture 14" descr="war1812"/>
          <p:cNvPicPr/>
          <p:nvPr/>
        </p:nvPicPr>
        <p:blipFill>
          <a:blip r:embed="rId1"/>
          <a:stretch/>
        </p:blipFill>
        <p:spPr>
          <a:xfrm>
            <a:off x="152280" y="114300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5" descr="invade canada"/>
          <p:cNvPicPr/>
          <p:nvPr/>
        </p:nvPicPr>
        <p:blipFill>
          <a:blip r:embed="rId2"/>
          <a:stretch/>
        </p:blipFill>
        <p:spPr>
          <a:xfrm>
            <a:off x="1676520" y="4334040"/>
            <a:ext cx="3714480" cy="2600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6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4953240" cy="4114800"/>
          </a:xfrm>
          <a:prstGeom prst="rect">
            <a:avLst/>
          </a:prstGeom>
          <a:solidFill>
            <a:srgbClr val="cbcbcb">
              <a:alpha val="80000"/>
            </a:srgbClr>
          </a:solidFill>
          <a:ln w="19080">
            <a:solidFill>
              <a:srgbClr val="0033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Font typeface="Georgia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Georgia"/>
              </a:rPr>
              <a:t>The War at Sea</a:t>
            </a:r>
            <a:endParaRPr b="1" lang="en-US" sz="2800" spc="-1" strike="noStrike">
              <a:solidFill>
                <a:srgbClr val="a50021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U.S. Navy was young and outnumber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 November of 1812, the British blockaded the Chesapeake and Delaware Bay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lockade grew throughout the wa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y 1813, most American ships were unable to leave their por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08" name="Picture 15" descr="1812Jansonsinking"/>
          <p:cNvPicPr/>
          <p:nvPr/>
        </p:nvPicPr>
        <p:blipFill>
          <a:blip r:embed="rId1"/>
          <a:stretch/>
        </p:blipFill>
        <p:spPr>
          <a:xfrm>
            <a:off x="5159520" y="1752480"/>
            <a:ext cx="3832200" cy="4953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1" dur="2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18:11:47Z</dcterms:created>
  <dc:creator>Liz Koppany</dc:creator>
  <dc:description/>
  <dc:language>en-US</dc:language>
  <cp:lastModifiedBy>RomaK</cp:lastModifiedBy>
  <dcterms:modified xsi:type="dcterms:W3CDTF">2015-09-04T09:34:37Z</dcterms:modified>
  <cp:revision>77</cp:revision>
  <dc:subject/>
  <dc:title>Slide 1</dc:title>
</cp:coreProperties>
</file>