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media/image25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FEFA-E80D-404B-A965-A751037280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on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for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invaded Washington, D.C. in 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soldiers burned the Capitol, the White House, and other public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British burned the White House, Dolley Madison saved a famous painting of George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on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for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invaded Washington, D.C. in 18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soldiers burned the Capitol, the White House, and other public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British burned the White House, Dolley Madison saved a famous painting of 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at Fort McHen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s Scott Key: an American lawyer and prisoner of the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w an American flag flying over Ft. McHenry after the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g inspired Key to write “The Star-Spangled Bann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at Fort McHen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s Scott Key: an American lawyer and prisoner of the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w an American flag flying over Ft. McHenry after the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g inspired Key to write “The Star-Spangled Bann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of New Orleans (18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famous/important battle of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lead to victory by General Andrew Jack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continued even after the war ended because word did not reach the Americans for several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of New Orleans (18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famous/important battle of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lead to victory by General Andrew Jack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continued even after the war ended because word did not reach the Americans for several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aty of Gh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December, 1815, British and Americans met in Ghent, Belgium to negotiate a peace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the w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American became better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gained respect from other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aty of Gh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December, 1815, British and Americans met in Ghent, Belgium to negotiate a peace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the wa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American became better al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gained respect from other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ter 6, Sec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ter 6, Sec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France were fighting a war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began capturing American sailors and “impressing” them, or forcing them to work on British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07, Britain had seized more than 1,000 Americ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France were fighting a war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began capturing American sailors and “impressing” them, or forcing them to work on British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07, Britain had seized more than 1,000 American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 Act of 1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efferson convinced Congress to declare an emb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erson believed the embargo would hurt Britain, but it really hur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09, Congress ended the embargo with all countries except Britain and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 Act of 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efferson convinced Congress to declare an emb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erson believed the embargo would hurt Britain, but it really hurt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09, Congress ended the embargo with all countries except Britain and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’s Desire for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saw that Canada was not well-defended by 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anted more land and believed that people in Canada would want to jo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’s Desire for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saw that Canada was not well-defended by 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anted more land and believed that people in Canada would want to jo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Haw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Republican Congressmen from the South and W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war agains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by Senator John C. Calhoun of South Carolina and Henry Clary of Kentuc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Haw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Republican Congressmen from the South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war agains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by Senator John C. Calhoun of South Carolina and Henry Clary of Kentuc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of 18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, a Democratic-Republican, w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pring of 1812, Madison decided to go to war agains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of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, a Democratic-Republican, w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pring of 1812, Madison decided to go to war agains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in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unprepared for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captured Detroit and the Americans failed to capture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Native Americans helped the British because they wanted to stop Americans from taking mor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in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unprepared for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captured Detroit and the Americans failed to captur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Native Americans helped the British because they wanted to stop Americans from taking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at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y was young and out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ovember of 1812, the British blockaded the Chesapeake and Delaware B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ade grew throughout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13, most American ships were unable to leave their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at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y was young and outnumb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ovember of 1812, the British blockaded the Chesapeake and Delaware B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ade grew throughout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13, most American ships were unable to leave their 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6626-18E1-4AF6-9F2D-D72BBCFE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B7EF-F6F8-44F2-B44C-5236456B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B109-56D2-45F3-98CF-B55121D6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0A90-7991-4547-96B1-8FFFBECA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AC1D-27E6-4167-9546-665C6148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8C40-B615-4182-B3B8-1695125A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9E1B-59FD-49C6-9A36-AA65BFB1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DC2C-2708-458B-B2AF-6A112EC1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A230-0A13-43BF-B8A8-6CEA2B91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E8A5-2124-46AA-BE4A-34F01FB9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F145-7E21-4E79-8243-34E74AE0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64C1-F553-4B22-885F-0D99890F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F16D-3ADE-451D-A4BD-F838875F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DDC7-4DFF-47E0-8872-B0AB0C9D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1FB2-3B73-46F5-BAF6-1D68141C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5B97-7950-4DE0-B7B2-68352E32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5E83-2ECD-4E10-A772-FFDA0BFE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07F9F-D944-4A2A-B68C-6B7D4148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24EBB-40EE-41F1-9001-7A631874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16442-BA5D-467B-888E-AFA2DBE4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9638A-27DD-4312-ABC1-FC3E20F9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F58CA-94E4-49BF-A7E1-A2AD2D18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B61E-25D6-46E3-A7AD-A4330DBA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E816B-B0DD-4DAF-912E-976046F5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F2501-3D34-48FC-996C-E6574F53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28A91-C7CF-43C4-94C4-EB75DC22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E3749-0C0D-407D-82BA-B937C17A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010D3-D9A6-44FC-A5EF-5E2D3C36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45F3A-E73B-4AD7-BD7D-65AB77DB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45C0B-EA6D-4C87-9DB1-CB1C7A80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EB395-5E7A-4708-848A-CBC10E0F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F4B4D-EF82-4D85-9DC5-F4445763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D26F3-1034-420D-B89D-E9D7D9E5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18DF-F3FD-4B4E-BD90-355D7B84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EDD38-FEE1-4FD9-A149-7C63C28A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2C99B-F5AD-4B77-A22A-CE4EEAE3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2F730-F3B2-4733-83C1-1114EAB1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9CA64-5447-475F-987E-AA6D26D3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F1D47-3AA6-4B54-9058-8C3F3D5E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8DF32-0394-4C46-B18F-E71FEC4D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DA616-8A16-4AC5-84C1-064FC124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43C05-E4F8-4BDD-B241-80663685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D6AFA-4760-4713-9B0F-C709F53A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CD3D-6CF1-4475-BEF2-7A51296C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613-CC16-4262-84AA-3E972D9C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ABFB-ADCA-422B-A03F-E050E2F6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E8BE-3B1F-4025-875F-E290AB99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80B2-2BC9-45E5-AA75-057BA10B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Rectangle 3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00000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96969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Click to edit the outline text format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con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Thir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3" marL="19810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our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4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if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5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ix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6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ven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6A0C-F0AC-4714-9A53-656EFED00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C9A4-722A-4257-8400-F0FE1F88B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E53A-443A-4DFF-86ED-FC8CF4783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131" name="Rectangle 3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00000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96969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5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134" name="Freeform 6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7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8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9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Click to edit the outline text format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con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Thir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3" marL="19810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our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4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if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5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ix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6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ven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9668-D985-414B-83A2-2F6047CE7DD1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BernhardMod BT"/>
              </a:rPr>
              <a:t>Click to edit the title text format</a:t>
            </a: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map 1812"/>
          <p:cNvPicPr/>
          <p:nvPr/>
        </p:nvPicPr>
        <p:blipFill>
          <a:blip r:embed="rId1"/>
          <a:stretch/>
        </p:blipFill>
        <p:spPr>
          <a:xfrm>
            <a:off x="762120" y="3240"/>
            <a:ext cx="7772400" cy="683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2" descr="123"/>
          <p:cNvPicPr/>
          <p:nvPr/>
        </p:nvPicPr>
        <p:blipFill>
          <a:blip r:embed="rId1"/>
          <a:stretch/>
        </p:blipFill>
        <p:spPr>
          <a:xfrm>
            <a:off x="304920" y="1143000"/>
            <a:ext cx="2617560" cy="32004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038120" y="1447560"/>
            <a:ext cx="4953240" cy="5257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on Land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attle for Washingt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ritish invaded Washington, D.C. in 181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ish soldiers burned the Capitol, the White House, and other public building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fore the British burned the White House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olley Madis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saved a famous painting of George Washingt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2" name="Picture 25" descr="Dolly Fire"/>
          <p:cNvPicPr/>
          <p:nvPr/>
        </p:nvPicPr>
        <p:blipFill>
          <a:blip r:embed="rId2"/>
          <a:stretch/>
        </p:blipFill>
        <p:spPr>
          <a:xfrm>
            <a:off x="1371600" y="3887640"/>
            <a:ext cx="4038480" cy="282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886200" y="1752480"/>
            <a:ext cx="5105520" cy="4114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attle at Fort McHenr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Francis Scott Ke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an American lawyer and prisoner of the Britis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w an American flag flying over Ft. McHenry after the batt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flag inspired Key to write “The Star-Spangled Banner”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4" name="Picture 3" descr="FortMcHenry1814a"/>
          <p:cNvPicPr/>
          <p:nvPr/>
        </p:nvPicPr>
        <p:blipFill>
          <a:blip r:embed="rId1"/>
          <a:stretch/>
        </p:blipFill>
        <p:spPr>
          <a:xfrm>
            <a:off x="228600" y="1143000"/>
            <a:ext cx="2619360" cy="3429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flag"/>
          <p:cNvPicPr/>
          <p:nvPr/>
        </p:nvPicPr>
        <p:blipFill>
          <a:blip r:embed="rId2"/>
          <a:stretch/>
        </p:blipFill>
        <p:spPr>
          <a:xfrm>
            <a:off x="1542960" y="4324320"/>
            <a:ext cx="3181320" cy="238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5192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Georgia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</a:rPr>
              <a:t>The Battle of New Orleans (1815)</a:t>
            </a:r>
            <a:endParaRPr b="1" lang="en-US" sz="24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most famous/important battle of the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ere lead to victory by General Andrew Jacks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attle continued even after the war ended because word did not reach the Americans for several week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7" name="Picture 8" descr="bonorr"/>
          <p:cNvPicPr/>
          <p:nvPr/>
        </p:nvPicPr>
        <p:blipFill>
          <a:blip r:embed="rId1"/>
          <a:stretch/>
        </p:blipFill>
        <p:spPr>
          <a:xfrm>
            <a:off x="6019920" y="3733920"/>
            <a:ext cx="2933640" cy="2943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ajackson"/>
          <p:cNvPicPr/>
          <p:nvPr/>
        </p:nvPicPr>
        <p:blipFill>
          <a:blip r:embed="rId2"/>
          <a:stretch/>
        </p:blipFill>
        <p:spPr>
          <a:xfrm>
            <a:off x="4672080" y="1219320"/>
            <a:ext cx="2185920" cy="283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Ghent"/>
          <p:cNvPicPr/>
          <p:nvPr/>
        </p:nvPicPr>
        <p:blipFill>
          <a:blip r:embed="rId1"/>
          <a:stretch/>
        </p:blipFill>
        <p:spPr>
          <a:xfrm>
            <a:off x="380880" y="1295280"/>
            <a:ext cx="3505320" cy="24544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4796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Georgia"/>
              <a:buAutoNum type="alpha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</a:rPr>
              <a:t>The Treaty of Ghent</a:t>
            </a:r>
            <a:endParaRPr b="1" lang="en-US" sz="2400" spc="-1" strike="noStrike">
              <a:solidFill>
                <a:srgbClr val="a50021"/>
              </a:solidFill>
              <a:latin typeface="Georgia"/>
            </a:endParaRPr>
          </a:p>
          <a:p>
            <a:pPr lvl="1" marL="105588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December, 1815, British and Americans met in Ghent, Belgium to negotiate a peace trea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5588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Results of the wa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0840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and American became better all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0840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 gained respect from other count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Picture 4" descr="Treaty of Ghent"/>
          <p:cNvPicPr/>
          <p:nvPr/>
        </p:nvPicPr>
        <p:blipFill>
          <a:blip r:embed="rId2"/>
          <a:stretch/>
        </p:blipFill>
        <p:spPr>
          <a:xfrm>
            <a:off x="1447920" y="3886200"/>
            <a:ext cx="3504960" cy="2454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3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dddddd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ernhardMod BT"/>
              </a:rPr>
              <a:t>End</a:t>
            </a: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1447920" y="10666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Chapter 6, Sec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809880" y="1752120"/>
            <a:ext cx="51818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Causes of the War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mpress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and France were fighting a war in Europ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began capturing American sailors and “impressing” them, or forcing them to work on British shi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y 1807, Britain had seized more than 1,000 American shi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1" name="Picture 11" descr="impressment2"/>
          <p:cNvPicPr/>
          <p:nvPr/>
        </p:nvPicPr>
        <p:blipFill>
          <a:blip r:embed="rId1"/>
          <a:stretch/>
        </p:blipFill>
        <p:spPr>
          <a:xfrm>
            <a:off x="152280" y="1143000"/>
            <a:ext cx="3505320" cy="3006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92" name="Picture 7" descr="1808_11ill"/>
          <p:cNvPicPr/>
          <p:nvPr/>
        </p:nvPicPr>
        <p:blipFill>
          <a:blip r:embed="rId2"/>
          <a:stretch/>
        </p:blipFill>
        <p:spPr>
          <a:xfrm>
            <a:off x="1676520" y="4191120"/>
            <a:ext cx="3352680" cy="246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9" descr="149-Embargo"/>
          <p:cNvPicPr/>
          <p:nvPr/>
        </p:nvPicPr>
        <p:blipFill>
          <a:blip r:embed="rId1"/>
          <a:stretch/>
        </p:blipFill>
        <p:spPr>
          <a:xfrm>
            <a:off x="76320" y="1523880"/>
            <a:ext cx="3902040" cy="2602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657240" y="1752120"/>
            <a:ext cx="5334120" cy="43434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Embargo Act of 180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sident Jefferson convinced Congress to declare an embarg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efferson believed the embargo would hurt Britain, but it really hurt Americ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1809, Congress ended the embargo with all countries except Britain and Fr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5" name="Picture 17" descr="no embargo"/>
          <p:cNvPicPr/>
          <p:nvPr/>
        </p:nvPicPr>
        <p:blipFill>
          <a:blip r:embed="rId2"/>
          <a:stretch/>
        </p:blipFill>
        <p:spPr>
          <a:xfrm>
            <a:off x="1371600" y="4137120"/>
            <a:ext cx="3433680" cy="2415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343400" cy="464832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merica’s Desire for Cana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saw that Canada was not well-defended by 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anted more land and believed that people in Canada would want to join the United Stat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7" name="Picture 11" descr="Map: British North America and the United States at the time of the War"/>
          <p:cNvPicPr/>
          <p:nvPr/>
        </p:nvPicPr>
        <p:blipFill>
          <a:blip r:embed="rId1"/>
          <a:stretch/>
        </p:blipFill>
        <p:spPr>
          <a:xfrm>
            <a:off x="4572000" y="1143000"/>
            <a:ext cx="4516560" cy="571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809880" y="1752480"/>
            <a:ext cx="5181840" cy="373392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Hawks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group of Republican Congressmen from the South and Wes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anted war against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d by Senator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John C. Calhou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South Carolina and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enry Clar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Kentuck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9" name="Picture 10" descr="john c calhoun"/>
          <p:cNvPicPr/>
          <p:nvPr/>
        </p:nvPicPr>
        <p:blipFill>
          <a:blip r:embed="rId1"/>
          <a:stretch/>
        </p:blipFill>
        <p:spPr>
          <a:xfrm>
            <a:off x="228600" y="1143000"/>
            <a:ext cx="2765520" cy="3154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henry clay"/>
          <p:cNvPicPr/>
          <p:nvPr/>
        </p:nvPicPr>
        <p:blipFill>
          <a:blip r:embed="rId2"/>
          <a:stretch/>
        </p:blipFill>
        <p:spPr>
          <a:xfrm>
            <a:off x="1371600" y="3657600"/>
            <a:ext cx="2808360" cy="3154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343400" cy="28958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Election of 1808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02600" indent="-57276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James Madis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a Democratic-Republican, w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02600" indent="-57276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the Spring of 1812, Madison decided to go to war against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2" name="Picture 9" descr="war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4648320" y="3719520"/>
            <a:ext cx="4267080" cy="298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Madison"/>
          <p:cNvPicPr/>
          <p:nvPr/>
        </p:nvPicPr>
        <p:blipFill>
          <a:blip r:embed="rId2"/>
          <a:stretch/>
        </p:blipFill>
        <p:spPr>
          <a:xfrm>
            <a:off x="3386160" y="1403280"/>
            <a:ext cx="3548160" cy="248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4796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in Canada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ere unprepared for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ritish captured Detroit and the Americans failed to capture Cana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ny Native Americans helped the British because they wanted to stop Americans from taking more la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5" name="Picture 14" descr="war1812"/>
          <p:cNvPicPr/>
          <p:nvPr/>
        </p:nvPicPr>
        <p:blipFill>
          <a:blip r:embed="rId1"/>
          <a:stretch/>
        </p:blipFill>
        <p:spPr>
          <a:xfrm>
            <a:off x="152280" y="11430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invade canada"/>
          <p:cNvPicPr/>
          <p:nvPr/>
        </p:nvPicPr>
        <p:blipFill>
          <a:blip r:embed="rId2"/>
          <a:stretch/>
        </p:blipFill>
        <p:spPr>
          <a:xfrm>
            <a:off x="1676520" y="4334040"/>
            <a:ext cx="3714480" cy="260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953240" cy="4114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at Sea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U.S. Navy was young and outnumber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November of 1812, the British blockaded the Chesapeake and Delaware Bay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lockade grew throughout the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y 1813, most American ships were unable to leave their por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8" name="Picture 15" descr="1812Jansonsinking"/>
          <p:cNvPicPr/>
          <p:nvPr/>
        </p:nvPicPr>
        <p:blipFill>
          <a:blip r:embed="rId1"/>
          <a:stretch/>
        </p:blipFill>
        <p:spPr>
          <a:xfrm>
            <a:off x="5159520" y="1752480"/>
            <a:ext cx="3832200" cy="495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18:11:47Z</dcterms:created>
  <dc:creator>Liz Koppany</dc:creator>
  <dc:description/>
  <dc:language>en-US</dc:language>
  <cp:lastModifiedBy>RomaK</cp:lastModifiedBy>
  <dcterms:modified xsi:type="dcterms:W3CDTF">2015-09-04T09:34:37Z</dcterms:modified>
  <cp:revision>77</cp:revision>
  <dc:subject/>
  <dc:title>Slide 1</dc:title>
</cp:coreProperties>
</file>