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AB82-17B7-4124-AF04-922BF5833D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9D88-47AD-4A04-9F61-55364C3E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E38E-E761-4E85-9BF8-3BEF82AD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964-0910-434A-8DAC-3ED77CA7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CD3F-0321-4A7F-9CAA-EBC61981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E0D9-B01C-4ECE-A34D-9257CFDF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8951-78DF-4282-8A61-A67D1E47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61D6-4CFB-4394-8F5F-E7F3AFD9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60A9-84B8-4652-A89A-40B0E98E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1CB9-6058-4AC7-91EA-725E144D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C80F-485B-4D59-817D-B5761FDD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1F72-C476-49D3-8EE1-FDAA3095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79E-AE2E-4F2D-A157-671490DF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9D50-080F-4931-B815-D4EEF61B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C17B-B071-4AA3-8637-F855D119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E53C-026C-4092-BC02-63FBE001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3F1E-333F-4492-8A63-3BAEC66A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AAA0-12FA-447C-9838-D5A1A0EF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A7113-7587-4793-BD99-FC38718D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EF922-9890-4122-9F5B-85722FB8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26FCA-4601-42D0-A8A2-D7E10CC8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EAF1E-C32A-4C60-A213-6CA09E82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8AB78-17B9-4914-9312-10B67B1F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6EC1-8EC3-4CEA-8582-7C32BFFA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9996A-FF98-45DD-9C80-D1664458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AFA3E-6E9A-44EE-8431-34072612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4AF7D-27B4-417E-9D64-21EDCF8A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DCCF6-B2EA-4B88-AD0E-E7547216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62B50-825F-4C76-87B8-13839F6A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4402D-F114-468B-AB3D-F998B182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B9E89-C921-4FE0-903D-9B052EB9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78B54-8A66-4423-8072-BEA05FC7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DAE62-58F3-4AAA-989D-E50B68A9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C7882-9192-4656-A3D4-CA07092F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ABD-47B3-4848-A2E5-36D555AC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B1330-8F0F-4D04-A456-A9C43D06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5AA48-00D7-4A3B-B4C2-7C5F2818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05BF6-A40F-4522-8282-B92366E5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F08EC-BD48-4B53-A51F-6E48F6AD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7C3F5-ECA2-457F-9D1B-5E75B209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05E70-704D-4A80-8488-B1517D54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18D4A-9CA2-46A5-8DCE-DD1021B5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D01BB-05C1-4709-AB61-B6AF5B67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4EF4B-DC2F-412C-BF31-5733A4F7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468-A55D-425E-86C2-E5E0B27B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D1E-4958-4FF5-9B74-F92A0F6C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3C7-0A9F-4370-B4EA-CD376BE4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88B-9CDC-43A7-BB38-64500C66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A89-34DA-4B48-B1AB-3A813F92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Rectangle 3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15C5-2620-4164-85FA-7853F4D85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F70A-C2CD-42A0-8D64-A7FE4FC5E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4EBF-E441-4E5C-ABD4-299EE9F8E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131" name="Rectangle 3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5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134" name="Freeform 6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8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9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C608-F8BD-4E00-AA37-335B674592AB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ernhardMod BT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map 1812"/>
          <p:cNvPicPr/>
          <p:nvPr/>
        </p:nvPicPr>
        <p:blipFill>
          <a:blip r:embed="rId1"/>
          <a:stretch/>
        </p:blipFill>
        <p:spPr>
          <a:xfrm>
            <a:off x="762120" y="3240"/>
            <a:ext cx="7772400" cy="683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2" descr="123"/>
          <p:cNvPicPr/>
          <p:nvPr/>
        </p:nvPicPr>
        <p:blipFill>
          <a:blip r:embed="rId1"/>
          <a:stretch/>
        </p:blipFill>
        <p:spPr>
          <a:xfrm>
            <a:off x="304920" y="1143000"/>
            <a:ext cx="2617560" cy="3200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038120" y="1447560"/>
            <a:ext cx="4953240" cy="5257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on Land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for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invaded Washington, D.C. in 181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ish soldiers burned the Capitol, the White House, and other public building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fore the British burned the White House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olley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aved a famous painting of George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2" name="Picture 25" descr="Dolly Fire"/>
          <p:cNvPicPr/>
          <p:nvPr/>
        </p:nvPicPr>
        <p:blipFill>
          <a:blip r:embed="rId2"/>
          <a:stretch/>
        </p:blipFill>
        <p:spPr>
          <a:xfrm>
            <a:off x="1371600" y="3887640"/>
            <a:ext cx="4038480" cy="282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886200" y="1752480"/>
            <a:ext cx="510552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at Fort McHenr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rancis Scott Ke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an American lawyer and prisoner of the Britis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w an American flag flying over Ft. McHenry after the batt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flag inspired Key to write “The Star-Spangled Banner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4" name="Picture 3" descr="FortMcHenry1814a"/>
          <p:cNvPicPr/>
          <p:nvPr/>
        </p:nvPicPr>
        <p:blipFill>
          <a:blip r:embed="rId1"/>
          <a:stretch/>
        </p:blipFill>
        <p:spPr>
          <a:xfrm>
            <a:off x="228600" y="1143000"/>
            <a:ext cx="2619360" cy="3429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flag"/>
          <p:cNvPicPr/>
          <p:nvPr/>
        </p:nvPicPr>
        <p:blipFill>
          <a:blip r:embed="rId2"/>
          <a:stretch/>
        </p:blipFill>
        <p:spPr>
          <a:xfrm>
            <a:off x="1542960" y="4324320"/>
            <a:ext cx="3181320" cy="23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5192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Battle of New Orleans (1815)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most famous/important battle of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lead to victory by General Andrew Jack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attle continued even after the war ended because word did not reach the Americans for several week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Picture 8" descr="bonorr"/>
          <p:cNvPicPr/>
          <p:nvPr/>
        </p:nvPicPr>
        <p:blipFill>
          <a:blip r:embed="rId1"/>
          <a:stretch/>
        </p:blipFill>
        <p:spPr>
          <a:xfrm>
            <a:off x="6019920" y="3733920"/>
            <a:ext cx="2933640" cy="294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ajackson"/>
          <p:cNvPicPr/>
          <p:nvPr/>
        </p:nvPicPr>
        <p:blipFill>
          <a:blip r:embed="rId2"/>
          <a:stretch/>
        </p:blipFill>
        <p:spPr>
          <a:xfrm>
            <a:off x="4672080" y="1219320"/>
            <a:ext cx="2185920" cy="283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Ghent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24544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Treaty of Ghent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December, 1815, British and Americans met in Ghent, Belgium to negotiate a peace trea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esults of the wa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American became better all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 gained respect from other count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4" descr="Treaty of Ghent"/>
          <p:cNvPicPr/>
          <p:nvPr/>
        </p:nvPicPr>
        <p:blipFill>
          <a:blip r:embed="rId2"/>
          <a:stretch/>
        </p:blipFill>
        <p:spPr>
          <a:xfrm>
            <a:off x="1447920" y="3886200"/>
            <a:ext cx="3504960" cy="245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dddddd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ernhardMod BT"/>
              </a:rPr>
              <a:t>End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1447920" y="10666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hapter 6, Sec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809880" y="1752120"/>
            <a:ext cx="51818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auses of the War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France were fighting a war in Europ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began capturing American sailors and “impressing” them, or forcing them to work on British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07, Britain had seized more than 1,000 American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1" name="Picture 11" descr="impressment2"/>
          <p:cNvPicPr/>
          <p:nvPr/>
        </p:nvPicPr>
        <p:blipFill>
          <a:blip r:embed="rId1"/>
          <a:stretch/>
        </p:blipFill>
        <p:spPr>
          <a:xfrm>
            <a:off x="152280" y="1143000"/>
            <a:ext cx="3505320" cy="3006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92" name="Picture 7" descr="1808_11ill"/>
          <p:cNvPicPr/>
          <p:nvPr/>
        </p:nvPicPr>
        <p:blipFill>
          <a:blip r:embed="rId2"/>
          <a:stretch/>
        </p:blipFill>
        <p:spPr>
          <a:xfrm>
            <a:off x="1676520" y="4191120"/>
            <a:ext cx="3352680" cy="246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9" descr="149-Embargo"/>
          <p:cNvPicPr/>
          <p:nvPr/>
        </p:nvPicPr>
        <p:blipFill>
          <a:blip r:embed="rId1"/>
          <a:stretch/>
        </p:blipFill>
        <p:spPr>
          <a:xfrm>
            <a:off x="76320" y="1523880"/>
            <a:ext cx="3902040" cy="2602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657240" y="1752120"/>
            <a:ext cx="5334120" cy="43434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Embargo Act of 180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sident Jefferson convinced Congress to declare an embarg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efferson believed the embargo would hurt Britain, but it really hurt Americ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1809, Congress ended the embargo with all countries except Britain and Fr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5" name="Picture 17" descr="no embargo"/>
          <p:cNvPicPr/>
          <p:nvPr/>
        </p:nvPicPr>
        <p:blipFill>
          <a:blip r:embed="rId2"/>
          <a:stretch/>
        </p:blipFill>
        <p:spPr>
          <a:xfrm>
            <a:off x="1371600" y="4137120"/>
            <a:ext cx="3433680" cy="241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46483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merica’s Desire for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saw that Canada was not well-defended by 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anted more land and believed that people in Canada would want to join the United St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7" name="Picture 11" descr="Map: British North America and the United States at the time of the War"/>
          <p:cNvPicPr/>
          <p:nvPr/>
        </p:nvPicPr>
        <p:blipFill>
          <a:blip r:embed="rId1"/>
          <a:stretch/>
        </p:blipFill>
        <p:spPr>
          <a:xfrm>
            <a:off x="4572000" y="1143000"/>
            <a:ext cx="451656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809880" y="1752480"/>
            <a:ext cx="5181840" cy="37339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Hawks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group of Republican Congressmen from the South and We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anted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d by Senator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ohn C. Calhou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South Carolina and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enry Clar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Kentuck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9" name="Picture 10" descr="john c calhoun"/>
          <p:cNvPicPr/>
          <p:nvPr/>
        </p:nvPicPr>
        <p:blipFill>
          <a:blip r:embed="rId1"/>
          <a:stretch/>
        </p:blipFill>
        <p:spPr>
          <a:xfrm>
            <a:off x="228600" y="1143000"/>
            <a:ext cx="2765520" cy="3154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henry clay"/>
          <p:cNvPicPr/>
          <p:nvPr/>
        </p:nvPicPr>
        <p:blipFill>
          <a:blip r:embed="rId2"/>
          <a:stretch/>
        </p:blipFill>
        <p:spPr>
          <a:xfrm>
            <a:off x="1371600" y="3657600"/>
            <a:ext cx="2808360" cy="315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28958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Election of 1808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ames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a Democratic-Republican, w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the Spring of 1812, Madison decided to go to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2" name="Picture 9" descr="war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4648320" y="3719520"/>
            <a:ext cx="4267080" cy="29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Madison"/>
          <p:cNvPicPr/>
          <p:nvPr/>
        </p:nvPicPr>
        <p:blipFill>
          <a:blip r:embed="rId2"/>
          <a:stretch/>
        </p:blipFill>
        <p:spPr>
          <a:xfrm>
            <a:off x="3386160" y="1403280"/>
            <a:ext cx="3548160" cy="248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in Canad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unprepared for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captured Detroit and the Americans failed to capture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y Native Americans helped the British because they wanted to stop Americans from taking more la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5" name="Picture 14" descr="war1812"/>
          <p:cNvPicPr/>
          <p:nvPr/>
        </p:nvPicPr>
        <p:blipFill>
          <a:blip r:embed="rId1"/>
          <a:stretch/>
        </p:blipFill>
        <p:spPr>
          <a:xfrm>
            <a:off x="152280" y="11430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invade canada"/>
          <p:cNvPicPr/>
          <p:nvPr/>
        </p:nvPicPr>
        <p:blipFill>
          <a:blip r:embed="rId2"/>
          <a:stretch/>
        </p:blipFill>
        <p:spPr>
          <a:xfrm>
            <a:off x="1676520" y="4334040"/>
            <a:ext cx="3714480" cy="26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95324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at Se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U.S. Navy was young and outnumber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November of 1812, the British blockaded the Chesapeake and Delaware Bay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lockade grew throughout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13, most American ships were unable to leave their por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8" name="Picture 15" descr="1812Jansonsinking"/>
          <p:cNvPicPr/>
          <p:nvPr/>
        </p:nvPicPr>
        <p:blipFill>
          <a:blip r:embed="rId1"/>
          <a:stretch/>
        </p:blipFill>
        <p:spPr>
          <a:xfrm>
            <a:off x="5159520" y="1752480"/>
            <a:ext cx="3832200" cy="495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18:11:47Z</dcterms:created>
  <dc:creator>Liz Koppany</dc:creator>
  <dc:description/>
  <dc:language>en-US</dc:language>
  <cp:lastModifiedBy>RomaK</cp:lastModifiedBy>
  <dcterms:modified xsi:type="dcterms:W3CDTF">2015-09-04T09:34:37Z</dcterms:modified>
  <cp:revision>77</cp:revision>
  <dc:subject/>
  <dc:title>Slide 1</dc:title>
</cp:coreProperties>
</file>