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8960-04FF-44A2-B544-0C5276BBE77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50324-2E44-4931-BD22-DE765BA4A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1532E-1D7E-444F-8746-ACF07B505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3C313-A5B8-4916-8912-80CAB8E4E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83E1A-5669-4E6B-AE50-56178265C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48DB3-9314-4C5C-853D-CCB42085B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D404C-AB24-43D2-982F-A9923ABE3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83D4C-56BB-47A7-B94C-5300CBAF2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7B03E-72ED-46DC-BDD0-83DCD90CC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4B2A1-F55D-4A7B-B260-60709CA87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754A7-19A8-4C02-B28A-AE058407D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30372-10D5-40C2-AFAD-BE7166D08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DE9E2-FEF1-4428-A66E-2BD88DC11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5E11-DE23-4637-812F-65B6B010EB34}"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34:43Z</dcterms:modified>
  <cp:revision>20</cp:revision>
  <dc:subject/>
  <dc:title>PowerPoint Presentation</dc:title>
</cp:coreProperties>
</file>