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1AFA-7887-4845-AE82-7A4BA6666C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E2D-F5D7-4F3C-819D-C6346B5F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43F-D3D3-4EE4-B68F-DA4A9698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60B-A1EA-4D91-BC14-C7C51EB4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562-E837-43BE-A208-ACB9658C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9B8-1BB9-4E6C-AF55-ACE2BBC9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60E-3DA2-40CE-86AF-5192D54D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E99-5C77-4BBF-987C-0E7F7663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54C-F422-4BEC-9B6B-57D5E553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F7C-88D7-42AC-B6E1-DBE6A880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A24-2293-41F6-A8C9-67D14963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655-D10B-44E8-980B-587AF33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CA9-721B-4976-88C5-26FB021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3E7E-4740-407C-84A4-4A87C96752D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RomaK</cp:lastModifiedBy>
  <dcterms:modified xsi:type="dcterms:W3CDTF">2015-09-04T09:34:50Z</dcterms:modified>
  <cp:revision>8</cp:revision>
  <dc:subject>Trench Warfare in WWI</dc:subject>
  <dc:title>Trench Warfare in WWI</dc:title>
</cp:coreProperties>
</file>