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B8BA-913B-404C-98AA-8AE5961CE0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53A-2466-4540-A306-BD3C88B9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3B4-2660-456F-AEC3-B969F753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AF6-7B46-48DD-87EE-1CB4218C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DF3-4183-4917-AB36-C7691AF4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834-AAFA-4F97-9B71-B24E9121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02B-8E59-4917-8F75-EA7791B4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219-D512-4FD6-8D5E-FE26C98B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FEB-CC14-4528-AF26-58B8C4B2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60F-2B7B-419E-8240-6A1EA92C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42F-AE56-43EA-BB15-F6FDCF32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B7A-17F2-46B7-82B0-B8B1E98D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0B5-AA3F-4687-A7B6-43444917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D002-5BA2-43F4-AD53-3C23153AEB4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RomaK</cp:lastModifiedBy>
  <dcterms:modified xsi:type="dcterms:W3CDTF">2015-09-04T09:34:50Z</dcterms:modified>
  <cp:revision>8</cp:revision>
  <dc:subject>Trench Warfare in WWI</dc:subject>
  <dc:title>Trench Warfare in WWI</dc:title>
</cp:coreProperties>
</file>