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4130-00A6-4E0F-A63B-A7DBBE76440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3DAD-E26F-42E1-A0CB-2134B153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902-5E3E-45BF-81F7-DFE1E4BB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2B6-CFD0-4166-937B-62C2F1BB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AA8D-5586-4595-92B4-C57AA427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971E-D4FB-47CA-A4BF-64DE6DEF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C004-89BF-4DA9-89BD-7F9B8257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FB84-E542-4975-8004-4C439DBD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EA3B-C766-4CA8-86B9-08180AAA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6D1E-294E-4ED0-92A8-9A8C139A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425A-9B60-4126-AD47-A9DF3B45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BC72-4DA0-443E-9E1B-C8172019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367-0E04-4D90-9286-2B3191E0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0E0C-8C2B-499C-95B4-DB563692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D803-CB3F-4D7C-A847-C6E9C579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0CA3-3037-4D1A-815F-12B7CD9A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CA39-44D0-44BD-93B6-80A927A7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28E1-94A9-47D2-BD05-27893965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DBD1D-2AE9-478D-9409-DA9C8B57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ABA59-1121-467A-8781-AE1A7B38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FC720-2323-4402-93AD-F7C15A6F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E0BBB-C77D-4391-BA0F-9AF3AF97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C1A74-8D6B-4C5A-A11F-A40AF1F1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7B4-D398-4990-8A4E-25F34389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77445-765E-44FD-99E1-47A158D5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85E2B-6C0B-40DC-B60B-35B877BC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9AAC9-C5B5-40D6-9212-4D2DF7E9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8F95B-6F68-423A-B9E7-579EEC02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B8D34-B7F0-496F-9AFD-2A721C71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D08A0-BDD8-450F-965D-E08DA412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E5E77-49EE-4642-AFCD-9D54F017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4F945-DC7E-4843-84C2-D84171B5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C12A4-466F-4047-92BE-97CE1CB1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075D6-E6DF-413B-A735-B147E25D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6D7-E356-42A8-B306-B750A6C0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D495-BF7C-4D6D-9ED9-06E59B83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64F2A-AB3E-49DD-98AF-F6E8355B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7BC93-C3DE-4E66-9461-DFE47AC3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8298A-B85B-4CA3-A57F-9151EE42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584E1-CB39-4D8B-9FB0-D3090492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30E37-5A1E-4329-8B5E-5B0E76B9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9ED67-3E05-40C8-839F-93C4833A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1E927-EEFA-4FAA-A81F-080A7983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15CAC-9069-43AC-BF60-F229B707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8546F-06E4-4E0F-9B48-59376413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64A-4049-43A3-8D6F-2BFC2CCB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3A05C-5DBB-4627-870E-5A322167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A4B54-3CAD-4BCF-8177-25270A27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E558B-CBC8-4A11-96D7-1D545705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0DD0E-44C1-4812-937F-7FF440EE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8F17A-A92D-4F1E-A6BE-D48E8DB4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2DC50-F4B6-4ED7-8187-F12D824F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E131D-359E-41B6-9DF7-7849B860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D0AD7-AD24-4173-9B4C-D7F2BE02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C2EDD-1201-4BE3-BAC9-C76CB1CC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E77CF-BF1B-4D0F-A8D3-FA909A60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8D0-3598-4EDA-83C1-4B01EC6C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F7F5A-5073-4EA3-8215-844E5C86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CB4-78F8-4DF5-981F-5B7298F3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46A2-01CE-4EC2-9C9A-B6CD59B5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CF6-F61C-475D-90CE-DB272357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D106-0CFD-4408-AD57-E272270A4CC0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B892-BA07-4D35-AE67-AEA0386363DE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94C8-81F6-47B4-AC32-EA58B20D88D5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B908-8583-4742-89C2-5B35A465A82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8689-4E73-48B3-AA41-A720FBB6194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1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89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2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0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5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7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0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20840" y="433440"/>
            <a:ext cx="5924520" cy="43466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9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4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59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4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69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1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896760" y="593640"/>
            <a:ext cx="3353040" cy="5197680"/>
          </a:xfrm>
          <a:prstGeom prst="rect">
            <a:avLst/>
          </a:prstGeom>
          <a:ln w="0">
            <a:noFill/>
          </a:ln>
        </p:spPr>
      </p:pic>
      <p:pic>
        <p:nvPicPr>
          <p:cNvPr id="276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RomaK</cp:lastModifiedBy>
  <dcterms:modified xsi:type="dcterms:W3CDTF">2015-09-04T09:35:03Z</dcterms:modified>
  <cp:revision>21</cp:revision>
  <dc:subject/>
  <dc:title>Slide 1</dc:title>
</cp:coreProperties>
</file>