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B0E6-E6C5-4AC0-BEC6-A3B0F8FF0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33B32-34A9-4C53-88B2-41DC14D1F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EAF6A-24D9-4DCF-BC6F-50BBF85D2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12432-EEE2-4F0C-A608-7779CC93E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8608B-9235-431F-80AA-E7BD99EFC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89A5E-DFAB-427E-A476-5F36E6444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9CE47-2795-4F5A-8A38-984343DEB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038BD-BCEE-4420-A9A6-9B15F4640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59F88-4188-4488-AE11-3A4A72A02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450F7-BE9F-4A12-AAF2-ABC420D96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9284C-C378-447B-8C7D-5C9305625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2CCE5-7164-4BF1-B734-8167A1A9E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5D8C0-6BC3-4C5A-9FE0-4B9BFB6DF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929C-6B84-4B93-9CD0-4A4CF55ED33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RomaK</cp:lastModifiedBy>
  <dcterms:modified xsi:type="dcterms:W3CDTF">2015-09-04T09:35:26Z</dcterms:modified>
  <cp:revision>38</cp:revision>
  <dc:subject/>
  <dc:title>Slide 1</dc:title>
</cp:coreProperties>
</file>