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C536-273F-4B79-9771-37F436E640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5365D-E307-4F96-8B35-33A4520B7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05A4C-226A-4E47-9673-4F1D901AA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002D1-4D37-4C76-A1DC-9C6E6DFC7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CE53D-691C-43AD-940D-CDB578628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98D2D-5B26-4FA3-BE39-7D66A7C38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4910F-AB9C-4CF3-A497-758FA7247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1BAE8-B009-4B04-A487-458363D7B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F6295-0122-40BC-A2B1-EFF435CE2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6795A-FE9F-4D47-80E5-C5323D733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303A9-B31E-43A6-857D-4346D97D5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610DE-CBBA-43D8-876A-9AD63691D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F1EB0-618E-49C4-9BB5-9DAA3A1C7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446CD-CC23-418F-803E-3603A2429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509F3-0002-41FD-8E9D-3A8C18013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3A504-242C-4087-B54E-B374F52A3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7490F-5E2B-4624-8120-2252DDAD0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BCCDA-996F-4640-BFDE-69425B4CD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632D9-D569-48CF-B88C-7CF0BDF59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9A0BF-5BCA-44DC-AC39-4044B2206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C24F9-D95A-4A9F-B36E-B3B037E93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B1727-B648-48E7-8222-F582C8346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95B2B-9B05-4AF0-BDC0-F071D44BB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8BB7A-EED8-4851-9E49-A87922DE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AA948-84A8-4A9E-BDCF-6202422AC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37F5-9065-4235-98F8-DB82BC387EC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6BF9-14DD-40E7-81F4-63C406D77BD4}"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RomaK</cp:lastModifiedBy>
  <dcterms:modified xsi:type="dcterms:W3CDTF">2015-09-04T09:35:35Z</dcterms:modified>
  <cp:revision>9</cp:revision>
  <dc:subject/>
  <dc:title>What is civilization?</dc:title>
</cp:coreProperties>
</file>