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A096-6B9F-466B-BEB8-8F1F05AB6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412-64A5-4303-BE6F-4A643F3A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106-7F6D-4C85-A70B-F620D4D1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9B1-86DA-4DF2-A7D2-72740E91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E43-57D7-438D-A2B5-2B022413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D94C-C83C-4B81-82FF-08709CB6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8E6E-4ABD-4653-95E6-F38514C8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AED2-14E3-4A37-A9B0-D312121A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3F3B-0DDB-49F8-A519-FB0359D8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9845-B009-4A9C-8447-7BEB17E6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E53F-4C9D-4942-BECA-16D158D9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0D08-6C9F-4075-9762-A64D3F3F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D6B-B605-4DA7-B30E-65518F31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229C-8051-4602-A8E6-8CF967C0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0D3C-486E-41C9-8C00-2DFD3D79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F1D9-8447-4EC3-8CF9-E6F136CE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DF32-7B55-4F2E-84D5-0D28999F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F091-BEE0-4AC3-BAFB-B5AD4C6C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CC7-54C4-4246-9468-F86E68C2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157-7CE0-459A-8423-0286BB0B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6B9-B824-463A-882A-DB3696CE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948-1BE9-4CA1-B611-3283140F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64D-14BB-4422-BB17-339AA702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AFF-97E8-4F0C-A9C0-CD51749F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A6D-435F-4C02-8349-B67288B7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0C13-ED23-4629-B85C-3AD37ED8E2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12C1-CB4F-4E87-9AC4-4CCC28AF94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RomaK</cp:lastModifiedBy>
  <dcterms:modified xsi:type="dcterms:W3CDTF">2015-09-04T09:35:42Z</dcterms:modified>
  <cp:revision>8</cp:revision>
  <dc:subject/>
  <dc:title>What is culture? Standard 10.1</dc:title>
</cp:coreProperties>
</file>