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AA69-2790-49B3-8E4D-46A25248761C}"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4D879-DA18-4948-884F-E91B1668B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3A79D-1461-4D54-A049-3C6E1D24B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F411A-4175-4517-A34C-C19EB4602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3ECA1-6DB7-4A46-9236-E2436195F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099FC-E687-417C-A95D-215E92E99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102E1-C20C-4C77-9FFB-FCD18EE9A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53F2F-25DA-4BAE-9F32-1800BF972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2ABD4-0E10-443C-BCA4-47B3118A7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6FEC9-20C3-4576-BADF-38544D569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0A9F4-9C8C-444B-A424-A286B3D02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9AA1E-EBF1-4557-86E8-3A5933D68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7687C-79BC-4A5A-B3B9-C676C5E6F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5B9F6-D7E0-4660-A75F-34575AD20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031DD-7736-48C6-96C2-43F6A7612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06975-49E8-4A4B-80B0-F41EC2CFE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06E4D-AB4E-48DE-A431-5F16CD771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8B769-5E58-4049-BE3B-F56985C28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75746-C459-4206-8766-5A5D7F6DE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F770C-7ED2-46E4-A221-746A371DE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08534-6F90-48D7-953F-536BD2755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06EA6-314C-45B1-8B14-81A75DD7A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E52C7-7DC4-4A7A-A84C-FDBE72838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0D23A-F51F-4E9B-A948-BB8589745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848F-9E87-4AD4-9F38-FA2F9EC5C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FFE2-9AC1-4991-B4D0-7EE2FCA1C87D}"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0E30-C1D4-45E4-97B1-DD1D951D881F}"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RomaK</cp:lastModifiedBy>
  <dcterms:modified xsi:type="dcterms:W3CDTF">2015-09-04T09:35:48Z</dcterms:modified>
  <cp:revision>6</cp:revision>
  <dc:subject/>
  <dc:title>What were Social effects of the industrial revolution</dc:title>
</cp:coreProperties>
</file>