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D2B0-75C6-4E7C-B148-35162E97F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350-8CB7-4E22-BAF1-BA868111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603F-058C-4179-AE0F-E1187EB6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C20D-B538-48D2-8025-E3363575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29F7-3442-44FA-B931-119CDE27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4BB4-F1FE-42F4-9BFC-9C3A8B5E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A830-A0CB-4E26-91D7-7F7F3D76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9DF1-F8A4-48FA-AE85-56D24E11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D5C9-2049-4133-83FD-F996C470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55A5-D19C-4406-BD38-9C4136DE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B44E-7C7F-48BC-9F8B-B749AF02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2E0D-26F4-471C-AB93-2B4A1A2A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72F8-EA96-4420-A257-5B3D6AA8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56FA-C596-499B-B533-908828CF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25E2-59E3-4F75-B443-A753BC1F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F41A-C0E5-40D4-9A06-55BECED8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F6F1-3E44-41CB-9886-4D00CB9E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6EF7-FC6E-45F9-A652-8B3EA41F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2C24-8359-420E-AA0B-911610F9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AD30-7E46-4EF1-8BE6-DDE91F9C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1B37-8B1C-48DC-859A-7C105CF6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27F0-7011-462A-A190-F1D01B17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DCC2-2E41-4662-912D-95C778F2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9F4E-AE2A-4BEC-897E-2BDDDD3D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EA4A-64CD-48E3-BC41-BBEB1505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C1DB-8511-48B4-8808-4FF98929C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84AE-54AA-49A8-9839-AC1A867222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ddess" TargetMode="External"/><Relationship Id="rId2" Type="http://schemas.openxmlformats.org/officeDocument/2006/relationships/hyperlink" Target="http://en.wikipedia.org/wiki/Mercantile" TargetMode="External"/><Relationship Id="rId3" Type="http://schemas.openxmlformats.org/officeDocument/2006/relationships/hyperlink" Target="http://en.wikipedia.org/wiki/Ti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sia Minor Standard 10.1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s is the area were most civilization began in prehistory and history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many water ways and food source the fertile crescent became the center of the universe to its peopl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It is believed that this area was an abundant food source to the hunters and gather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farming a bi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population of people emerged out of the lan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The people of the Asia Minor Standard 10.1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esopotamia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gyp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Sumeri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Aramae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Phoenici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Lydia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ertile_crescent_350"/>
          <p:cNvPicPr/>
          <p:nvPr/>
        </p:nvPicPr>
        <p:blipFill>
          <a:blip r:embed="rId2"/>
          <a:stretch/>
        </p:blipFill>
        <p:spPr>
          <a:xfrm>
            <a:off x="1905120" y="350532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Greek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 Greeks sprang out of three civilizations,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ino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ycenae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Dorian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19360" y="837720"/>
            <a:ext cx="4724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Both civilizations are known as the Aegean civilization which lived around the Mediterranean sea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28600" y="56386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6" descr="asiaminormap"/>
          <p:cNvPicPr/>
          <p:nvPr/>
        </p:nvPicPr>
        <p:blipFill>
          <a:blip r:embed="rId1"/>
          <a:stretch/>
        </p:blipFill>
        <p:spPr>
          <a:xfrm>
            <a:off x="4495680" y="3124080"/>
            <a:ext cx="2800440" cy="261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Minoan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inoans lived on the islands off Greec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Minoans culture is often characterized as a society centered on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ddess</a:t>
            </a: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worship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Minoans were primarily a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mercantil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eople engaged in overseas trade. Many historians and archaeologists believe that the Minoans were involved in the Bronze Age's important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ti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rade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Knossos_bull"/>
          <p:cNvPicPr/>
          <p:nvPr/>
        </p:nvPicPr>
        <p:blipFill>
          <a:blip r:embed="rId4"/>
          <a:stretch/>
        </p:blipFill>
        <p:spPr>
          <a:xfrm>
            <a:off x="1447920" y="1295280"/>
            <a:ext cx="5165640" cy="337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were the Mycenaen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he Mycenaens lived on the main land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Mycenaean civilization was dominated by a warrior aristocracy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Not only did the Mycenaeans defeat the Minoans, but according to legend, they defeated Troy, a powerful city-stat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The Mycenaean period flourished between 1600BC and the collapse of their Bronze-Age civilization around 1100BC.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ap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09" name="Picture 5" descr="europa-popoli"/>
          <p:cNvPicPr/>
          <p:nvPr/>
        </p:nvPicPr>
        <p:blipFill>
          <a:blip r:embed="rId1"/>
          <a:stretch/>
        </p:blipFill>
        <p:spPr>
          <a:xfrm>
            <a:off x="4038480" y="762120"/>
            <a:ext cx="4870440" cy="58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edseamaplarge"/>
          <p:cNvPicPr/>
          <p:nvPr/>
        </p:nvPicPr>
        <p:blipFill>
          <a:blip r:embed="rId2"/>
          <a:stretch/>
        </p:blipFill>
        <p:spPr>
          <a:xfrm>
            <a:off x="0" y="76212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152280" y="5410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How the Greeks became a civilization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overtook the Minoans and the two merg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became powerful, but civil war weakened its strong fortresses and when invaders came they were easily overtak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invaders were the Dorians who spoke the Greek languag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With the invaders the lost of many skills followed. Skills such as writing and boat making. This was know as the Dark Age for Greec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066680" y="5943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ime Lin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inoans 2500 B.C. -1450 B.C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ycenaeans 2000 B.C.- 1150 B.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Dorians 1150B.C – 700B.C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(Dark Age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The Greeks (HELLENIC) emerged from the mix of these three civilizations to rule from 700B.C. to 336  B.C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hat we know as the Greeks were influenced more by the culture of these three civilization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23440" y="57913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01:38:55Z</dcterms:created>
  <dc:creator>Jason lundblad</dc:creator>
  <dc:description/>
  <cp:keywords/>
  <dc:language>en-US</dc:language>
  <cp:lastModifiedBy>RomaK</cp:lastModifiedBy>
  <dcterms:modified xsi:type="dcterms:W3CDTF">2015-09-04T09:35:56Z</dcterms:modified>
  <cp:revision>5</cp:revision>
  <dc:subject/>
  <dc:title>Who are the Greek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01033</vt:lpwstr>
  </property>
</Properties>
</file>