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DBE1-D545-46EC-8055-4E7A27FC6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area were most civilization began in prehistory and hi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many water ways and food source the fertile crescent became the center of the universe to its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believed that this area was an abundant food source to the hunters and gath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farming a big population of people emerged out of the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ople of the Asia Minor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opotam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y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er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ama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enic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ydia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Greek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sprang out of three civiliz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ri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civilizations are known as the Aegean civilization which lived around the Mediterranean se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are the Minoa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lived on the islands off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culture is often characterized as a society centered on goddess worship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noans were primarily a mercantile people engaged in overseas trade. Many historians and archaeologists believe that the Minoans were involved in the Bronze Age's important tin trad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were the Mycena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ns lived on the main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 civilization was dominated by a warrior aristocrac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nly did the Mycenaeans defeat the Minoans, but according to legend, they defeated Troy, a powerful city-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 period flourished between 1600BC and the collapse of their Bronze-Age civilization around 1100B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Greeks became a civil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overtook the Minoans and the two mer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ycenaeans became powerful, but civil war weakened its strong fortresses and when invaders came they were easily overtak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vaders were the Dorians who spoke the Greek langua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 invaders the lost of many skills followed. Skills such as writing and boat making. This was know as the Dark Age for Gree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ans 2500 B.C. -1450 B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cenaeans 2000 B.C.- 1150 B.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rians 1150B.C – 700B.C. (Dark Ag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ks (HELLENIC) emerged from the mix of these three civilizations to rule from 700B.C. to 336  B.C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e know as the Greeks were influenced more by the culture of these three civil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History Standard 10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EBA5-C995-4B91-8F6E-5F080ABDC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E66-D3D9-4B21-A335-C8F76802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A78C-E32B-4FA7-807F-2A59107E1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39E-BB7E-4602-9550-1ACA3BBA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FD606-1542-4AB2-8879-E8E3D0930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459AD-BDB8-489F-BAE6-9784444E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F64BC-660D-4ABA-9861-AA2BCD15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A463A-0919-4B3C-9F49-A8215966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0404-6057-48C8-B8F9-80F85A04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B2E66-7C36-4D46-8FC3-E6A2FCD5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C63B1-5C04-4D2E-BC4C-A4531278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955-6F5D-473C-8999-B99E829BA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4191-A9BC-47C1-B68B-37A353F7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131A-DFE1-4F28-91C3-298EDE7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1AEF-788B-47C7-BD56-E92A8BF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80CB-149E-492C-AAE0-B97F31DBB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704040"/>
            <a:ext cx="29440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EBEB-4175-43D8-9305-BEF301D8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1B82-86DB-40BF-B219-60E018A67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D8C-FEEF-47BC-8302-EBEDBBB3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9D49-9229-44DD-A334-5BBBCA48D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DBBA-6E43-43D5-A5F5-5FDA4048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587-13EE-41E3-8CE0-0FB01786F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70404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57CB-506F-4104-BBBD-74244D25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704040"/>
            <a:ext cx="9144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954B-6647-4356-840E-418028D4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959C-6DBE-45CB-BE4B-67DB95510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35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35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FC735-DA1C-41EA-9DAD-05B0DA297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oddess" TargetMode="External"/><Relationship Id="rId2" Type="http://schemas.openxmlformats.org/officeDocument/2006/relationships/hyperlink" Target="http://en.wikipedia.org/wiki/Mercantile" TargetMode="External"/><Relationship Id="rId3" Type="http://schemas.openxmlformats.org/officeDocument/2006/relationships/hyperlink" Target="http://en.wikipedia.org/wiki/Tin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Asia Minor Standard 10.1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is is the area were most civilization began in prehistory and history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many water ways and food source the fertile crescent became the center of the universe to its people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It is believed that this area was an abundant food source to the hunters and gather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th farming a big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population of people emerged out of the land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Arial Black"/>
              </a:rPr>
              <a:t>The people of the Asia Minor Standard 10.1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esopotamia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gyp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Sumeri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Aramae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Phoenicia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Lydian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bestmap"/>
          <p:cNvPicPr/>
          <p:nvPr/>
        </p:nvPicPr>
        <p:blipFill>
          <a:blip r:embed="rId1"/>
          <a:stretch/>
        </p:blipFill>
        <p:spPr>
          <a:xfrm>
            <a:off x="4476600" y="838080"/>
            <a:ext cx="4667400" cy="5496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ertile_crescent_350"/>
          <p:cNvPicPr/>
          <p:nvPr/>
        </p:nvPicPr>
        <p:blipFill>
          <a:blip r:embed="rId2"/>
          <a:stretch/>
        </p:blipFill>
        <p:spPr>
          <a:xfrm>
            <a:off x="1905120" y="3505320"/>
            <a:ext cx="2286000" cy="27432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3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Greek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837720"/>
            <a:ext cx="449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he Greeks sprang out of three civilizations,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ino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Mycenaeans &amp;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Tahoma"/>
              </a:rPr>
              <a:t>The Dorian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19360" y="837720"/>
            <a:ext cx="4724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Both civilizations are known as the Aegean civilization which lived around the Mediterranean sea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228600" y="563868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6" descr="asiaminormap"/>
          <p:cNvPicPr/>
          <p:nvPr/>
        </p:nvPicPr>
        <p:blipFill>
          <a:blip r:embed="rId1"/>
          <a:stretch/>
        </p:blipFill>
        <p:spPr>
          <a:xfrm>
            <a:off x="4495680" y="3124080"/>
            <a:ext cx="2800440" cy="261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are the Minoans?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Minoans lived on the islands off Greec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Minoans culture is often characterized as a society centered on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goddess</a:t>
            </a: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worship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e Minoans were primarily a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mercantile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people engaged in overseas trade. Many historians and archaeologists believe that the Minoans were involved in the Bronze Age's important </a:t>
            </a:r>
            <a:r>
              <a:rPr b="1" lang="en-US" sz="32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tin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trade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Knossos_bull"/>
          <p:cNvPicPr/>
          <p:nvPr/>
        </p:nvPicPr>
        <p:blipFill>
          <a:blip r:embed="rId4"/>
          <a:stretch/>
        </p:blipFill>
        <p:spPr>
          <a:xfrm>
            <a:off x="1447920" y="1295280"/>
            <a:ext cx="5165640" cy="3370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Who were the Mycenaen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he Mycenaens lived on the main land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Mycenaean civilization was dominated by a warrior aristocracy.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Not only did the Mycenaeans defeat the Minoans, but according to legend, they defeated Troy, a powerful city-state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ahoma"/>
              </a:rPr>
              <a:t>The Mycenaean period flourished between 1600BC and the collapse of their Bronze-Age civilization around 1100BC.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Maps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09" name="Picture 5" descr="europa-popoli"/>
          <p:cNvPicPr/>
          <p:nvPr/>
        </p:nvPicPr>
        <p:blipFill>
          <a:blip r:embed="rId1"/>
          <a:stretch/>
        </p:blipFill>
        <p:spPr>
          <a:xfrm>
            <a:off x="4038480" y="762120"/>
            <a:ext cx="4870440" cy="5867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medseamaplarge"/>
          <p:cNvPicPr/>
          <p:nvPr/>
        </p:nvPicPr>
        <p:blipFill>
          <a:blip r:embed="rId2"/>
          <a:stretch/>
        </p:blipFill>
        <p:spPr>
          <a:xfrm>
            <a:off x="0" y="762120"/>
            <a:ext cx="4572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52280" y="541008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 Black"/>
              </a:rPr>
              <a:t>How the Greeks became a civilization.</a:t>
            </a:r>
            <a:endParaRPr b="0" lang="en-US" sz="32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overtook the Minoans and the two merg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Mycenaeans became powerful, but civil war weakened its strong fortresses and when invaders came they were easily overtaken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8320" y="838080"/>
            <a:ext cx="4495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The invaders were the Dorians who spoke the Greek languag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ahoma"/>
              </a:rPr>
              <a:t>With the invaders the lost of many skills followed. Skills such as writing and boat making. This was know as the Dark Age for Greece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066680" y="5943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 Black"/>
              </a:rPr>
              <a:t>Time Line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inoans 2500 B.C. -1450 B.C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Mycenaeans 2000 B.C.- 1150 B.C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Dorians 1150B.C – 700B.C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1" lang="en-US" sz="3200" spc="-1" strike="noStrike">
                <a:solidFill>
                  <a:srgbClr val="003300"/>
                </a:solidFill>
                <a:latin typeface="Tahoma"/>
              </a:rPr>
              <a:t>(Dark Age)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The Greeks (HELLENIC) emerged from the mix of these three civilizations to rule from 700B.C. to 336  B.C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What we know as the Greeks were influenced more by the culture of these three civilizations.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2323440" y="57913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World History Standard 10.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01:38:55Z</dcterms:created>
  <dc:creator>Jason lundblad</dc:creator>
  <dc:description/>
  <cp:keywords/>
  <dc:language>en-US</dc:language>
  <cp:lastModifiedBy>RomaK</cp:lastModifiedBy>
  <dcterms:modified xsi:type="dcterms:W3CDTF">2015-09-04T09:35:56Z</dcterms:modified>
  <cp:revision>5</cp:revision>
  <dc:subject/>
  <dc:title>Who are the Greeks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903001033</vt:lpwstr>
  </property>
</Properties>
</file>