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A565-F090-4709-9765-C452217581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BA0C-6F35-4C5D-AD01-C023BB279E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81F1-7336-400D-B8E7-5446F2F10C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BCFC-9DBF-4FB4-9C67-BF220E1421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EE85-996B-4C3E-97CF-0B28EBF55E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DC72-47DF-4FAB-A2DF-76D45D4396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4A31-9320-4D24-829F-B9DEB45339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B9E2-EDA0-46CC-81DA-FB5288209A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F6F5-3B01-4F02-923A-E9F0FFB9B2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2ACF-6159-4264-BA1A-03B793A9EA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478C-9581-4954-83E3-1867217BC7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1B3E-9B77-4605-8496-00E3421CCA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A8BD-B55D-4156-972D-745ABF9226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2735-76CC-4BBE-AFA6-5E092FA67F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F1FD-4918-4897-BFB7-B2D393A43E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F991-C1EA-449E-B4D8-A740F67F9D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1ED-22F9-4AD5-B25F-991164E6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62F-E2AA-4C41-836C-82BA86BF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955-490B-4481-988D-39953CA4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CE9-0BCC-4294-ADDC-8559E517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7FA-B21D-4B30-A0FD-E452FFA9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F0B-87F3-424C-B8D0-39A1B716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644-6DF4-4368-A045-24CB6EEE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9EB-2077-4E0C-BA6C-035B79C8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BA25-8121-4BDD-81A7-208FCE5F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369-05F4-416E-8EDA-4E9C226E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EE9-F650-44A3-8556-84BC8D87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83D-911E-477A-8A47-48BFFC77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4D5D-A088-4A0B-A275-4A20C0A5F3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39640" y="522360"/>
            <a:ext cx="8280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mic rays are __________ particles from the Sun, ______ and ________. The most common type of particle is a __________ particle. They interact with the Earth’s __________ field. Energy from these charged particles is converted into light which can be seen in the _______ _______ and _______ ______ called Auroras. These bright lights are caused by ________ rays streaming out from the sun and striking earths upper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456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381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843360" y="189000"/>
            <a:ext cx="5300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324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796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is a ___________ above the suns surface. A large amount of _________ is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consists of charged particles from the ______ that travel at high speed and produce strong ________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ar _______ interfere with the operation of satellites by interfering with ______________ and _______________. They also can cause ____________ 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258920" y="404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474560"/>
            <a:ext cx="77724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38080" y="63244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11280" y="189000"/>
            <a:ext cx="60195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Solar flares and Cosmic rays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610160" cy="3197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48942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3933720"/>
            <a:ext cx="770400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ays interact with the magnetic field of the earth, spiralling around the field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ing a concentration of cosmic rays at the north and south p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557600" cy="6481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50920" y="193680"/>
            <a:ext cx="3673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certain nights these shifting patterns can be seen in the s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are called Aur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bright lights are caused by cosmic rays streaming out from the sun and striking earths upper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from these charged particles is converted into light and forms visible glows, rays, arcs, bands and vei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ually green but can be red or pur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urora_021002.mpeg" descr=""/>
          <p:cNvPicPr/>
          <p:nvPr/>
        </p:nvPicPr>
        <p:blipFill>
          <a:blip r:embed="rId1"/>
          <a:stretch/>
        </p:blipFill>
        <p:spPr>
          <a:xfrm>
            <a:off x="395280" y="4906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395280" y="66204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8136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RomaK</cp:lastModifiedBy>
  <dcterms:modified xsi:type="dcterms:W3CDTF">2015-08-20T12:27:58Z</dcterms:modified>
  <cp:revision>26</cp:revision>
  <dc:subject>Physics for You Support File</dc:subject>
  <dc:title>Physics for You</dc:title>
</cp:coreProperties>
</file>