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jpeg" ContentType="image/jpeg"/>
  <Override PartName="/ppt/media/image24.jpeg" ContentType="image/jpeg"/>
  <Override PartName="/ppt/media/image21.jpeg" ContentType="image/jpeg"/>
  <Override PartName="/ppt/media/image19.jpeg" ContentType="image/jpeg"/>
  <Override PartName="/ppt/media/image27.jpeg" ContentType="image/jpeg"/>
  <Override PartName="/ppt/media/image33.jpeg" ContentType="image/jpeg"/>
  <Override PartName="/ppt/media/image6.jpeg" ContentType="image/jpeg"/>
  <Override PartName="/ppt/media/image25.gif" ContentType="image/gif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20.jpeg" ContentType="image/jpeg"/>
  <Override PartName="/ppt/media/image7.wmf" ContentType="image/x-wmf"/>
  <Override PartName="/ppt/media/image30.jpeg" ContentType="image/jpeg"/>
  <Override PartName="/ppt/media/image31.jpeg" ContentType="image/jpeg"/>
  <Override PartName="/ppt/media/image4.jpeg" ContentType="image/jpeg"/>
  <Override PartName="/ppt/media/image5.jpeg" ContentType="image/jpeg"/>
  <Override PartName="/ppt/media/image26.jpeg" ContentType="image/jpeg"/>
  <Override PartName="/ppt/media/image3.png" ContentType="image/png"/>
  <Override PartName="/ppt/media/image2.jpeg" ContentType="image/jpeg"/>
  <Override PartName="/ppt/media/image12.png" ContentType="image/png"/>
  <Override PartName="/ppt/media/image23.jpeg" ContentType="image/jpeg"/>
  <Override PartName="/ppt/media/image10.png" ContentType="image/pn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32.jpeg" ContentType="image/jpeg"/>
  <Override PartName="/ppt/media/image17.png" ContentType="image/png"/>
  <Override PartName="/ppt/media/image1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6A017-2BB4-41A4-A633-4C7F3176BA6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orld War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orld War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Schlieffen Plan’s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structive N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Schlieffen Plan’s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structive N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chlieffen Pl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ade western front 1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ter defeating France concentrate on the Eastern fro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void fighting a 2 front 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chlieffen Pl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ade western front 1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ter defeating France concentrate on the Eastern fro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void fighting a 2 front 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chlieffen Plan’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tructive N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rmany made vast encircling movement through Belgium to enter Par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derestimated speed of the British mobil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ickly sent troops to Fr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chlieffen Plan’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tructive N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rmany made vast encircling movement through Belgium to enter Par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derestimated speed of the British mobil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ickly sent troops to Fr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chlieffen Plan’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tructive N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pt 6-10, 19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ttle of Mar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opped the Germans but French troops were exhaus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th sides dug trenches for shel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LEM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chlieffen Plan’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tructive N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pt 6-10, 19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ttle of Mar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opped the Germans but French troops were exhaus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th sides dug trenches for shel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LEM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rench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enches dug from English Channel to Switzer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,250 mi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to 8 feet de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mobilized both sides for 4 ye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rench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enches dug from English Channel to Switzer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,250 mi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to 8 feet de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mobilized both sides for 4 ye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Trench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Trench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fe in the Trench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aborate systems of defen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ed wi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crete machine gun ne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tar batte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oops lived in holes undergro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fe in the Trench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aborate systems of defen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ed wi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crete machine gun ne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tar batte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oops lived in holes undergro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fe in the Trench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red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diers read to pass the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rah Bernhardt came out to the front to read poetry to the soldi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fe in the Trench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red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diers read to pass the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rah Bernhardt came out to the front to read poetry to the soldi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evitability of 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ne 28, 1914 Archduke Francis Ferdinand of Austria assassina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ly 5, 1914 Germany issues A-H “blank check”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edging military assistance if A-H goes to war against Russ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ly 23, 1914 Austria issues Serbia an ultimat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evitability of 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ne 28, 1914 Archduke Francis Ferdinand of Austria assassina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ly 5, 1914 Germany issues A-H “blank check”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edging military assistance if A-H goes to war against Russ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ly 23, 1914 Austria issues Serbia an ultimat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ath is everywhere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all had on us the stench of dead bodies.”  Death numbed the soldier’s min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ell sho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sychological devas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ath is everywhere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all had on us the stench of dead bodies.”  Death numbed the soldier’s min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ell sho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sychological devas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ath is everywhere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stard g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ried by the wi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rned out soldier’s 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adly in the trenche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it would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t at the bott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ath is everywhere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stard g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ried by the wi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rned out soldier’s 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adly in the trenche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it would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t at the bott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fe in the Trench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ench warfare baffled military lead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tempt a breakthrou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return to a war of mov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llions of young men sacrificed attempting the breakthrou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fe in the Trench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ench warfare baffled military lead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tempt a breakthrou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return to a war of mov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llions of young men sacrificed attempting the breakthrou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ttle of Verd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mont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00,000 men kil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ttle of Verd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mont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00,000 men kil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ttle of Verd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mont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00,000 men kil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ttle of Verd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mont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00,000 men kil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hanges of 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 weapons crippled the “frozen front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son gas (mustard ga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grena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ame throw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n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rpla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n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hanges of 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 weapons crippled the “frozen front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son gas (mustard ga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grena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ame throw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n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rpla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n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hanges of 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rpla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g fights in the 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mbing inaccu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anticized the battlefie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is and London bomb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lots fired pistols and threw hand grena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hanges of 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rpla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g fights in the 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mbing inaccu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anticized the battlefie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is and London bomb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lots fired pistols and threw hand grena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astern Fro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ssian army moved into Eastern Germany on August 30, 19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ea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ustrians kicked out of Serb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alians attacked Austria in 19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. came to Austrian aid and pushed Russians back 300 miles into own terri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astern Fro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ssian army moved into Eastern Germany on August 30, 19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ea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ustrians kicked out of Serb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alians attacked Austria in 19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. came to Austrian aid and pushed Russians back 300 miles into own terri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astern Fro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ch more mobile more than the W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loss of life still very hi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15:  2.5 million Russians killed, captured, or wound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astern Fro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ch more mobile more than the W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loss of life still very hi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15:  2.5 million Russians killed, captured, or wound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astern Fro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rmany and Austria Hungary joined by Bulgaria in Sept. 19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tacked and eliminated Serbia from 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astern Fro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rmany and Austria Hungary joined by Bulgaria in Sept. 19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tacked and eliminated Serbia from 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evitability of 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ly 28, 1914 A-H declares war on Serb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1914 Russia orders full mobilization of its tro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gust 1,1914 Germany declares war on Russ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gust 2, 1914 Germany demands Belgium declare access to German tro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evitability of 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ly 28, 1914 A-H declares war on Serb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ly 29, 1914 Russia orders full mobilization of its tro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gust 1,1914 Germany declares war on Russ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gust 2, 1914 Germany demands Belgium declare access to German tro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ome Fro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men took war factory jo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eived lower wages than m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od shortages made running a household diffic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ome Fro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men took war factory jo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eived lower wages than m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od shortages made running a household diffic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ome Fro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nsorship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told about high death to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anticized the battlefie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diers have died a beautiful death, in noble battle, we shall rediscover poetry…epic and chivalrou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ome Fro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nsorship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told about high death to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anticized the battlefie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diers have died a beautiful death, in noble battle, we shall rediscover poetry…epic and chivalrou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ome Fro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nsorship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spapers described troops as itching to go over the top.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vernment reported to the press that life in the trenches promoted good health and clear air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ome Fro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nsorship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spapers described troops as itching to go over the top.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vernment reported to the press that life in the trenches promoted good health and clear air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ome Fro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Leave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oops would stay together so they could sympathize with each o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ome Fro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Leave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oops would stay together so they could sympathize with each o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ome Fro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ossible to hide dea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men in mour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dly wounded soldiers returned h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position began to emer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ome Fro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ossible to hide dea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men in mour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dly wounded soldiers returned h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position began to emer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war e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17 – Russia surrenders (a separate peac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.S. joins the war on the Allied s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v. 11, 1918 Armist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war e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17 – Russia surrenders (a separate peac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.S. joins the war on the Allied s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v. 11, 1918 Armist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ath Toll of 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ath Toll of 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ial Imp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n lost limbs and were mutila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rthrate fell markedl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alids unable to wor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thnic hostilit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luenza epide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ial Imp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n lost limbs and were mutila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rthrate fell markedl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alids unable to wor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thnic hostilit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luenza epide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sychological imp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ver such innocence again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tterness towards aristocratic officers whose lives were never in dan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sychological imp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ver such innocence again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tterness towards aristocratic officers whose lives were never in dan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gium is a country, not a road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ng Albert I of Belgium denied permi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gust 2, 1914 Germany declared war on Fr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??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chlieffen Pla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gust 4, 1914 Great Britain declared war on Germany for violating Belgian neutr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gium is a country, not a road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ng Albert I of Belgium denied permi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gust 2, 1914 Germany declared war on Fr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??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chlieffen Pla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gust 4, 1914 Great Britain declared war on Germany for violating Belgian neutr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14 – 1915 Illusions and Stalem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Europeans were excited about 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end yourself against the aggressor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estic differences were put as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14 – 1915 Illusions and Stalem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Europeans were excited about 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end yourself against the aggressor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estic differences were put as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14 – 1915 Illusions and Stalem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r would be over in a few wee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gnored the length and brutality of the American Civil 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prototype to World War 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14 – 1915 Illusions and Stalem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r would be over in a few wee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gnored the length and brutality of the American Civil 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prototype to World War 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14 – 1915 Illusions and Stalem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ief that Modern industrial war could not be conducted for more than a few mont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e by Christma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14 – 1915 Illusions and Stalem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ief that Modern industrial war could not be conducted for more than a few mont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e by Christma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14 – 1915 Illusions and Stalem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tal attraction of war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hilarating release from every day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glorious adven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r would rid the nations of selfish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rk a national re-birth based on hero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14 – 1915 Illusions and Stalem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tal attraction of war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hilarating release from every day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glorious adven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r would rid the nations of selfish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rk a national re-birth based on hero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FBA24-7A54-4E2A-8B9B-9D41AE20E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AA6E3-11E1-4BDD-8F4D-83EA2F6E5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911D6-F115-41A6-8E84-071DFDBD8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8C5A8-C3DE-4D2A-B30C-E5BE8AC45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45DC2-CE9B-45F4-B32F-378FED360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F8B02-3599-4EA1-BFCE-B97993F14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6099B-5181-4AB8-84BB-7806F7283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AA3D7-27ED-4748-9E4C-E2C82C97A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89EAE-9E5B-41E0-831C-DA4B875B4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EA3AA-78DD-4CAD-B93C-270BF30B2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D9B90-320F-483C-B269-B73DC650D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C78CE-F72B-4524-A155-704E280B1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1CCE3-3065-48E9-B9A3-0593B951A5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fcps.k12.va.us/NewingtonForestES/Gradepages/World%20War%20I/images/WWIflames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information-imaging.com/speakman/wwi/trench01.html" TargetMode="External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greatwar.ie/ir-batt_gfx/trenches.jpg" TargetMode="External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://www.hackmatack.ca/2003/Poppies.jpg" TargetMode="External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ell MT"/>
              </a:rPr>
              <a:t>World War 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WWIflame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219320" y="1461960"/>
            <a:ext cx="7162560" cy="483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Schlieffen Plan’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structive Nat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10" descr="schlieffen2"/>
          <p:cNvPicPr/>
          <p:nvPr/>
        </p:nvPicPr>
        <p:blipFill>
          <a:blip r:embed="rId1"/>
          <a:stretch/>
        </p:blipFill>
        <p:spPr>
          <a:xfrm>
            <a:off x="1295280" y="1447920"/>
            <a:ext cx="6782040" cy="50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Schlieffen Pl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vade western front 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defeating France concentrate on the Eastern fro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oid fighting a 2 front w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8" descr="schlieffen%20p"/>
          <p:cNvPicPr/>
          <p:nvPr/>
        </p:nvPicPr>
        <p:blipFill>
          <a:blip r:embed="rId1"/>
          <a:stretch/>
        </p:blipFill>
        <p:spPr>
          <a:xfrm>
            <a:off x="4952880" y="1447920"/>
            <a:ext cx="388620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Schlieffen Plan’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structive Nat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rmany made vast encircling movement through Belgium to enter Par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derestimated speed of the British mobi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ickly sent troops to Fr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8" descr="map_plan"/>
          <p:cNvPicPr/>
          <p:nvPr/>
        </p:nvPicPr>
        <p:blipFill>
          <a:blip r:embed="rId1"/>
          <a:stretch/>
        </p:blipFill>
        <p:spPr>
          <a:xfrm>
            <a:off x="4648320" y="2131920"/>
            <a:ext cx="426708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Schlieffen Plan’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structive Nat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pt 6-10, 19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ttle of Mar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pped the Germans but French troops were exhaus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th sides dug trenches for shel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LEM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map_plan"/>
          <p:cNvPicPr/>
          <p:nvPr/>
        </p:nvPicPr>
        <p:blipFill>
          <a:blip r:embed="rId1"/>
          <a:stretch/>
        </p:blipFill>
        <p:spPr>
          <a:xfrm>
            <a:off x="4648320" y="2131920"/>
            <a:ext cx="426708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rench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enches dug from English Channel to Switzerl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250 m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 to 8 feet dee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mobilized both sides for 4 ye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8" descr="tren001"/>
          <p:cNvPicPr/>
          <p:nvPr/>
        </p:nvPicPr>
        <p:blipFill>
          <a:blip r:embed="rId1"/>
          <a:stretch/>
        </p:blipFill>
        <p:spPr>
          <a:xfrm>
            <a:off x="4913280" y="1447920"/>
            <a:ext cx="365292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rench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7" descr="trend01"/>
          <p:cNvPicPr/>
          <p:nvPr/>
        </p:nvPicPr>
        <p:blipFill>
          <a:blip r:embed="rId1"/>
          <a:stretch/>
        </p:blipFill>
        <p:spPr>
          <a:xfrm>
            <a:off x="914400" y="1255680"/>
            <a:ext cx="7924680" cy="470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5" descr="tww086c"/>
          <p:cNvPicPr/>
          <p:nvPr/>
        </p:nvPicPr>
        <p:blipFill>
          <a:blip r:embed="rId1"/>
          <a:stretch/>
        </p:blipFill>
        <p:spPr>
          <a:xfrm>
            <a:off x="2141640" y="0"/>
            <a:ext cx="474660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5" descr="trenchdetail01xx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4920" y="57240"/>
            <a:ext cx="8381880" cy="65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fe in the Trench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systems of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defe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rbed w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crete machine gun ne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rtar batte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oops lived in holes undergrou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8" descr="trench"/>
          <p:cNvPicPr/>
          <p:nvPr/>
        </p:nvPicPr>
        <p:blipFill>
          <a:blip r:embed="rId1"/>
          <a:stretch/>
        </p:blipFill>
        <p:spPr>
          <a:xfrm>
            <a:off x="4343400" y="2251080"/>
            <a:ext cx="4800600" cy="33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fe in the Trench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re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ldiers read to pass the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rah Bernhardt came out to the front to read poetry to the sold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7" descr="Trenches"/>
          <p:cNvPicPr/>
          <p:nvPr/>
        </p:nvPicPr>
        <p:blipFill>
          <a:blip r:embed="rId1"/>
          <a:stretch/>
        </p:blipFill>
        <p:spPr>
          <a:xfrm>
            <a:off x="4114800" y="194796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Inevitability of w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June 28, 1914 Archduke Francis Ferdinand of Austria assassin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July 5, 1914 Germany issues A-H “blank check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pledging military assistance if A-H goes to war against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Book Antiqua"/>
              </a:rPr>
              <a:t>Russ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July 23, 1914 Austria issues Serbia an ultimat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6" descr="CePointro2"/>
          <p:cNvPicPr/>
          <p:nvPr/>
        </p:nvPicPr>
        <p:blipFill>
          <a:blip r:embed="rId1"/>
          <a:stretch/>
        </p:blipFill>
        <p:spPr>
          <a:xfrm>
            <a:off x="4449600" y="1066680"/>
            <a:ext cx="457056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ath is everywhere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all had on us the stench of dead bodies.”  Death numbed the soldier’s mi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ell sh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sychological devas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7" descr="trenche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343400" y="2133720"/>
            <a:ext cx="461016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ath is everywhere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tard g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rried by the wi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rned out soldier’s lu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adly in the trenches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t would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t at the bott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7" descr="c080027"/>
          <p:cNvPicPr/>
          <p:nvPr/>
        </p:nvPicPr>
        <p:blipFill>
          <a:blip r:embed="rId1"/>
          <a:stretch/>
        </p:blipFill>
        <p:spPr>
          <a:xfrm>
            <a:off x="4038480" y="1984320"/>
            <a:ext cx="5105520" cy="36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fe in the Trench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ench warfare baffled military lea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tempt a breakthroug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n return to a war of mov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llions of young men sacrificed attempting the breakthroug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6" descr="Trench%20Warfare"/>
          <p:cNvPicPr/>
          <p:nvPr/>
        </p:nvPicPr>
        <p:blipFill>
          <a:blip r:embed="rId1"/>
          <a:stretch/>
        </p:blipFill>
        <p:spPr>
          <a:xfrm>
            <a:off x="4038480" y="2114640"/>
            <a:ext cx="4648320" cy="30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ttle of Verdu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819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 mo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00,000 men kill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6" descr="afterbattle_small"/>
          <p:cNvPicPr/>
          <p:nvPr/>
        </p:nvPicPr>
        <p:blipFill>
          <a:blip r:embed="rId1"/>
          <a:stretch/>
        </p:blipFill>
        <p:spPr>
          <a:xfrm>
            <a:off x="4038480" y="1495440"/>
            <a:ext cx="4953240" cy="445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ttle of Verdu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3276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 mo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00,000 men kill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7" descr="Underground gallery at Verdun"/>
          <p:cNvPicPr/>
          <p:nvPr/>
        </p:nvPicPr>
        <p:blipFill>
          <a:blip r:embed="rId1"/>
          <a:stretch/>
        </p:blipFill>
        <p:spPr>
          <a:xfrm>
            <a:off x="2971800" y="1681200"/>
            <a:ext cx="5943600" cy="350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changes of w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weapons crippled the “frozen front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ison gas (mustard ga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nd grena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ame thro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n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irpla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n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5" descr="frenchgasmasks"/>
          <p:cNvPicPr/>
          <p:nvPr/>
        </p:nvPicPr>
        <p:blipFill>
          <a:blip r:embed="rId1"/>
          <a:stretch/>
        </p:blipFill>
        <p:spPr>
          <a:xfrm>
            <a:off x="5489640" y="2286000"/>
            <a:ext cx="31795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changes of w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irpla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g fights in the a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mbing in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manticized the battlefiel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is and London bomb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lots fired pistols and threw hand grena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10" descr="doghanim"/>
          <p:cNvPicPr/>
          <p:nvPr/>
        </p:nvPicPr>
        <p:blipFill>
          <a:blip r:embed="rId1"/>
          <a:stretch/>
        </p:blipFill>
        <p:spPr>
          <a:xfrm>
            <a:off x="4927680" y="1676520"/>
            <a:ext cx="34574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Eastern Fro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ssian army moved into Eastern Germany on August 30, 19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e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ustrians kicked out of Serb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alians attacked Austria in 19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. came to Austrian aid and pushed Russians back 300 miles into own terri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8" descr="e47781gigot"/>
          <p:cNvPicPr/>
          <p:nvPr/>
        </p:nvPicPr>
        <p:blipFill>
          <a:blip r:embed="rId1"/>
          <a:stretch/>
        </p:blipFill>
        <p:spPr>
          <a:xfrm>
            <a:off x="4495680" y="1690560"/>
            <a:ext cx="43434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Eastern Fro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ch more mobile more than the W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loss of life still very hi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15:  2.5 million Russians killed, captured, or woun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6" descr=""/>
          <p:cNvPicPr/>
          <p:nvPr/>
        </p:nvPicPr>
        <p:blipFill>
          <a:blip r:embed="rId1"/>
          <a:stretch/>
        </p:blipFill>
        <p:spPr>
          <a:xfrm>
            <a:off x="4802040" y="1295280"/>
            <a:ext cx="371016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Eastern Fro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rmany and Austria Hungary joined by Bulgaria in Sept. 19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tacked and eliminated Serbia from w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5" descr=""/>
          <p:cNvPicPr/>
          <p:nvPr/>
        </p:nvPicPr>
        <p:blipFill>
          <a:blip r:embed="rId1"/>
          <a:stretch/>
        </p:blipFill>
        <p:spPr>
          <a:xfrm>
            <a:off x="4746600" y="1219320"/>
            <a:ext cx="354348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The inevitability of w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July 28, 1914 A-H declares war on Serb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July 29, 1914 Russia orders full mobilization of its tro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August 1,1914 Germany declares war on Russ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August 2, 1914 Germany demands Belgium declare access to German tro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6" descr="MAP1"/>
          <p:cNvPicPr/>
          <p:nvPr/>
        </p:nvPicPr>
        <p:blipFill>
          <a:blip r:embed="rId1"/>
          <a:stretch/>
        </p:blipFill>
        <p:spPr>
          <a:xfrm>
            <a:off x="4495680" y="2206800"/>
            <a:ext cx="4267440" cy="38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Home Fro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men took war factory jo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eived lower wages than m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od shortages made running a household difficu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7" descr="women_say_go"/>
          <p:cNvPicPr/>
          <p:nvPr/>
        </p:nvPicPr>
        <p:blipFill>
          <a:blip r:embed="rId1"/>
          <a:stretch/>
        </p:blipFill>
        <p:spPr>
          <a:xfrm>
            <a:off x="5057640" y="1447920"/>
            <a:ext cx="33022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Home Fro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nsorshi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told about high death to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manticized the battlefiel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diers have died a beautiful death, in noble battle, we shall rediscover poetry…epic and chivalrou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7" descr="trench3"/>
          <p:cNvPicPr/>
          <p:nvPr/>
        </p:nvPicPr>
        <p:blipFill>
          <a:blip r:embed="rId1"/>
          <a:stretch/>
        </p:blipFill>
        <p:spPr>
          <a:xfrm>
            <a:off x="4267080" y="2273400"/>
            <a:ext cx="4876920" cy="32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Home Fro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nsorshi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spapers described troops as itching to go over the top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vernment reported to the press that life in the trenches promoted good health and clear air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7" descr="Poppie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191120" y="1746360"/>
            <a:ext cx="4800600" cy="41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Home Fro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Leave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oops would stay together so they could sympathize with each 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7" descr="02451"/>
          <p:cNvPicPr/>
          <p:nvPr/>
        </p:nvPicPr>
        <p:blipFill>
          <a:blip r:embed="rId1"/>
          <a:stretch/>
        </p:blipFill>
        <p:spPr>
          <a:xfrm>
            <a:off x="4267080" y="2003400"/>
            <a:ext cx="4267440" cy="33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Home Fro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ossible to hide dea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men in mour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dly wounded soldiers returned h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position began to emer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7" descr="ypres-cemeteries1"/>
          <p:cNvPicPr/>
          <p:nvPr/>
        </p:nvPicPr>
        <p:blipFill>
          <a:blip r:embed="rId1"/>
          <a:stretch/>
        </p:blipFill>
        <p:spPr>
          <a:xfrm>
            <a:off x="3809880" y="2209680"/>
            <a:ext cx="50292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war e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917 – Russia surrenders (a separate peac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.S. joins the war on the Allied s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v. 11, 1918 Armist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7" descr="armistice"/>
          <p:cNvPicPr/>
          <p:nvPr/>
        </p:nvPicPr>
        <p:blipFill>
          <a:blip r:embed="rId1"/>
          <a:stretch/>
        </p:blipFill>
        <p:spPr>
          <a:xfrm>
            <a:off x="3886200" y="1800360"/>
            <a:ext cx="5257800" cy="38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ath Toll of W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380880" y="1752480"/>
          <a:ext cx="8077320" cy="2921040"/>
        </p:xfrm>
        <a:graphic>
          <a:graphicData uri="http://schemas.openxmlformats.org/drawingml/2006/table">
            <a:tbl>
              <a:tblPr/>
              <a:tblGrid>
                <a:gridCol w="4038840"/>
                <a:gridCol w="4038480"/>
              </a:tblGrid>
              <a:tr h="973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ied Powe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ntral Powe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4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 million serv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 million serv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3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 million casualt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 million casualt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cial Impa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n lost limbs and were mutil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rthrate fell marked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alids unable to wor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hnic hostil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luenza epidem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sychological impa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ver such innocence again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tterness towards aristocratic officers whose lives were never in dang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elgium is a country, not a road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King Albert I of Belgium denied permi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August 2, 1914 Germany declared war on Fr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Why???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The Schlieffen Plan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August 4, 1914 Great Britain declared war on Germany for violating Belgian neutr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6" descr="albert"/>
          <p:cNvPicPr/>
          <p:nvPr/>
        </p:nvPicPr>
        <p:blipFill>
          <a:blip r:embed="rId1"/>
          <a:stretch/>
        </p:blipFill>
        <p:spPr>
          <a:xfrm>
            <a:off x="4923000" y="1295280"/>
            <a:ext cx="341784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5" descr="ww1"/>
          <p:cNvPicPr/>
          <p:nvPr/>
        </p:nvPicPr>
        <p:blipFill>
          <a:blip r:embed="rId1"/>
          <a:stretch/>
        </p:blipFill>
        <p:spPr>
          <a:xfrm>
            <a:off x="457200" y="304920"/>
            <a:ext cx="800100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ook Antiqua"/>
              </a:rPr>
              <a:t>1914 – 1915 Illusions and Stalema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Europeans were excited about w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end yourself against the aggressor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mestic differences were put a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8" descr="bwbay"/>
          <p:cNvPicPr/>
          <p:nvPr/>
        </p:nvPicPr>
        <p:blipFill>
          <a:blip r:embed="rId1"/>
          <a:stretch/>
        </p:blipFill>
        <p:spPr>
          <a:xfrm>
            <a:off x="4876920" y="1523880"/>
            <a:ext cx="388620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ook Antiqua"/>
              </a:rPr>
              <a:t>1914 – 1915 Illusions and Stalema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r would be over in a few wee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gnored the length and brutality of the American Civil W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prototype to World War 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6" descr="j0149430[1]"/>
          <p:cNvPicPr/>
          <p:nvPr/>
        </p:nvPicPr>
        <p:blipFill>
          <a:blip r:embed="rId1"/>
          <a:stretch/>
        </p:blipFill>
        <p:spPr>
          <a:xfrm>
            <a:off x="5113440" y="2776680"/>
            <a:ext cx="3108240" cy="217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ook Antiqua"/>
              </a:rPr>
              <a:t>1914 – 1915 Illusions and Stalema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lief that Modern industrial war could not be conducted for more than a few mon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me by Christma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6" descr="vickersmg"/>
          <p:cNvPicPr/>
          <p:nvPr/>
        </p:nvPicPr>
        <p:blipFill>
          <a:blip r:embed="rId1"/>
          <a:stretch/>
        </p:blipFill>
        <p:spPr>
          <a:xfrm>
            <a:off x="4343400" y="2473200"/>
            <a:ext cx="4572000" cy="339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ook Antiqua"/>
              </a:rPr>
              <a:t>1914 – 1915 Illusions and Stalema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tal attraction of wa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hilarating release from every day li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glorious adven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r would rid the nations of selfish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ark a national re-birth based on hero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12" descr="soldier2"/>
          <p:cNvPicPr/>
          <p:nvPr/>
        </p:nvPicPr>
        <p:blipFill>
          <a:blip r:embed="rId1"/>
          <a:stretch/>
        </p:blipFill>
        <p:spPr>
          <a:xfrm>
            <a:off x="5151600" y="1143000"/>
            <a:ext cx="3186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0T12:40:34Z</dcterms:created>
  <dc:creator>padmin</dc:creator>
  <dc:description/>
  <dc:language>en-US</dc:language>
  <cp:lastModifiedBy>RomaK</cp:lastModifiedBy>
  <dcterms:modified xsi:type="dcterms:W3CDTF">2015-09-04T09:36:03Z</dcterms:modified>
  <cp:revision>12</cp:revision>
  <dc:subject/>
  <dc:title>Slide 1</dc:title>
</cp:coreProperties>
</file>