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0274-F72D-4506-B3CE-1B71EAF14F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2F7-78DE-4975-9D50-DD615054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AFD-4CDC-47F1-9F4C-4A31DBDC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93C-A8C1-41A5-9258-391A47D3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C39-B99D-43CD-A5A9-2E2C8EA4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19C-9B80-4DE6-B401-B63F717A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2B1-905C-4D55-8FFD-06558BD7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3CF-81DE-4F47-B66F-522A5C4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8AD-1140-4BE8-B04F-EC3802BD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90F-732E-4109-906E-20EED8C9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20B-01D6-46FB-88C9-8EC40515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502-3A1A-4632-97E0-314FF4AF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1B6-5911-4733-999D-7A377BC9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AD00-647D-4B74-9D66-2395EEF86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304920" y="2819520"/>
            <a:ext cx="7543800" cy="97776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displaces the tropomyosin and exposes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5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270" name="AutoShape 1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8580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ulbous heads of the myosin attach to the binding sites on the actin fil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2"/>
          <p:cNvSpPr/>
          <p:nvPr/>
        </p:nvSpPr>
        <p:spPr>
          <a:xfrm>
            <a:off x="-10152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097760" y="34480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506840" y="291456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91628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-217440" y="274176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481176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-21744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740268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222084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449440" y="321948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-65160" y="329580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11668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707240" y="337176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 rot="3949800">
            <a:off x="1485360" y="224820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 rot="3273000">
            <a:off x="6216840" y="2064960"/>
            <a:ext cx="2228760" cy="1684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 rot="2325000">
            <a:off x="3657240" y="190476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1"/>
          <p:cNvSpPr/>
          <p:nvPr/>
        </p:nvSpPr>
        <p:spPr>
          <a:xfrm rot="3727200">
            <a:off x="224748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 rot="3067200">
            <a:off x="742968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 rot="3357000">
            <a:off x="4838400" y="232416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85800" y="5257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yosin heads change position to achieve a lower energy state and slide the actin filaments past the stationary 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5"/>
          <p:cNvGrpSpPr/>
          <p:nvPr/>
        </p:nvGrpSpPr>
        <p:grpSpPr>
          <a:xfrm>
            <a:off x="1295280" y="5181480"/>
            <a:ext cx="914040" cy="228600"/>
            <a:chOff x="1295280" y="5181480"/>
            <a:chExt cx="914040" cy="228600"/>
          </a:xfrm>
        </p:grpSpPr>
        <p:sp>
          <p:nvSpPr>
            <p:cNvPr id="412" name="Oval 26"/>
            <p:cNvSpPr/>
            <p:nvPr/>
          </p:nvSpPr>
          <p:spPr>
            <a:xfrm>
              <a:off x="181764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146952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164340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129528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6095880" y="5105520"/>
            <a:ext cx="914040" cy="228600"/>
            <a:chOff x="6095880" y="5105520"/>
            <a:chExt cx="914040" cy="228600"/>
          </a:xfrm>
        </p:grpSpPr>
        <p:sp>
          <p:nvSpPr>
            <p:cNvPr id="417" name="Oval 31"/>
            <p:cNvSpPr/>
            <p:nvPr/>
          </p:nvSpPr>
          <p:spPr>
            <a:xfrm>
              <a:off x="6618240" y="5105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627012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6444000" y="5105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34"/>
            <p:cNvSpPr/>
            <p:nvPr/>
          </p:nvSpPr>
          <p:spPr>
            <a:xfrm>
              <a:off x="609588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3657600" y="5181480"/>
            <a:ext cx="914040" cy="228600"/>
            <a:chOff x="3657600" y="5181480"/>
            <a:chExt cx="914040" cy="228600"/>
          </a:xfrm>
        </p:grpSpPr>
        <p:sp>
          <p:nvSpPr>
            <p:cNvPr id="422" name="Oval 36"/>
            <p:cNvSpPr/>
            <p:nvPr/>
          </p:nvSpPr>
          <p:spPr>
            <a:xfrm>
              <a:off x="417996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383184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400572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365760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49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54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59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86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91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96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2819520"/>
            <a:ext cx="914040" cy="228600"/>
            <a:chOff x="1066680" y="2819520"/>
            <a:chExt cx="914040" cy="228600"/>
          </a:xfrm>
        </p:grpSpPr>
        <p:sp>
          <p:nvSpPr>
            <p:cNvPr id="524" name="Oval 25"/>
            <p:cNvSpPr/>
            <p:nvPr/>
          </p:nvSpPr>
          <p:spPr>
            <a:xfrm>
              <a:off x="1589040" y="2819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"/>
            <p:cNvSpPr/>
            <p:nvPr/>
          </p:nvSpPr>
          <p:spPr>
            <a:xfrm>
              <a:off x="124092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1414800" y="2819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106668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095880" y="2743200"/>
            <a:ext cx="914040" cy="228600"/>
            <a:chOff x="6095880" y="2743200"/>
            <a:chExt cx="914040" cy="228600"/>
          </a:xfrm>
        </p:grpSpPr>
        <p:sp>
          <p:nvSpPr>
            <p:cNvPr id="529" name="Oval 30"/>
            <p:cNvSpPr/>
            <p:nvPr/>
          </p:nvSpPr>
          <p:spPr>
            <a:xfrm>
              <a:off x="6618240" y="27432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31"/>
            <p:cNvSpPr/>
            <p:nvPr/>
          </p:nvSpPr>
          <p:spPr>
            <a:xfrm>
              <a:off x="627012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"/>
            <p:cNvSpPr/>
            <p:nvPr/>
          </p:nvSpPr>
          <p:spPr>
            <a:xfrm>
              <a:off x="6444000" y="27432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33"/>
            <p:cNvSpPr/>
            <p:nvPr/>
          </p:nvSpPr>
          <p:spPr>
            <a:xfrm>
              <a:off x="609588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4"/>
          <p:cNvGrpSpPr/>
          <p:nvPr/>
        </p:nvGrpSpPr>
        <p:grpSpPr>
          <a:xfrm>
            <a:off x="3733920" y="2209680"/>
            <a:ext cx="914040" cy="228600"/>
            <a:chOff x="3733920" y="2209680"/>
            <a:chExt cx="914040" cy="228600"/>
          </a:xfrm>
        </p:grpSpPr>
        <p:sp>
          <p:nvSpPr>
            <p:cNvPr id="534" name="Oval 35"/>
            <p:cNvSpPr/>
            <p:nvPr/>
          </p:nvSpPr>
          <p:spPr>
            <a:xfrm>
              <a:off x="4256280" y="22096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36"/>
            <p:cNvSpPr/>
            <p:nvPr/>
          </p:nvSpPr>
          <p:spPr>
            <a:xfrm>
              <a:off x="390816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7"/>
            <p:cNvSpPr/>
            <p:nvPr/>
          </p:nvSpPr>
          <p:spPr>
            <a:xfrm>
              <a:off x="4082040" y="22096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8"/>
            <p:cNvSpPr/>
            <p:nvPr/>
          </p:nvSpPr>
          <p:spPr>
            <a:xfrm>
              <a:off x="373392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6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3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7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03" name="AutoShape 3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0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38" name="AutoShape 31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36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7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73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06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39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-979560" y="2851200"/>
            <a:ext cx="8023320" cy="1006560"/>
          </a:xfrm>
          <a:custGeom>
            <a:avLst/>
            <a:gdLst/>
            <a:ahLst/>
            <a:rect l="l" t="t" r="r" b="b"/>
            <a:pathLst>
              <a:path w="5054" h="634">
                <a:moveTo>
                  <a:pt x="0" y="144"/>
                </a:moveTo>
                <a:cubicBezTo>
                  <a:pt x="139" y="204"/>
                  <a:pt x="578" y="435"/>
                  <a:pt x="834" y="502"/>
                </a:cubicBezTo>
                <a:cubicBezTo>
                  <a:pt x="1090" y="569"/>
                  <a:pt x="1234" y="598"/>
                  <a:pt x="1535" y="544"/>
                </a:cubicBezTo>
                <a:cubicBezTo>
                  <a:pt x="1836" y="490"/>
                  <a:pt x="2337" y="256"/>
                  <a:pt x="2643" y="178"/>
                </a:cubicBezTo>
                <a:cubicBezTo>
                  <a:pt x="2949" y="100"/>
                  <a:pt x="2969" y="0"/>
                  <a:pt x="3371" y="76"/>
                </a:cubicBezTo>
                <a:cubicBezTo>
                  <a:pt x="3773" y="152"/>
                  <a:pt x="4704" y="518"/>
                  <a:pt x="5054" y="63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72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05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38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7"/>
          <p:cNvSpPr/>
          <p:nvPr/>
        </p:nvSpPr>
        <p:spPr>
          <a:xfrm>
            <a:off x="914400" y="25909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601992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58128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71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7"/>
          <p:cNvSpPr/>
          <p:nvPr/>
        </p:nvSpPr>
        <p:spPr>
          <a:xfrm>
            <a:off x="1066680" y="28195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1"/>
          <p:cNvSpPr/>
          <p:nvPr/>
        </p:nvSpPr>
        <p:spPr>
          <a:xfrm>
            <a:off x="609588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5"/>
          <p:cNvSpPr/>
          <p:nvPr/>
        </p:nvSpPr>
        <p:spPr>
          <a:xfrm>
            <a:off x="37339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904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72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osin bind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200400" y="1752480"/>
            <a:ext cx="19051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572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leased from the sarcolemma after stimulation from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54:56Z</dcterms:created>
  <dc:creator>Alford</dc:creator>
  <dc:description/>
  <dc:language>en-US</dc:language>
  <cp:lastModifiedBy>RomaK</cp:lastModifiedBy>
  <dcterms:modified xsi:type="dcterms:W3CDTF">2015-09-04T10:46:15Z</dcterms:modified>
  <cp:revision>9</cp:revision>
  <dc:subject/>
  <dc:title>PowerPoint Presentation</dc:title>
</cp:coreProperties>
</file>