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4.png" ContentType="image/png"/>
  <Override PartName="/ppt/media/cashreg.wav" ContentType="audio/x-wav"/>
  <Override PartName="/ppt/media/image8.wmf" ContentType="image/x-wmf"/>
  <Override PartName="/ppt/media/image9.png" ContentType="image/png"/>
  <Override PartName="/ppt/media/projctor.wav" ContentType="audio/x-wav"/>
  <Override PartName="/ppt/media/image7.wmf" ContentType="image/x-wmf"/>
  <Override PartName="/ppt/media/chimes.wav" ContentType="audio/x-wav"/>
  <Override PartName="/ppt/media/image6.wmf" ContentType="image/x-wmf"/>
  <Override PartName="/ppt/media/drumroll.wav" ContentType="audio/x-wav"/>
  <Override PartName="/ppt/media/type.wav" ContentType="audio/x-wav"/>
  <Override PartName="/ppt/media/image1.jpeg" ContentType="image/jpeg"/>
  <Override PartName="/ppt/media/image5.wmf" ContentType="image/x-wmf"/>
  <Override PartName="/ppt/media/glass.wav" ContentType="audio/x-wav"/>
  <Override PartName="/ppt/media/image2.jpeg" ContentType="image/jpeg"/>
  <Override PartName="/ppt/media/gunshot.wav" ContentType="audio/x-wav"/>
  <Override PartName="/ppt/media/image3.png" ContentType="image/pn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5FC2-BD6A-422B-8C79-3623221DDC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animals adapted to survive in the Arc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like polar bears will have a thick insulating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ually have 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camouflaged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animals adapted to survive in the Arc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like polar bears will have a thick insulating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ually have 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camouflaged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hese adaptations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fur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ouf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s heat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heat loss b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s as a food store and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fur is good camouflage to hide from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hese adaptations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fur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ouf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s heat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heat loss b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s as a food store and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fur is good camouflage to hide from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can have very little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lot of sunshine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very little sh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s can ge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it can become 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can have very little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lot of sunshine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very little sh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s can ge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it can become 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 camel adapted to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ls can store large amounts of water in the fat in their h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feet with a large surface area to allow them to walk on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have long eye-lashes to stop sand blowing into thei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 camel adapted to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ls can store large amounts of water in the fat in their h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feet with a large surface area to allow them to walk on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have long eye-lashes to stop sand blowing into thei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reptiles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ptiles will find some shade under a rock during the hottest part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alking on hot sand a lizard will try to touch the ground with only a small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zard keeps swopping feet, and only stands on two feet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nake keeps a loop of itself off the ground as it moves across the sand side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reptiles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ptiles will find some shade under a rock during the hottest part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alking on hot sand a lizard will try to touch the ground with only a small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zard keeps swopping feet, and only stands on two feet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nake keeps a loop of itself off the ground as it moves across the sand side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species living in a particular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species living in a particular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ctors could change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disa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, water an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 will eat prey and reduce the population (including the number of offsp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y leave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ease could kill some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ught, fire, floods, volcanic eruptions etc could alter the habitat and affect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s can result in the death of many members of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ctors could change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disa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, water an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 will eat prey and reduce the population (including the number of offsp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y leave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ease could kill some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ught, fire, floods, volcanic eruptions etc could alter the habitat and affect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s can result in the death of many members of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can affect the numbers and the distribution of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are individuals adapt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affect their survival in a habit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lives there? This may mean competition for 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may be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can affect the numbers and the distribution of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are individuals adapt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affect their survival in a habit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lives there? This may mean competition for 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may be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dapt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describes how a plant of animal is able to survive in various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can cope with the different aspects of their environment, for example,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dapt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describes how a plant of animal is able to survive in various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can cope with the different aspects of their environment, for example,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ways a struggle for plants and animal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STRUGGL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protection 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RUG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inerals in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ways a struggle for plants and animal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STRUGGL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protection 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RUG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inerals in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daptation help organis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are better at coping with extremes of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competing 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escaping from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re likely to survive in their habitat and produce 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daptation help organis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are better at coping with extremes of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competing 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escaping from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re likely to survive in their habitat and produce 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tic 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ort of habitat can have extremely low temper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nd is covered with white snow for most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tic 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ort of habitat can have extremely low temper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nd is covered with white snow for most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D8E-2EEE-423F-B584-BBA3D9FC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99C-A1A1-4B53-BEE3-EE4BDE94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10B-318E-4AA8-A80F-B8EC3321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0A5-73BE-420B-9891-689CDAFD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E83-D873-4B8F-932E-BF5BA692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0042-7E27-40AF-9DD3-5BD95029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E2C-4C6B-49D1-99C1-EDF327DC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223-A3AC-484C-B804-03919D45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C92-B8DD-4AD3-AFE2-C1965786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5C0-5A7C-4B65-B066-40E77059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AF6-373F-4D80-9113-34BE6F30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0BA-C536-4444-897D-73D21CA7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2125-0164-44B9-9210-1318F03A4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ff"/>
                </a:solidFill>
                <a:latin typeface="Times New Roman"/>
              </a:rPr>
              <a:t>POP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99ff"/>
                </a:solidFill>
                <a:latin typeface="Andy"/>
              </a:rPr>
              <a:t>How are animals adapted to survive in the Arctic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Animals like polar bears will have a thick insulating c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usually have a large amount of body f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have a large body size to surface area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have a camouflaged c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bd10915_"/>
          <p:cNvPicPr/>
          <p:nvPr/>
        </p:nvPicPr>
        <p:blipFill>
          <a:blip r:embed="rId1"/>
          <a:stretch/>
        </p:blipFill>
        <p:spPr>
          <a:xfrm>
            <a:off x="685800" y="2827440"/>
            <a:ext cx="3429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Andy"/>
              </a:rPr>
              <a:t>How do these adaptations hel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A thick fur c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Large body size to surface area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A large amount of body 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Camouf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335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Traps heat to keep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Reduces heat loss by 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Acts as a food store and to keep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White fur is good camouflage to hide from p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ndy"/>
              </a:rPr>
              <a:t>A desert environ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A desert can have very little rain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re is a lot of sunshine during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re is very little sh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 temperatures can get very h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At night it can become very c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na01470_"/>
          <p:cNvPicPr/>
          <p:nvPr/>
        </p:nvPicPr>
        <p:blipFill>
          <a:blip r:embed="rId1"/>
          <a:stretch/>
        </p:blipFill>
        <p:spPr>
          <a:xfrm>
            <a:off x="228600" y="2362320"/>
            <a:ext cx="42670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y"/>
              </a:rPr>
              <a:t>How is a camel adapted to survive in the dese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Camels can store large amounts of water in the fat in their h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ey have feet with a large surface area to allow them to walk on s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ey also have long eye-lashes to stop sand blowing into their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an02317_"/>
          <p:cNvPicPr/>
          <p:nvPr/>
        </p:nvPicPr>
        <p:blipFill>
          <a:blip r:embed="rId1"/>
          <a:stretch/>
        </p:blipFill>
        <p:spPr>
          <a:xfrm>
            <a:off x="5181480" y="2514600"/>
            <a:ext cx="32673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ndy"/>
              </a:rPr>
              <a:t>How do reptiles survive in the dese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812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Most reptiles will find some shade under a rock during the hottest part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When walking on hot sand a lizard will try to touch the ground with only a smal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is lizard keeps swopping feet, and only stands on two feet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is snake keeps a loop of itself off the ground as it moves across the sand sid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bd07371_"/>
          <p:cNvPicPr/>
          <p:nvPr/>
        </p:nvPicPr>
        <p:blipFill>
          <a:blip r:embed="rId1"/>
          <a:stretch/>
        </p:blipFill>
        <p:spPr>
          <a:xfrm>
            <a:off x="457200" y="2057400"/>
            <a:ext cx="2286000" cy="168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an02609_"/>
          <p:cNvPicPr/>
          <p:nvPr/>
        </p:nvPicPr>
        <p:blipFill>
          <a:blip r:embed="rId2"/>
          <a:stretch/>
        </p:blipFill>
        <p:spPr>
          <a:xfrm>
            <a:off x="1295280" y="4038480"/>
            <a:ext cx="17337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99ff"/>
                </a:solidFill>
                <a:latin typeface="Andy"/>
              </a:rPr>
              <a:t>Population siz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ndy"/>
              </a:rPr>
              <a:t>A population is the number of a species living in a particular 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 factors could change a popul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666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Pre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00"/>
                </a:solidFill>
                <a:latin typeface="Arial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ff"/>
                </a:solidFill>
                <a:latin typeface="Arial"/>
              </a:rPr>
              <a:t>Natural dis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For food, water and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Arial"/>
              </a:rPr>
              <a:t>Predators will eat prey and reduce the population (including the number of offsp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00"/>
                </a:solidFill>
                <a:latin typeface="Arial"/>
              </a:rPr>
              <a:t>Members of the population may leave the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A disease could kill some of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ff"/>
                </a:solidFill>
                <a:latin typeface="Arial"/>
              </a:rPr>
              <a:t>Drought, fire, floods, volcanic eruptions etc could alter the habitat and affect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rs can result in the death of many members of a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else can affect the numbers and the distribution of a popul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ell are individuals adapt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ill affect their survival in a habit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else lives there? This may mean competition for 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may be pred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j0148918"/>
          <p:cNvPicPr/>
          <p:nvPr/>
        </p:nvPicPr>
        <p:blipFill>
          <a:blip r:embed="rId1"/>
          <a:stretch/>
        </p:blipFill>
        <p:spPr>
          <a:xfrm>
            <a:off x="4876920" y="1981080"/>
            <a:ext cx="2974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447920" y="1828800"/>
            <a:ext cx="6095880" cy="21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Adaptatio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00"/>
                </a:solidFill>
                <a:latin typeface="Andy"/>
              </a:rPr>
              <a:t>What is adapt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ndy"/>
              </a:rPr>
              <a:t>Adaptation describes how a plant of animal is able to survive in various enviro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ndy"/>
              </a:rPr>
              <a:t>Well adapted organisms can cope with the different aspects of their environment, for example, the temper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ndy"/>
              </a:rPr>
              <a:t>It is always a struggle for plants and animals to surv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y"/>
              </a:rPr>
              <a:t>ANIMALS STRUGG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protection against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being eaten by pred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acc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y"/>
              </a:rPr>
              <a:t>PLANTS STRUGGLE</a:t>
            </a: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minerals in the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being e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00"/>
                </a:solidFill>
                <a:latin typeface="Andy"/>
              </a:rPr>
              <a:t>How does adaptation help organis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Well adapted organisms are better at coping with extremes of 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better at competing for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better at escaping from pred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more likely to survive in their habitat and produce offsp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99ff"/>
                </a:solidFill>
                <a:latin typeface="Andy"/>
              </a:rPr>
              <a:t>An arctic habit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is sort of habitat can have extremely low temper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 ground is covered with white snow for most of the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ph00780u"/>
          <p:cNvPicPr/>
          <p:nvPr/>
        </p:nvPicPr>
        <p:blipFill>
          <a:blip r:embed="rId1"/>
          <a:stretch/>
        </p:blipFill>
        <p:spPr>
          <a:xfrm>
            <a:off x="4648320" y="2679840"/>
            <a:ext cx="38098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39:27Z</dcterms:created>
  <dc:creator> </dc:creator>
  <dc:description/>
  <dc:language>en-US</dc:language>
  <cp:lastModifiedBy>RomaK</cp:lastModifiedBy>
  <dcterms:modified xsi:type="dcterms:W3CDTF">2015-09-04T10:51:37Z</dcterms:modified>
  <cp:revision>11</cp:revision>
  <dc:subject/>
  <dc:title>Populations, Competition, Predation, Migration, Disease</dc:title>
</cp:coreProperties>
</file>