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png" ContentType="image/png"/>
  <Override PartName="/ppt/media/cashreg.wav" ContentType="audio/x-wav"/>
  <Override PartName="/ppt/media/image8.wmf" ContentType="image/x-wmf"/>
  <Override PartName="/ppt/media/image9.png" ContentType="image/png"/>
  <Override PartName="/ppt/media/projctor.wav" ContentType="audio/x-wav"/>
  <Override PartName="/ppt/media/image7.wmf" ContentType="image/x-wmf"/>
  <Override PartName="/ppt/media/chimes.wav" ContentType="audio/x-wav"/>
  <Override PartName="/ppt/media/image6.wmf" ContentType="image/x-wmf"/>
  <Override PartName="/ppt/media/drumroll.wav" ContentType="audio/x-wav"/>
  <Override PartName="/ppt/media/type.wav" ContentType="audio/x-wav"/>
  <Override PartName="/ppt/media/image1.jpeg" ContentType="image/jpeg"/>
  <Override PartName="/ppt/media/image5.wmf" ContentType="image/x-wmf"/>
  <Override PartName="/ppt/media/glass.wav" ContentType="audio/x-wav"/>
  <Override PartName="/ppt/media/image2.jpeg" ContentType="image/jpeg"/>
  <Override PartName="/ppt/media/gunshot.wav" ContentType="audio/x-wav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24B6-0F57-4A89-85A4-4609B85B49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FEC-4FEB-4F45-9A64-0F3E1E7C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622-731F-4E77-9BC3-3FC4300E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A06-0503-464E-8942-51BA49C2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2BD-80A9-4BF3-81F5-8A0044FD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5B8-8271-4FD6-8874-942E1D4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290-8270-4A4A-BB68-E0A16C1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483-18E6-48BC-8C78-8063381D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2AB-5CDE-4D13-9D31-60D2282A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7D7-FF2A-411D-AEF6-276062C2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6F1-D064-4A42-BFDE-66A3183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716-F5C7-469F-9B79-0FFBE246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11F-3230-4A99-A0A4-B34E63E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9BC1-F263-4F35-A959-35B87550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ff"/>
                </a:solidFill>
                <a:latin typeface="Times New Roman"/>
              </a:rPr>
              <a:t>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How are animals adapted to survive in the Arc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Animals like polar bears will have a thick insulating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usually have a large amount of body 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large body size to surface area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camouflaged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bd10915_"/>
          <p:cNvPicPr/>
          <p:nvPr/>
        </p:nvPicPr>
        <p:blipFill>
          <a:blip r:embed="rId1"/>
          <a:stretch/>
        </p:blipFill>
        <p:spPr>
          <a:xfrm>
            <a:off x="685800" y="2827440"/>
            <a:ext cx="3429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ndy"/>
              </a:rPr>
              <a:t>How do these adaptations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thick fur 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Large body size to surface area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large amount of body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ouf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Traps heat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Reduces heat loss by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Acts as a food store and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White fur is good camouflage to hide from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ndy"/>
              </a:rPr>
              <a:t>A desert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 desert can have very little 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a lot of sunshine during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very little sh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 temperatures can get very 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t night it can become very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na01470_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y"/>
              </a:rPr>
              <a:t>How is a camel adapted to survive in the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els can store large amounts of water in the fat in their h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have feet with a large surface area to allow them to walk on 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also have long eye-lashes to stop sand blowing into their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n02317_"/>
          <p:cNvPicPr/>
          <p:nvPr/>
        </p:nvPicPr>
        <p:blipFill>
          <a:blip r:embed="rId1"/>
          <a:stretch/>
        </p:blipFill>
        <p:spPr>
          <a:xfrm>
            <a:off x="5181480" y="2514600"/>
            <a:ext cx="3267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y"/>
              </a:rPr>
              <a:t>How do reptiles survive in the de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Most reptiles will find some shade under a rock during the hottest part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When walking on hot sand a lizard will try to touch the ground with only a smal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lizard keeps swopping feet, and only stands on two fee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snake keeps a loop of itself off the ground as it moves across the sand sid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d07371_"/>
          <p:cNvPicPr/>
          <p:nvPr/>
        </p:nvPicPr>
        <p:blipFill>
          <a:blip r:embed="rId1"/>
          <a:stretch/>
        </p:blipFill>
        <p:spPr>
          <a:xfrm>
            <a:off x="457200" y="20574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n02609_"/>
          <p:cNvPicPr/>
          <p:nvPr/>
        </p:nvPicPr>
        <p:blipFill>
          <a:blip r:embed="rId2"/>
          <a:stretch/>
        </p:blipFill>
        <p:spPr>
          <a:xfrm>
            <a:off x="1295280" y="4038480"/>
            <a:ext cx="1733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99ff"/>
                </a:solidFill>
                <a:latin typeface="Andy"/>
              </a:rPr>
              <a:t>Population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</a:rPr>
              <a:t>A population is the number of a species living in a particular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 factors could change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ff"/>
                </a:solidFill>
                <a:latin typeface="Arial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For food, water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redators will eat prey and reduce the population (including the number of offsp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Arial"/>
              </a:rPr>
              <a:t>Members of the population may leave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disease could kill some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Drought, fire, floods, volcanic eruptions etc could alter the habitat and affect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 can result in the death of many members of a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else can affect the numbers and the distribution of a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are individuals adap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affect their survival in a habi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lse lives there? This may mean competition for 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ay be pred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j0148918"/>
          <p:cNvPicPr/>
          <p:nvPr/>
        </p:nvPicPr>
        <p:blipFill>
          <a:blip r:embed="rId1"/>
          <a:stretch/>
        </p:blipFill>
        <p:spPr>
          <a:xfrm>
            <a:off x="4876920" y="1981080"/>
            <a:ext cx="297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47920" y="1828800"/>
            <a:ext cx="609588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Adapta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What is adap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Adaptation describes how a plant of animal is able to survive in various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Well adapted organisms can cope with the different aspects of their environment, for example, the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y"/>
              </a:rPr>
              <a:t>It is always a struggle for plants and animals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ANIMALS STRUG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protection 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being eaten by pred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PLANTS STRUGGLE</a:t>
            </a: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minerals in the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being e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How does adaptation help organis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Well adapted organisms are better at coping with extremes of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competing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escaping from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more likely to survive in their habitat and produce offsp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An arctic habi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is sort of habitat can have extremely low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 ground is covered with white snow for most of th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h00780u"/>
          <p:cNvPicPr/>
          <p:nvPr/>
        </p:nvPicPr>
        <p:blipFill>
          <a:blip r:embed="rId1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39:27Z</dcterms:created>
  <dc:creator> </dc:creator>
  <dc:description/>
  <dc:language>en-US</dc:language>
  <cp:lastModifiedBy>RomaK</cp:lastModifiedBy>
  <dcterms:modified xsi:type="dcterms:W3CDTF">2015-09-04T10:51:37Z</dcterms:modified>
  <cp:revision>11</cp:revision>
  <dc:subject/>
  <dc:title>Populations, Competition, Predation, Migration, Disease</dc:title>
</cp:coreProperties>
</file>