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88A7-BDBE-4525-9AF3-A2AC4898E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F84-4AB2-4093-8CDF-DB1BC368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15D-47A3-46F1-8240-4739A378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632-AC29-4B8D-B59B-3699C505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2B4-75FF-4263-84DE-E9A53853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F789-D20A-4F32-BF02-665B55D2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5ADD-B9F5-45D4-9CB1-3CB0DE70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8E17-DF15-4676-A1AC-3CFDF48B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0D45-859A-4CB9-8704-BA9A03CE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71AA-A698-44C9-AB09-A550C4C4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0F7E-AA21-4132-84BA-F4E5B0A2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C3DB-BB33-443A-BEBD-2F9C48A6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2C4-4E42-469E-8973-0CC9040A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47E3-A426-4842-8118-5A0B5A7D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6F44-DE76-444F-8051-2D99ED0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8B84-82E4-479F-A28A-1E5FABDA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827F-E3E9-45C7-89B0-AE34FAF4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52A9-3DF8-4BA4-9F0A-130D33B3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C95-54E2-4A54-93D0-837B9191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1C8-F627-4ACD-8EA7-4955F1C6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0DD-6106-4665-995E-E2074A1D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08A-94DB-4686-9F48-4E73A743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C01-E602-4D5A-9CD5-A845D2C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29C-84C3-42C7-9915-D08AA28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E4D-15AA-47E4-A80D-9966755B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2853-BD81-41D0-89E6-4C53C309A2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E518-F7C4-4579-89DD-1E3398CACD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Aerobic/Anaerobic</a:t>
            </a: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Respiration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ssa Seidm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win Y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228600" y="2209680"/>
                <a:ext cx="8610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"/>
          <p:cNvSpPr/>
          <p:nvPr/>
        </p:nvSpPr>
        <p:spPr>
          <a:xfrm>
            <a:off x="152280" y="304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nergy +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19520" y="2911320"/>
                <a:ext cx="16761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Yeas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4419720" y="30470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thanol + Carbon Dioxide + Ener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600200" y="685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Formula for 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Experi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will be testing four different drinks to see which will give us the most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 how do we decide which is bes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Go back to the form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76320" y="1676520"/>
                <a:ext cx="906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3"/>
          <p:cNvSpPr/>
          <p:nvPr/>
        </p:nvSpPr>
        <p:spPr>
          <a:xfrm flipV="1">
            <a:off x="6858000" y="2209320"/>
            <a:ext cx="45720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15000" y="3809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We can measure the carbon dioxide released by each drink in the enz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2 Gas Sensor to measure total concentration of C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2514600" y="2413080"/>
            <a:ext cx="4637880" cy="4063320"/>
            <a:chOff x="2514600" y="2413080"/>
            <a:chExt cx="4637880" cy="4063320"/>
          </a:xfrm>
        </p:grpSpPr>
        <p:grpSp>
          <p:nvGrpSpPr>
            <p:cNvPr id="210" name="Group 5"/>
            <p:cNvGrpSpPr/>
            <p:nvPr/>
          </p:nvGrpSpPr>
          <p:grpSpPr>
            <a:xfrm>
              <a:off x="2514600" y="2597760"/>
              <a:ext cx="2954880" cy="2842560"/>
              <a:chOff x="2514600" y="2597760"/>
              <a:chExt cx="2954880" cy="28425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657320" y="4111200"/>
                <a:ext cx="738720" cy="442800"/>
              </a:xfrm>
              <a:custGeom>
                <a:avLst/>
                <a:gdLst>
                  <a:gd name="textAreaLeft" fmla="*/ 153720 w 738720"/>
                  <a:gd name="textAreaRight" fmla="*/ 585000 w 738720"/>
                  <a:gd name="textAreaTop" fmla="*/ 92160 h 442800"/>
                  <a:gd name="textAreaBottom" fmla="*/ 35064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Rectangle 7"/>
              <p:cNvSpPr/>
              <p:nvPr/>
            </p:nvSpPr>
            <p:spPr>
              <a:xfrm>
                <a:off x="4583160" y="3077640"/>
                <a:ext cx="886320" cy="10335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Line 8"/>
              <p:cNvSpPr/>
              <p:nvPr/>
            </p:nvSpPr>
            <p:spPr>
              <a:xfrm flipH="1" flipV="1">
                <a:off x="4509360" y="3963600"/>
                <a:ext cx="734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Line 9"/>
              <p:cNvSpPr/>
              <p:nvPr/>
            </p:nvSpPr>
            <p:spPr>
              <a:xfrm flipV="1">
                <a:off x="4509360" y="3003480"/>
                <a:ext cx="0" cy="9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>
                <a:off x="450936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4509360" y="3003480"/>
                <a:ext cx="88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539604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4731120" y="3299040"/>
                <a:ext cx="590760" cy="66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Rectangle 14"/>
              <p:cNvSpPr/>
              <p:nvPr/>
            </p:nvSpPr>
            <p:spPr>
              <a:xfrm>
                <a:off x="4731120" y="3299040"/>
                <a:ext cx="73800" cy="6645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>
                <a:off x="5100480" y="3520440"/>
                <a:ext cx="720" cy="3690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026320" y="3372840"/>
                <a:ext cx="73800" cy="734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2514600" y="2597760"/>
                <a:ext cx="2511720" cy="922680"/>
              </a:xfrm>
              <a:custGeom>
                <a:avLst/>
                <a:gdLst/>
                <a:ahLst/>
                <a:rect l="l" t="t" r="r" b="b"/>
                <a:pathLst>
                  <a:path w="2448" h="900">
                    <a:moveTo>
                      <a:pt x="2448" y="396"/>
                    </a:moveTo>
                    <a:cubicBezTo>
                      <a:pt x="2352" y="198"/>
                      <a:pt x="2256" y="0"/>
                      <a:pt x="2016" y="36"/>
                    </a:cubicBezTo>
                    <a:cubicBezTo>
                      <a:pt x="1776" y="72"/>
                      <a:pt x="1344" y="468"/>
                      <a:pt x="1008" y="612"/>
                    </a:cubicBezTo>
                    <a:cubicBezTo>
                      <a:pt x="672" y="756"/>
                      <a:pt x="180" y="852"/>
                      <a:pt x="0" y="9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Rectangle 18"/>
              <p:cNvSpPr/>
              <p:nvPr/>
            </p:nvSpPr>
            <p:spPr>
              <a:xfrm>
                <a:off x="4878720" y="4554360"/>
                <a:ext cx="295200" cy="88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4286880" y="4234320"/>
              <a:ext cx="1479600" cy="2242080"/>
              <a:chOff x="4286880" y="4234320"/>
              <a:chExt cx="1479600" cy="2242080"/>
            </a:xfrm>
          </p:grpSpPr>
          <p:sp>
            <p:nvSpPr>
              <p:cNvPr id="225" name="AutoShape 20"/>
              <p:cNvSpPr/>
              <p:nvPr/>
            </p:nvSpPr>
            <p:spPr>
              <a:xfrm flipV="1">
                <a:off x="4286880" y="4676760"/>
                <a:ext cx="1404000" cy="443160"/>
              </a:xfrm>
              <a:custGeom>
                <a:avLst/>
                <a:gdLst>
                  <a:gd name="textAreaLeft" fmla="*/ 292320 w 1404000"/>
                  <a:gd name="textAreaRight" fmla="*/ 1111680 w 1404000"/>
                  <a:gd name="textAreaTop" fmla="*/ 92160 h 443160"/>
                  <a:gd name="textAreaBottom" fmla="*/ 35100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4440600" y="6081120"/>
                <a:ext cx="1176480" cy="307800"/>
              </a:xfrm>
              <a:custGeom>
                <a:avLst/>
                <a:gdLst/>
                <a:ahLst/>
                <a:rect l="l" t="t" r="r" b="b"/>
                <a:pathLst>
                  <a:path w="1146" h="300">
                    <a:moveTo>
                      <a:pt x="0" y="165"/>
                    </a:moveTo>
                    <a:cubicBezTo>
                      <a:pt x="118" y="135"/>
                      <a:pt x="239" y="120"/>
                      <a:pt x="360" y="105"/>
                    </a:cubicBezTo>
                    <a:cubicBezTo>
                      <a:pt x="385" y="80"/>
                      <a:pt x="401" y="38"/>
                      <a:pt x="435" y="30"/>
                    </a:cubicBezTo>
                    <a:cubicBezTo>
                      <a:pt x="521" y="10"/>
                      <a:pt x="587" y="36"/>
                      <a:pt x="660" y="60"/>
                    </a:cubicBezTo>
                    <a:cubicBezTo>
                      <a:pt x="700" y="55"/>
                      <a:pt x="741" y="56"/>
                      <a:pt x="780" y="45"/>
                    </a:cubicBezTo>
                    <a:cubicBezTo>
                      <a:pt x="812" y="36"/>
                      <a:pt x="838" y="11"/>
                      <a:pt x="870" y="0"/>
                    </a:cubicBezTo>
                    <a:cubicBezTo>
                      <a:pt x="901" y="93"/>
                      <a:pt x="938" y="76"/>
                      <a:pt x="1035" y="90"/>
                    </a:cubicBezTo>
                    <a:cubicBezTo>
                      <a:pt x="1084" y="106"/>
                      <a:pt x="1146" y="147"/>
                      <a:pt x="1095" y="210"/>
                    </a:cubicBezTo>
                    <a:cubicBezTo>
                      <a:pt x="1085" y="222"/>
                      <a:pt x="1065" y="221"/>
                      <a:pt x="1050" y="225"/>
                    </a:cubicBezTo>
                    <a:cubicBezTo>
                      <a:pt x="986" y="243"/>
                      <a:pt x="919" y="252"/>
                      <a:pt x="855" y="270"/>
                    </a:cubicBezTo>
                    <a:cubicBezTo>
                      <a:pt x="824" y="278"/>
                      <a:pt x="765" y="300"/>
                      <a:pt x="765" y="300"/>
                    </a:cubicBezTo>
                    <a:cubicBezTo>
                      <a:pt x="705" y="295"/>
                      <a:pt x="644" y="295"/>
                      <a:pt x="585" y="285"/>
                    </a:cubicBezTo>
                    <a:cubicBezTo>
                      <a:pt x="538" y="277"/>
                      <a:pt x="497" y="245"/>
                      <a:pt x="450" y="240"/>
                    </a:cubicBezTo>
                    <a:cubicBezTo>
                      <a:pt x="275" y="222"/>
                      <a:pt x="349" y="235"/>
                      <a:pt x="225" y="210"/>
                    </a:cubicBezTo>
                    <a:cubicBezTo>
                      <a:pt x="130" y="147"/>
                      <a:pt x="198" y="181"/>
                      <a:pt x="0" y="165"/>
                    </a:cubicBezTo>
                    <a:close/>
                  </a:path>
                </a:pathLst>
              </a:custGeom>
              <a:solidFill>
                <a:srgbClr val="ffff99">
                  <a:alpha val="5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4286880" y="5146560"/>
                <a:ext cx="1800" cy="11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4286880" y="6327360"/>
                <a:ext cx="59292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24"/>
              <p:cNvSpPr/>
              <p:nvPr/>
            </p:nvSpPr>
            <p:spPr>
              <a:xfrm flipV="1">
                <a:off x="4879800" y="6401520"/>
                <a:ext cx="88596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25"/>
              <p:cNvSpPr/>
              <p:nvPr/>
            </p:nvSpPr>
            <p:spPr>
              <a:xfrm flipV="1">
                <a:off x="4879800" y="5293080"/>
                <a:ext cx="108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26"/>
              <p:cNvSpPr/>
              <p:nvPr/>
            </p:nvSpPr>
            <p:spPr>
              <a:xfrm flipV="1">
                <a:off x="5765760" y="5218200"/>
                <a:ext cx="72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4287600" y="5046840"/>
                <a:ext cx="591120" cy="24588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96"/>
                    </a:moveTo>
                    <a:cubicBezTo>
                      <a:pt x="96" y="48"/>
                      <a:pt x="192" y="0"/>
                      <a:pt x="288" y="24"/>
                    </a:cubicBezTo>
                    <a:cubicBezTo>
                      <a:pt x="384" y="48"/>
                      <a:pt x="528" y="204"/>
                      <a:pt x="576" y="240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4879080" y="5071680"/>
                <a:ext cx="886680" cy="221400"/>
              </a:xfrm>
              <a:custGeom>
                <a:avLst/>
                <a:gdLst/>
                <a:ahLst/>
                <a:rect l="l" t="t" r="r" b="b"/>
                <a:pathLst>
                  <a:path w="864" h="228">
                    <a:moveTo>
                      <a:pt x="0" y="228"/>
                    </a:moveTo>
                    <a:cubicBezTo>
                      <a:pt x="108" y="126"/>
                      <a:pt x="216" y="24"/>
                      <a:pt x="360" y="12"/>
                    </a:cubicBezTo>
                    <a:cubicBezTo>
                      <a:pt x="504" y="0"/>
                      <a:pt x="684" y="78"/>
                      <a:pt x="864" y="156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Rectangle 29"/>
              <p:cNvSpPr/>
              <p:nvPr/>
            </p:nvSpPr>
            <p:spPr>
              <a:xfrm>
                <a:off x="4656240" y="4603680"/>
                <a:ext cx="739080" cy="734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Rectangle 30"/>
              <p:cNvSpPr/>
              <p:nvPr/>
            </p:nvSpPr>
            <p:spPr>
              <a:xfrm>
                <a:off x="4730040" y="44557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Rectangle 31"/>
              <p:cNvSpPr/>
              <p:nvPr/>
            </p:nvSpPr>
            <p:spPr>
              <a:xfrm>
                <a:off x="4730040" y="43081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Rectangle 32"/>
              <p:cNvSpPr/>
              <p:nvPr/>
            </p:nvSpPr>
            <p:spPr>
              <a:xfrm>
                <a:off x="4656240" y="4234320"/>
                <a:ext cx="739080" cy="73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3"/>
              <p:cNvSpPr/>
              <p:nvPr/>
            </p:nvSpPr>
            <p:spPr>
              <a:xfrm flipV="1">
                <a:off x="4286880" y="4677120"/>
                <a:ext cx="44316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H="1" flipV="1">
                <a:off x="5321160" y="4677480"/>
                <a:ext cx="443160" cy="5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Rectangle 35"/>
              <p:cNvSpPr/>
              <p:nvPr/>
            </p:nvSpPr>
            <p:spPr>
              <a:xfrm>
                <a:off x="4878000" y="5268600"/>
                <a:ext cx="886680" cy="11818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Rectangle 36"/>
              <p:cNvSpPr/>
              <p:nvPr/>
            </p:nvSpPr>
            <p:spPr>
              <a:xfrm>
                <a:off x="4286880" y="5120640"/>
                <a:ext cx="591120" cy="12560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2" name="Text Box 37"/>
            <p:cNvSpPr/>
            <p:nvPr/>
          </p:nvSpPr>
          <p:spPr>
            <a:xfrm>
              <a:off x="5748840" y="2413080"/>
              <a:ext cx="140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CO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Verdana"/>
                </a:rPr>
                <a:t>2</a:t>
              </a: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 Gas Sensor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ubate the yeast solution in a 37 – 40 water ba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el the five test tubes G, C, F, M, and 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ur 2.5 mL of Gatorade into the test tube labeled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Coke into the test tube labeled 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fruit juice into the test tube labeled 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milk into the test tube labeled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water into the test tube labeled 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ly stir the yeast suspension to mix the yeast that settled to the bottom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t 2.5 mL of the yeast suspension into all five of the test tub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n incubate the test tubes for 10 minutes in the water bat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 the Gas Sensor, and start collecting the data. for 4 minu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 The Marathon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somebody challenged you to a run a race, how should you prepare to win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t the right foo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nk the right liq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95280" y="1371600"/>
            <a:ext cx="67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living organisms break down sugars to get energy. In humans this breakdown usually occurs with oxyg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590920" y="213372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 understand how Aerobic    and Anaerobic Respiration Occu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WBAT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type of sugar affects the rate of respi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concentration of sugar affects the amount of energy produc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ermine the rate of respiration while using yeast to breakdown different sug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erobic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reaking down of sugar to produce energy where oxygen is presen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1143000" y="3124080"/>
          <a:ext cx="662004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24080"/>
                    <a:ext cx="6620040" cy="506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1143000" y="4038480"/>
            <a:ext cx="6629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ucose + Oxyg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bon Dioxide + Water+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n We Exercis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two minutes of exercise, the body responds by supplying working muscles with oxyg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oxygen is present, glucose can be completely broken down into carbon dioxide and wat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j0301480"/>
          <p:cNvPicPr/>
          <p:nvPr/>
        </p:nvPicPr>
        <p:blipFill>
          <a:blip r:embed="rId4"/>
          <a:stretch/>
        </p:blipFill>
        <p:spPr>
          <a:xfrm>
            <a:off x="5668920" y="338616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j0299763"/>
          <p:cNvPicPr/>
          <p:nvPr/>
        </p:nvPicPr>
        <p:blipFill>
          <a:blip r:embed="rId5"/>
          <a:stretch/>
        </p:blipFill>
        <p:spPr>
          <a:xfrm>
            <a:off x="3430440" y="344808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j0183168"/>
          <p:cNvPicPr/>
          <p:nvPr/>
        </p:nvPicPr>
        <p:blipFill>
          <a:blip r:embed="rId6"/>
          <a:stretch/>
        </p:blipFill>
        <p:spPr>
          <a:xfrm>
            <a:off x="2517840" y="4964040"/>
            <a:ext cx="1901880" cy="166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j0199036"/>
          <p:cNvPicPr/>
          <p:nvPr/>
        </p:nvPicPr>
        <p:blipFill>
          <a:blip r:embed="rId7"/>
          <a:stretch/>
        </p:blipFill>
        <p:spPr>
          <a:xfrm>
            <a:off x="1371600" y="342900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j0293844"/>
          <p:cNvPicPr/>
          <p:nvPr/>
        </p:nvPicPr>
        <p:blipFill>
          <a:blip r:embed="rId8"/>
          <a:stretch/>
        </p:blipFill>
        <p:spPr>
          <a:xfrm>
            <a:off x="4815000" y="487836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aerobic Respiratio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refers to the oxidation of molecules in the absence of oxygen to produce energy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lso kn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Fer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0" y="1981080"/>
            <a:ext cx="556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Muscle Cel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Yea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fermentation end product is ethyl alcohol,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happens when fermentation occur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3:48:36Z</dcterms:created>
  <dc:creator>PolyUser</dc:creator>
  <dc:description/>
  <dc:language>en-US</dc:language>
  <cp:lastModifiedBy>RomaK</cp:lastModifiedBy>
  <dcterms:modified xsi:type="dcterms:W3CDTF">2015-09-04T11:06:44Z</dcterms:modified>
  <cp:revision>6</cp:revision>
  <dc:subject/>
  <dc:title>Aerobic/Anaerobic Respiration</dc:title>
</cp:coreProperties>
</file>