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AC3A-1E23-41BF-AB0B-05B672090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5B66-B865-4A67-9524-08995E77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D83B-75D2-4CE0-8BEA-E0B5345E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6383-831C-40AC-901C-7DFC96B2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0AB7-5F1A-48F8-A10A-E2FC6F389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2E76-E829-4841-8107-9B56026E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82B7-C119-48CA-9929-3214A5E1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01A9-6BC4-4107-A4BB-C7D44F6E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D3BB-5103-46FD-A99F-154E1C70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DBEC-4981-470B-B6D0-6904A385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B4C4-8A95-4D16-8F4F-1BB2F7AA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B25A-9E60-4EF0-B268-53F7CB6A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8F75-D29B-463F-AF1F-82FBDA86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B1B9-22A9-4BF1-A7B9-32F2036E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6F71-137E-4DE3-9321-7756B8C4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2716-0D16-4264-AD71-51E994B4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D95A-FD78-4AD2-BF4F-34D07A998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5106-C84A-4B96-BA69-092B9E8D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67064-8543-44FA-98C0-4146AD68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A912E-76A2-445F-99FB-B1973194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9B467-67F7-4824-BF1D-39317A72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ED4B1-6F74-4904-8DAE-3E3CF4B5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1912F-8771-49F3-957E-71B34B8A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59A0-A3F8-462B-AA18-C4C6847C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A156E-0A4C-428F-A218-B6BDF70D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27435-A2A3-4F7B-8533-F7FAA562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C144B-EAD9-4A17-8DC2-EC7348BF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F8DE8-6FB5-431D-830A-065EC714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BA039-83BB-4127-9262-7A894413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E818A-0AE3-46AD-B9CD-9C86879F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5975B-B5CE-4E89-AA74-486C5789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F48D0-8A3E-4663-B7D1-CCAC436A0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76CA2-1D3F-4A9D-B409-ADEF28CC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DC91C-7E13-4356-9DE5-A0E9E88E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33D6-D9BF-4469-AE92-28183C50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95F0A-9FAE-4188-AEF5-13CB8937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47F2F-E671-4F64-901E-2198F24F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2AE25-CCE5-44D4-B522-18F70EDA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AFE07-6F48-431A-8E1B-8795C9A0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B7F91-6EA8-41ED-93E5-B315F573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3E10E-9A2B-44D6-8959-0681364F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AAB95-ED98-422B-8C69-329228E1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9E955-26F7-4804-BE2F-B48432B8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9C359-7EE3-45A3-9DB8-B09B8C2A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9F4F-6115-42EC-A131-16012699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7EFC-A39C-4AAF-8FF3-743115E3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730C-D793-4533-9DB9-81FF45DE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F261-CEFE-45BE-84BA-948F3747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C7C9-874B-47B3-83D4-B8BB6CC6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4C5E-AB76-4653-9F65-4C6CECCE40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80B6-1CDC-475C-9EEF-65204C6697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5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5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5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8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0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2D56-A4C2-441D-B195-51787B0CE5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6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6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6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6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6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AFD5-9DDF-48BD-82CA-7E502CE350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im: How do cells make new cell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ink about it – Without reproduction, all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life on earth would no longer exist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sexual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421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tosi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is the exact duplication of the nucleus of a cell so as to form two identical nuclei during cell divis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6" name="Picture 4" descr="Mitosis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733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ypes of Asexual Repro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120" y="1717200"/>
            <a:ext cx="441972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inary Fi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occurs in one-celled organisms such as the ameba and paramecium. The nucleus divides by mitosis and the cytoplasm divides, forming 2 new daughter cells of equal 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Picture 6" descr="biamoeba"/>
          <p:cNvPicPr/>
          <p:nvPr/>
        </p:nvPicPr>
        <p:blipFill>
          <a:blip r:embed="rId1"/>
          <a:stretch/>
        </p:blipFill>
        <p:spPr>
          <a:xfrm>
            <a:off x="5246640" y="2065320"/>
            <a:ext cx="3600360" cy="18921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TEM-Fission_rod"/>
          <p:cNvPicPr/>
          <p:nvPr/>
        </p:nvPicPr>
        <p:blipFill>
          <a:blip r:embed="rId2"/>
          <a:stretch/>
        </p:blipFill>
        <p:spPr>
          <a:xfrm>
            <a:off x="5710320" y="4145040"/>
            <a:ext cx="2674800" cy="198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5400" y="3922200"/>
            <a:ext cx="822636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udd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Hydra and yeast. The division of cytoplasm is unequal so one of the daughter cells is larger than the other.  The daughter cells can separate or remain attach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3" name="Picture 6" descr="buddingyeast(color)"/>
          <p:cNvPicPr/>
          <p:nvPr/>
        </p:nvPicPr>
        <p:blipFill>
          <a:blip r:embed="rId1"/>
          <a:stretch/>
        </p:blipFill>
        <p:spPr>
          <a:xfrm>
            <a:off x="1279440" y="1712880"/>
            <a:ext cx="2387520" cy="1943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u1fig35"/>
          <p:cNvPicPr/>
          <p:nvPr/>
        </p:nvPicPr>
        <p:blipFill>
          <a:blip r:embed="rId2"/>
          <a:stretch/>
        </p:blipFill>
        <p:spPr>
          <a:xfrm>
            <a:off x="5052960" y="1598760"/>
            <a:ext cx="3220920" cy="217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porul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molds, mosses, et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7" name="Picture 6" descr="sporulation"/>
          <p:cNvPicPr/>
          <p:nvPr/>
        </p:nvPicPr>
        <p:blipFill>
          <a:blip r:embed="rId1"/>
          <a:stretch/>
        </p:blipFill>
        <p:spPr>
          <a:xfrm>
            <a:off x="846000" y="3922560"/>
            <a:ext cx="3256200" cy="21733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spores"/>
          <p:cNvPicPr/>
          <p:nvPr/>
        </p:nvPicPr>
        <p:blipFill>
          <a:blip r:embed="rId2"/>
          <a:stretch/>
        </p:blipFill>
        <p:spPr>
          <a:xfrm>
            <a:off x="1008000" y="1598760"/>
            <a:ext cx="2930760" cy="217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0" name="Picture 6" descr="stages"/>
          <p:cNvPicPr/>
          <p:nvPr/>
        </p:nvPicPr>
        <p:blipFill>
          <a:blip r:embed="rId1"/>
          <a:stretch/>
        </p:blipFill>
        <p:spPr>
          <a:xfrm>
            <a:off x="477720" y="1827360"/>
            <a:ext cx="3990960" cy="40384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5.</a:t>
            </a:r>
            <a:r>
              <a:rPr b="1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Regeneration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Refers to the replacement or regrowth of lost or damaged body par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6.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Vegetative Propag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44" name="Picture 5" descr="potato%20bud1"/>
          <p:cNvPicPr/>
          <p:nvPr/>
        </p:nvPicPr>
        <p:blipFill>
          <a:blip r:embed="rId1"/>
          <a:stretch/>
        </p:blipFill>
        <p:spPr>
          <a:xfrm>
            <a:off x="5181480" y="1981080"/>
            <a:ext cx="3765600" cy="301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2:44:47Z</dcterms:created>
  <dc:creator>Saul</dc:creator>
  <dc:description/>
  <dc:language>en-US</dc:language>
  <cp:lastModifiedBy>RomaK</cp:lastModifiedBy>
  <dcterms:modified xsi:type="dcterms:W3CDTF">2015-09-04T11:07:52Z</dcterms:modified>
  <cp:revision>27</cp:revision>
  <dc:subject/>
  <dc:title>Aim: How do cells make new cells?</dc:title>
</cp:coreProperties>
</file>