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B42E8-F14A-4048-9529-98E71D5487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How do cells make new cel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: Read Text Book pages 284-287.  Answer questions 4, 5, 6 and 7on page 28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oduction is the process by whi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sms produce more of their own ki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nk about it – Without reproduction, all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on earth would no longer exis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sexual Reprodu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ne parent is in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spring are genetically identical to their par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tosis - is the exact duplication of the nucleus of a cell so as to form two identical nuclei during cell divi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inary Fission - occurs in one-celled organisms such as the ameba and paramecium. The nucleus divides by mitosis and the cytoplasm divides, forming 2 new daughter cells of equal 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Budding - Occurs in Hydra and yeast. The division of cytoplasm is unequal so one of the daughter cells is larger than the other.  The daughter cells can separate or remain attach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Sporulation - occurs in molds, mosses,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produced in large numbers by mito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Regeneration - Refers to the replacement or regrowth of lost or damaged body pa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sexual Re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Vegetative Propagation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754A-B316-48F2-8E15-4F6C52ECA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4B35-740B-4E7B-B78D-B6D4D9B6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A650-D86F-4811-BF28-851EE3B53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25F1-719E-49AD-89CF-1F016A766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07419-E45F-4577-A2F4-5872964C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162EA-2C74-4A99-B4B6-B6F0CA8E4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03093-CB1F-4645-8B55-405B9763F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55826-AE49-4DC4-B5D4-A00244EA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7B54-ECED-426D-A3EB-96F2FA5F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3FCD3-C4AA-4790-A103-4D6624E8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DA2E3-CB0C-4AE3-9CAE-8FDE1E5C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8B2-DED0-4379-AA18-0BEE9474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709E8-68D9-448F-9F5E-DE6B75F2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1263-1CCE-4923-9A6F-BF381E128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7999-5583-41DB-B656-8BC8D28F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DE96C-9376-4644-B54F-C520E703E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A2460-36C6-40F1-8F16-F05084F8A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47E21D-0E17-4550-ADF4-4AB2BCD6D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1435E-4A8E-4F5F-AFAC-1E212467F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FEA82-DF9D-4253-AA7B-CB535FDA8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0335D-84CE-46AC-928F-38B8F75C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2696C-8434-408A-BCD1-012F1F4CB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E9DD-B228-45FC-A600-795AAA9B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4A9F7-C179-4EED-AA8B-3127E1BC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443BBF-72DE-4BF7-81C2-04A2A106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344615-AABA-459A-B3B0-FBCB611F8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21D3-D0D2-43B3-8515-FFD4B9981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43905-7E11-479F-9B93-483C18F26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D8476-D33C-4916-9FA5-C6B1209B8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E945F-F062-434D-B78C-2F5475A3A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13B6C-18F1-47C8-8FA9-6C087B06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35E54-F9B5-403C-ACBC-3EE1D3537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988A7-9FED-413F-93CA-AE0172183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7669-5B68-4DEB-B522-29F46294F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5318A-3955-4916-9DD8-5629BCEC0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CD621F-E8FC-4D4B-8A7C-9DCA72A89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BA483-54E6-4DF4-AF3B-C0F854A7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2C03EB-1541-4AA0-95DC-5EE780E8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884E-0270-4F23-96EF-9D4904A52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9BC70-59D1-406F-A3E2-83C1D1339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F40F3B-3814-4DDB-8F42-08CDA474C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1E98E-0B35-4CCE-9F33-EBE065151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F05CA-5460-46BF-BC13-C268F496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ADC5-CAB7-444A-A1BD-F37744EA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F19A-47F0-4505-B113-6D4A902F6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3067B-3B8C-4E2D-872A-CEDA0BA4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422D-517D-478A-AA75-E5701E99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225-F9BC-46E0-9C2C-77F2279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9581-421F-43C6-995C-888EE52D4BD0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 type="dt" idx="4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 type="ftr" idx="5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 type="sldNum" idx="6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2269-04C7-42F0-BBC2-41729BA43C8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55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56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57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8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9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0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1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2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3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2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3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4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5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6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7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8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9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0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1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82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83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6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97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8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99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202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2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3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4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5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6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7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8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7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8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9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E706-2BB4-45D3-A559-BAD91BAA032C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261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262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3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265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6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  <p:sp>
          <p:nvSpPr>
            <p:cNvPr id="267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8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69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CE526-E4A3-4D61-912C-6395B471D7D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Aim: How do cells make new cell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o Now:  What happens when you cut a worm in half?  Why do you think you can grow new skin over a cut on you hand but you can’t grow new fingers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Homework: Read Text Book pages 284-287.  Answer questions 4, 5, 6 and 7on page 28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production is the process by which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rganisms produce more of their own ki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Think about it – Without reproduction, all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cc66"/>
                </a:solidFill>
                <a:latin typeface="Arial"/>
              </a:rPr>
              <a:t>life on earth would no longer exist.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at is Asexual Reproduction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nly one parent is involve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ffspring are genetically identical to their parent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cells that come from a single cell are genetically identical to it and to each other; they are all clon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4421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Mitosis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is the exact duplication of the nucleus of a cell so as to form two identical nuclei during cell divisio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26" name="Picture 4" descr="Mitosis"/>
          <p:cNvPicPr/>
          <p:nvPr/>
        </p:nvPicPr>
        <p:blipFill>
          <a:blip r:embed="rId1"/>
          <a:stretch/>
        </p:blipFill>
        <p:spPr>
          <a:xfrm>
            <a:off x="4114800" y="1676520"/>
            <a:ext cx="5029200" cy="3733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Types of Asexual Reproduc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120" y="1717200"/>
            <a:ext cx="4419720" cy="51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f01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Binary Fiss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- occurs in one-celled organisms such as the ameba and paramecium. The nucleus divides by mitosis and the cytoplasm divides, forming 2 new daughter cells of equal 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9" name="Picture 6" descr="biamoeba"/>
          <p:cNvPicPr/>
          <p:nvPr/>
        </p:nvPicPr>
        <p:blipFill>
          <a:blip r:embed="rId1"/>
          <a:stretch/>
        </p:blipFill>
        <p:spPr>
          <a:xfrm>
            <a:off x="5246640" y="2065320"/>
            <a:ext cx="3600360" cy="189216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TEM-Fission_rod"/>
          <p:cNvPicPr/>
          <p:nvPr/>
        </p:nvPicPr>
        <p:blipFill>
          <a:blip r:embed="rId2"/>
          <a:stretch/>
        </p:blipFill>
        <p:spPr>
          <a:xfrm>
            <a:off x="5710320" y="4145040"/>
            <a:ext cx="2674800" cy="1987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5400" y="3922200"/>
            <a:ext cx="8226360" cy="21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Budding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Hydra and yeast. The division of cytoplasm is unequal so one of the daughter cells is larger than the other.  The daughter cells can separate or remain attache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3" name="Picture 6" descr="buddingyeast(color)"/>
          <p:cNvPicPr/>
          <p:nvPr/>
        </p:nvPicPr>
        <p:blipFill>
          <a:blip r:embed="rId1"/>
          <a:stretch/>
        </p:blipFill>
        <p:spPr>
          <a:xfrm>
            <a:off x="1279440" y="1712880"/>
            <a:ext cx="2387520" cy="19432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7" descr="u1fig35"/>
          <p:cNvPicPr/>
          <p:nvPr/>
        </p:nvPicPr>
        <p:blipFill>
          <a:blip r:embed="rId2"/>
          <a:stretch/>
        </p:blipFill>
        <p:spPr>
          <a:xfrm>
            <a:off x="5052960" y="1598760"/>
            <a:ext cx="322092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Sporulation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- occurs in molds, mosses, etc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produced in large numbers by mitosi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pores are surrounded by a tough coat to help them survive harsh environmental condition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37" name="Picture 6" descr="sporulation"/>
          <p:cNvPicPr/>
          <p:nvPr/>
        </p:nvPicPr>
        <p:blipFill>
          <a:blip r:embed="rId1"/>
          <a:stretch/>
        </p:blipFill>
        <p:spPr>
          <a:xfrm>
            <a:off x="846000" y="3922560"/>
            <a:ext cx="3256200" cy="21733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spores"/>
          <p:cNvPicPr/>
          <p:nvPr/>
        </p:nvPicPr>
        <p:blipFill>
          <a:blip r:embed="rId2"/>
          <a:stretch/>
        </p:blipFill>
        <p:spPr>
          <a:xfrm>
            <a:off x="1008000" y="1598760"/>
            <a:ext cx="2930760" cy="2171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340" name="Picture 6" descr="stages"/>
          <p:cNvPicPr/>
          <p:nvPr/>
        </p:nvPicPr>
        <p:blipFill>
          <a:blip r:embed="rId1"/>
          <a:stretch/>
        </p:blipFill>
        <p:spPr>
          <a:xfrm>
            <a:off x="477720" y="1827360"/>
            <a:ext cx="3990960" cy="4038480"/>
          </a:xfrm>
          <a:prstGeom prst="rect">
            <a:avLst/>
          </a:prstGeom>
          <a:ln w="0">
            <a:noFill/>
          </a:ln>
        </p:spPr>
      </p:pic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5.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Arial"/>
              </a:rPr>
              <a:t>Regeneration</a:t>
            </a: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 - Refers to the replacement or regrowth of lost or damaged body par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ypes of Asexual Rep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6.</a:t>
            </a:r>
            <a:r>
              <a:rPr b="1" lang="en-US" sz="3200" spc="-1" strike="noStrike" u="sng">
                <a:solidFill>
                  <a:srgbClr val="eaeaea"/>
                </a:solidFill>
                <a:uFillTx/>
                <a:latin typeface="Arial"/>
              </a:rPr>
              <a:t>Vegetative Propagation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Occurs only in plants (vegetative). New plants develop from the roots, stems, or leaves of the parent plan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344" name="Picture 5" descr="potato%20bud1"/>
          <p:cNvPicPr/>
          <p:nvPr/>
        </p:nvPicPr>
        <p:blipFill>
          <a:blip r:embed="rId1"/>
          <a:stretch/>
        </p:blipFill>
        <p:spPr>
          <a:xfrm>
            <a:off x="5181480" y="1981080"/>
            <a:ext cx="3765600" cy="3013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5T22:44:47Z</dcterms:created>
  <dc:creator>Saul</dc:creator>
  <dc:description/>
  <dc:language>en-US</dc:language>
  <cp:lastModifiedBy>RomaK</cp:lastModifiedBy>
  <dcterms:modified xsi:type="dcterms:W3CDTF">2015-09-04T11:07:52Z</dcterms:modified>
  <cp:revision>27</cp:revision>
  <dc:subject/>
  <dc:title>Aim: How do cells make new cells?</dc:title>
</cp:coreProperties>
</file>