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5.jpeg" ContentType="image/jpeg"/>
  <Override PartName="/ppt/media/image14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whoosh.wav" ContentType="audio/x-wav"/>
  <Override PartName="/ppt/media/image13.png" ContentType="image/png"/>
  <Override PartName="/ppt/media/image6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73071-01E4-477B-B08F-D73AA4798D2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exual Re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of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exual Re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of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ercial asp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ficial propagation has allowed us to adapt and improve plants for our own 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of the benefits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ck production of large numbers of genetically identical pla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fic varieties, desired features or consistent quality can be produced especially in fruit, flow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ercial asp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ficial propagation has allowed us to adapt and improve plants for our own 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of the benefits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ck production of large numbers of genetically identical pla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fic varieties, desired features or consistent quality can be produced especially in fruit, flow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exual re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known as vegetative propa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methods of vegetative propagta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u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bul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runn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exual re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known as vegetative propa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methods of vegetative propagta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u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bul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runn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bers are underground food stores which stores food over the winter and provides a new plant with food until it can make its 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made by the new plant is sent to make new tubers. Thereby reproducing itsel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 potato, artichoke, yam, cassava, water chestnut, arrow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bers are underground food stores which stores food over the winter and provides a new plant with food until it can make its 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made by the new plant is sent to make new tubers. Thereby reproducing itsel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 potato, artichoke, yam, cassava, water chestnut, arrow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ul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.g. daffodils, lil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l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daffodils, lil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nn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nners are side shoots which grow out from the parent p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ds form at points along the runner and eventually these buds form roots and grow into new pla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 spider plant (Anthericum), strawberry (Fragaria x ananass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nn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nners are side shoots which grow out from the parent p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ds form at points along the runner and eventually these buds form roots and grow into new pla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 spider plant (Anthericum), strawberry (Fragaria x ananass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ficial Propa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methods used to cultivate plants asexu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aking cut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af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ficial Propa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methods used to cultivate plants asexu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aking cut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af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an be placed in mo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il or water (and somet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ped in roo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der)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tings are small pieces of stem with some leaves attached, the new plant grows from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an be placed in mo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il or water (and somet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ped in roo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der)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tings are small pieces of stem with some leaves attached, the new plant grows from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f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ut stem of one plant (with good flower or fruit growth) (the graft) is taken and firmly attached to the rootstock of another plant (which has a strong, established root system) (the stock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- roses, fruit tr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f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ut stem of one plant (with good flower or fruit growth) (the graft) is taken and firmly attached to the rootstock of another plant (which has a strong, established root system) (the stock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- roses, fruit tr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BEBC-4456-47AB-B924-9A4923392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8483-9A22-4938-A316-21A3261E0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EFBE-C86E-402C-B647-744B139F8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63D5-655A-4468-9342-04FF99672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96A1-6DAE-425E-929C-676330F34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A1D3-058E-4D3C-9572-15B613803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5851-D853-4C06-AE89-0CC423206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40CA-0D67-428B-8B4C-03CE4ADB6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3440-2286-47D1-BD5A-250FA46D9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2AB2-1444-4AD5-B2CB-8FB954320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C895-CD59-496C-B99C-95EA73CA0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B75A-6D5C-4B94-AFE3-009766F68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BED74-1CDB-44DB-96BC-FCCE762637D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isledegrande.com/giimages9/wildstrawberryrunners.jpg&amp;imgrefurl=http://www.isledegrande.com/naturepage04-v2.htm&amp;h=513&amp;w=684&amp;sz=67&amp;hl=en&amp;start=2&amp;tbnid=ZnZ5qL1KkKoxPM:&amp;tbnh=104&amp;tbnw=139&amp;prev=/images%3Fq%3Dstrawberry%2Brunners%26gbv%3D2%26svnum%3D10%26hl%3Den%26safe%3Dactive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co.uk/imgres?imgurl=http://www.ces.ncsu.edu/hil/gif/8701fig6.gif&amp;imgrefurl=http://www.ces.ncsu.edu/hil/hil-8701.html&amp;h=144&amp;w=225&amp;sz=7&amp;hl=en&amp;start=21&amp;tbnid=teEx4TJAQz72fM:&amp;tbnh=69&amp;tbnw=108&amp;prev=/images%3Fq%3Dspider%2Bplant%2Brunners%26start%3D20%26gbv%3D2%26ndsp%3D20%26svnum%3D10%26hl%3Den%26safe%3Dactive%26sa%3DN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images.google.co.uk/imgres?imgurl=http://www.ncsu.edu/project/agronauts/images/berry.gif&amp;imgrefurl=http://www.ncsu.edu/project/agronauts/mission2_polly.htm&amp;h=131&amp;w=105&amp;sz=5&amp;hl=en&amp;start=89&amp;tbnid=RU_iqx1Pp70eFM:&amp;tbnh=91&amp;tbnw=73&amp;prev=/images%3Fq%3Dstrawberry%2Brunners%26start%3D80%26gbv%3D2%26ndsp%3D20%26svnum%3D10%26hl%3Den%26safe%3Dactive%26sa%3DN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images.google.co.uk/imgres?imgurl=http://www.blaserco.com/blogs/images/rhyzomes.jpg&amp;imgrefurl=http://www.blaserco.com/blogs/2006/02/05.html&amp;h=298&amp;w=397&amp;sz=23&amp;hl=en&amp;start=9&amp;tbnid=QWKJ9ntvVOPkGM:&amp;tbnh=93&amp;tbnw=124&amp;prev=/images%3Fq%3Dstrawberry%2Brunners%26gbv%3D2%26svnum%3D10%26hl%3Den%26safe%3Dactive" TargetMode="External"/><Relationship Id="rId8" Type="http://schemas.openxmlformats.org/officeDocument/2006/relationships/image" Target="../media/image7.jpeg"/><Relationship Id="rId9" Type="http://schemas.openxmlformats.org/officeDocument/2006/relationships/hyperlink" Target="http://images.google.co.uk/imgres?imgurl=http://www.visit-islay.com/resources/plants_files/image019.gif&amp;imgrefurl=http://www.visit-islay.com/resources/plants.htm&amp;h=200&amp;w=250&amp;sz=11&amp;hl=en&amp;start=4&amp;tbnid=Gh-qm-haBRJezM:&amp;tbnh=89&amp;tbnw=111&amp;prev=/images%3Fq%3Dspider%2Bplant%2Brunners%26gbv%3D2%26svnum%3D10%26hl%3Den%26safe%3Dactive" TargetMode="External"/><Relationship Id="rId10" Type="http://schemas.openxmlformats.org/officeDocument/2006/relationships/image" Target="../media/image8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gardenhive.com/houseplants/peperomias/propagate/stem-cuttings/rooting-powder-1.jpg&amp;imgrefurl=http://www.gardenhive.com/houseplants/peperomias/propagate/stem-cuttings/&amp;h=120&amp;w=180&amp;sz=6&amp;hl=en&amp;start=11&amp;tbnid=xrlGTDo67GtVpM:&amp;tbnh=67&amp;tbnw=101&amp;prev=/images%3Fq%3Drooting%2Bpowder%2Bcuttings%26gbv%3D2%26svnum%3D10%26hl%3Den%26safe%3Dactive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s.google.co.uk/imgres?imgurl=http://www.nantuckethydrangea.com/PropagationPics/trimbot.jpg&amp;imgrefurl=http://www.nantuckethydrangea.com/propagation.html&amp;h=405&amp;w=400&amp;sz=93&amp;hl=en&amp;start=83&amp;tbnid=N-zbA_-dv3yvDM:&amp;tbnh=124&amp;tbnw=122&amp;prev=/images%3Fq%3Drooting%2Bcuttings%2Bpowder%26start%3D80%26gbv%3D2%26ndsp%3D20%26svnum%3D10%26hl%3Den%26safe%3Dactive%26sa%3DN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rosemagazine.com/articles04/tree_roses/tree_rose.jpg&amp;imgrefurl=http://www.rosemagazine.com/articles04/tree_roses/&amp;h=269&amp;w=398&amp;sz=27&amp;hl=en&amp;start=8&amp;tbnid=qwnGi4NXS7mmbM:&amp;tbnh=84&amp;tbnw=124&amp;prev=/images%3Fq%3Drose%2Btree%2Bgrafts%26gbv%3D2%26ndsp%3D20%26svnum%3D10%26hl%3Den%26safe%3Dactive%26sa%3DN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sexual Rep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orld of Pl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tandard Grade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ommercial asp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533520" y="1676520"/>
            <a:ext cx="8229600" cy="22096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omic Sans MS"/>
              </a:rPr>
              <a:t>Artificial propagation has allowed us to </a:t>
            </a:r>
            <a:r>
              <a:rPr b="1" lang="en-US" sz="3200" spc="-1" strike="noStrike">
                <a:solidFill>
                  <a:srgbClr val="003300"/>
                </a:solidFill>
                <a:latin typeface="Comic Sans MS"/>
              </a:rPr>
              <a:t>adapt and improve</a:t>
            </a:r>
            <a:r>
              <a:rPr b="0" lang="en-US" sz="3200" spc="-1" strike="noStrike">
                <a:solidFill>
                  <a:srgbClr val="003300"/>
                </a:solidFill>
                <a:latin typeface="Comic Sans MS"/>
              </a:rPr>
              <a:t> plants for our own u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omic Sans MS"/>
              </a:rPr>
              <a:t>Some of the benefits inclu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533520" y="3733920"/>
            <a:ext cx="8229600" cy="1510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Comic Sans MS"/>
              </a:rPr>
              <a:t>Quick</a:t>
            </a:r>
            <a:r>
              <a:rPr b="0" lang="en-US" sz="3200" spc="-1" strike="noStrike">
                <a:solidFill>
                  <a:srgbClr val="003300"/>
                </a:solidFill>
                <a:latin typeface="Comic Sans MS"/>
              </a:rPr>
              <a:t> production of </a:t>
            </a:r>
            <a:r>
              <a:rPr b="1" lang="en-US" sz="3200" spc="-1" strike="noStrike">
                <a:solidFill>
                  <a:srgbClr val="003300"/>
                </a:solidFill>
                <a:latin typeface="Comic Sans MS"/>
              </a:rPr>
              <a:t>large numbers</a:t>
            </a:r>
            <a:r>
              <a:rPr b="0" lang="en-US" sz="3200" spc="-1" strike="noStrike">
                <a:solidFill>
                  <a:srgbClr val="003300"/>
                </a:solidFill>
                <a:latin typeface="Comic Sans MS"/>
              </a:rPr>
              <a:t> of genetically identical pla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533520" y="4800600"/>
            <a:ext cx="8229600" cy="20642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Comic Sans MS"/>
              </a:rPr>
              <a:t>Specific</a:t>
            </a:r>
            <a:r>
              <a:rPr b="0" lang="en-US" sz="3200" spc="-1" strike="noStrike">
                <a:solidFill>
                  <a:srgbClr val="003300"/>
                </a:solidFill>
                <a:latin typeface="Comic Sans MS"/>
              </a:rPr>
              <a:t> varieties, desired features or consistent quality can be produced especially in fruit, flow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609480" y="533520"/>
          <a:ext cx="8229600" cy="59608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72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xual Reprod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sexual Reprod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5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fini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volves 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sex cells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and 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ertilis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es not involve 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sex cells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and 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ertilis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nly one 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parent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pl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dvantages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sadvantag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ffspring are not 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genetically identical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to one ano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re is 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variation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in the offsp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ffspring have no 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vari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33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ffspring are 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genetically identical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to one ano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Asexual reproduc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Also known as </a:t>
            </a:r>
            <a:r>
              <a:rPr b="1" lang="en-GB" sz="2600" spc="-1" strike="noStrike">
                <a:solidFill>
                  <a:srgbClr val="ff3300"/>
                </a:solidFill>
                <a:latin typeface="Comic Sans MS"/>
              </a:rPr>
              <a:t>vegetative propag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3 methods of vegetative propagta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-tub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-bulb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-runn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ub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3" descr="tubers"/>
          <p:cNvPicPr/>
          <p:nvPr/>
        </p:nvPicPr>
        <p:blipFill>
          <a:blip r:embed="rId1"/>
          <a:stretch/>
        </p:blipFill>
        <p:spPr>
          <a:xfrm>
            <a:off x="76320" y="1523880"/>
            <a:ext cx="4190760" cy="32925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4"/>
          <p:cNvSpPr/>
          <p:nvPr/>
        </p:nvSpPr>
        <p:spPr>
          <a:xfrm>
            <a:off x="4419720" y="1752480"/>
            <a:ext cx="426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ubers are underground food stores which stores food over the winter and provides a new plant with food until it can make its ow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4419720" y="551808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ood made by the new plant is sent to make new tubers. Thereby reproducing it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4419720" y="4114800"/>
            <a:ext cx="3962160" cy="11912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amples: potato, artichoke, yam, cassava, water chestnut, arrow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Group 7"/>
          <p:cNvGrpSpPr/>
          <p:nvPr/>
        </p:nvGrpSpPr>
        <p:grpSpPr>
          <a:xfrm>
            <a:off x="533520" y="4968720"/>
            <a:ext cx="3580920" cy="1313640"/>
            <a:chOff x="533520" y="4968720"/>
            <a:chExt cx="3580920" cy="1313640"/>
          </a:xfrm>
        </p:grpSpPr>
        <p:pic>
          <p:nvPicPr>
            <p:cNvPr id="59" name="Picture 8" descr="taro"/>
            <p:cNvPicPr/>
            <p:nvPr/>
          </p:nvPicPr>
          <p:blipFill>
            <a:blip r:embed="rId2"/>
            <a:stretch/>
          </p:blipFill>
          <p:spPr>
            <a:xfrm>
              <a:off x="533520" y="4968720"/>
              <a:ext cx="1931760" cy="12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9"/>
            <p:cNvSpPr/>
            <p:nvPr/>
          </p:nvSpPr>
          <p:spPr>
            <a:xfrm>
              <a:off x="2590560" y="5273640"/>
              <a:ext cx="15238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Taro- Japanese pota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Bulb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E.g. daffodils, lili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4" descr="The life of a tulip bulb"/>
          <p:cNvPicPr/>
          <p:nvPr/>
        </p:nvPicPr>
        <p:blipFill>
          <a:blip r:embed="rId1"/>
          <a:stretch/>
        </p:blipFill>
        <p:spPr>
          <a:xfrm>
            <a:off x="304920" y="2666880"/>
            <a:ext cx="815328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unn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3" descr="wildstrawberryrunner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1981080"/>
            <a:ext cx="3429000" cy="2565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8701fig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162920" y="380880"/>
            <a:ext cx="1523880" cy="973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berry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9480" y="384120"/>
            <a:ext cx="795600" cy="9907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4419720" y="1893960"/>
            <a:ext cx="426708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Runners are side shoots which grow out from the parent pl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uds form at points along the runner and eventually these buds form roots and grow into new pla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2362320" y="5257800"/>
            <a:ext cx="3886200" cy="11912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amples: spider plant (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Anthericum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), strawberry (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ragaria x ananas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Group 8"/>
          <p:cNvGrpSpPr/>
          <p:nvPr/>
        </p:nvGrpSpPr>
        <p:grpSpPr>
          <a:xfrm>
            <a:off x="304920" y="5105520"/>
            <a:ext cx="8610480" cy="1542960"/>
            <a:chOff x="304920" y="5105520"/>
            <a:chExt cx="8610480" cy="1542960"/>
          </a:xfrm>
        </p:grpSpPr>
        <p:pic>
          <p:nvPicPr>
            <p:cNvPr id="71" name="Picture 9" descr="rhyzomes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>
              <a:off x="6858000" y="5105520"/>
              <a:ext cx="2057400" cy="154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Picture 10" descr="image019">
              <a:hlinkClick r:id="rId9"/>
            </p:cNvPr>
            <p:cNvPicPr/>
            <p:nvPr/>
          </p:nvPicPr>
          <p:blipFill>
            <a:blip r:embed="rId10"/>
            <a:stretch/>
          </p:blipFill>
          <p:spPr>
            <a:xfrm>
              <a:off x="304920" y="5153040"/>
              <a:ext cx="1649160" cy="1324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rtificial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 methods used to cultivate plants asexu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taking cutt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graf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ut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3429000" y="4724280"/>
            <a:ext cx="5105520" cy="19814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y can be placed in mo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il or water (and someti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pped in roo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wder).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rooting-powder-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0" y="5638680"/>
            <a:ext cx="1523880" cy="10112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trimbot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25640" y="4724280"/>
            <a:ext cx="1946160" cy="198144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6"/>
          <p:cNvGrpSpPr/>
          <p:nvPr/>
        </p:nvGrpSpPr>
        <p:grpSpPr>
          <a:xfrm>
            <a:off x="533520" y="1981080"/>
            <a:ext cx="8229600" cy="2667240"/>
            <a:chOff x="533520" y="1981080"/>
            <a:chExt cx="8229600" cy="2667240"/>
          </a:xfrm>
        </p:grpSpPr>
        <p:pic>
          <p:nvPicPr>
            <p:cNvPr id="80" name="Picture 7" descr="propagation-1"/>
            <p:cNvPicPr/>
            <p:nvPr/>
          </p:nvPicPr>
          <p:blipFill>
            <a:blip r:embed="rId5"/>
            <a:stretch/>
          </p:blipFill>
          <p:spPr>
            <a:xfrm>
              <a:off x="533520" y="2281320"/>
              <a:ext cx="5033880" cy="236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Picture 8" descr="propagation-2"/>
            <p:cNvPicPr/>
            <p:nvPr/>
          </p:nvPicPr>
          <p:blipFill>
            <a:blip r:embed="rId6"/>
            <a:stretch/>
          </p:blipFill>
          <p:spPr>
            <a:xfrm>
              <a:off x="5562720" y="2598840"/>
              <a:ext cx="1761840" cy="204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9" descr="propagation-3a"/>
            <p:cNvPicPr/>
            <p:nvPr/>
          </p:nvPicPr>
          <p:blipFill>
            <a:blip r:embed="rId7"/>
            <a:stretch/>
          </p:blipFill>
          <p:spPr>
            <a:xfrm>
              <a:off x="6980400" y="1981080"/>
              <a:ext cx="1782720" cy="266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Rectangle 10"/>
            <p:cNvSpPr/>
            <p:nvPr/>
          </p:nvSpPr>
          <p:spPr>
            <a:xfrm>
              <a:off x="533520" y="1981080"/>
              <a:ext cx="647676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11"/>
            <p:cNvSpPr/>
            <p:nvPr/>
          </p:nvSpPr>
          <p:spPr>
            <a:xfrm>
              <a:off x="5410080" y="2133720"/>
              <a:ext cx="167652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Text Box 12"/>
          <p:cNvSpPr/>
          <p:nvPr/>
        </p:nvSpPr>
        <p:spPr>
          <a:xfrm>
            <a:off x="533520" y="1066680"/>
            <a:ext cx="8229600" cy="916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Cuttings are small pieces of stem with some leaves attached, the new plant grows from thi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257440" y="38052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raf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533520" y="4038480"/>
            <a:ext cx="8229600" cy="2590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cut stem of one plant (with good flower or fruit growth)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the graft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taken and firmly attached to the rootstock of another plant (which has a strong, established root system)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the stock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- roses, fruit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5" descr="tree_ros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10080" y="1752480"/>
            <a:ext cx="3429000" cy="2324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qu-graft"/>
          <p:cNvPicPr/>
          <p:nvPr/>
        </p:nvPicPr>
        <p:blipFill>
          <a:blip r:embed="rId3"/>
          <a:stretch/>
        </p:blipFill>
        <p:spPr>
          <a:xfrm>
            <a:off x="533520" y="457200"/>
            <a:ext cx="276516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12:40:40Z</dcterms:created>
  <dc:creator>hhashmi</dc:creator>
  <dc:description/>
  <dc:language>en-US</dc:language>
  <cp:lastModifiedBy>RomaK</cp:lastModifiedBy>
  <dcterms:modified xsi:type="dcterms:W3CDTF">2015-09-04T11:07:58Z</dcterms:modified>
  <cp:revision>7</cp:revision>
  <dc:subject/>
  <dc:title>Asexual Reproduction</dc:title>
</cp:coreProperties>
</file>