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3.png" ContentType="image/png"/>
  <Override PartName="/ppt/media/image17.jpeg" ContentType="image/jpeg"/>
  <Override PartName="/ppt/media/image5.jpeg" ContentType="image/jpeg"/>
  <Override PartName="/ppt/media/image10.jpeg" ContentType="image/jpeg"/>
  <Override PartName="/ppt/media/image28.wmf" ContentType="image/x-wmf"/>
  <Override PartName="/ppt/media/image30.wmf" ContentType="image/x-wmf"/>
  <Override PartName="/ppt/media/image7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8.wmf" ContentType="image/x-wmf"/>
  <Override PartName="/ppt/media/image11.png" ContentType="image/png"/>
  <Override PartName="/ppt/media/image9.png" ContentType="image/png"/>
  <Override PartName="/ppt/media/image2.png" ContentType="image/png"/>
  <Override PartName="/ppt/media/image1.png" ContentType="image/png"/>
  <Override PartName="/ppt/media/image14.wmf" ContentType="image/x-wmf"/>
  <Override PartName="/ppt/media/image29.png" ContentType="image/png"/>
  <Override PartName="/ppt/media/image15.png" ContentType="image/png"/>
  <Override PartName="/ppt/media/image16.png" ContentType="image/png"/>
  <Override PartName="/ppt/media/image20.png" ContentType="image/png"/>
  <Override PartName="/ppt/media/image19.wmf" ContentType="image/x-wmf"/>
  <Override PartName="/ppt/media/image6.jpeg" ContentType="image/jpeg"/>
  <Override PartName="/ppt/media/image18.png" ContentType="image/png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8A44D-C44B-438E-9970-C08BFAE5DD8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is the ability of an object to flo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the object’s dens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is the ability of an object to flo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the object’s dens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is the amount of matter in a given volume or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are the least dense form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are more dense than gasses, but less dense than sol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the most dense form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is the amount of matter in a given volume or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are the least dense form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are more dense than gasses, but less dense than 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the most dense form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alloon pops, the gas will spread out evenly in the cu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fill any volume and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alloon pops, the gas will spread out evenly in the cu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ses fill any volume and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stick together, but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will take the shape of the cu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quids stick together, but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ter will take the shape of the cu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very dense and do not take the shape of their contai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will keep its own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s are very dense and do not take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will keep its own sha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and density are called PROPERTIES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perty of matter is displacement, or how much matter (we use water) it pushes out of the w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oyant object will only displace its mass unless its surface area is large compared to its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you used sand instead of wa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but not least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oyancy and density are called PROPERTIES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perty of matter is displacement, or how much matter (we use water) it pushes out of the w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oyant object will only displace its mass unless its surface area is large compared to its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you used sand instead of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but not leas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9F36-EA19-496A-BFE1-768CEBE6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83D7-2F5F-4477-AF06-068C8E82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78A2-35B3-421B-9CCD-8AAEF8E5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4271-6447-4263-BA87-69AA8D7C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49C4-2B30-4899-A411-7BEB4D03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188B-EC00-4D74-B52B-2848C127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F125-C383-4CF3-977A-454F3F2C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94BA-6345-49BD-88BD-2E72E60C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37405-5444-4F8A-8554-89DEAD36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5207-06D4-434F-8848-DE3E5D9C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59C5-F65D-4CB7-ACCB-6F7EDC5A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E005-FE2E-4404-9A97-B83559F7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9AEF-E308-4DE1-9BF6-66E2D879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FD09-6E07-4C80-A7FB-F787C9FD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4C07-4B00-49C9-8F0E-034E98A6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6BBF-6EB9-42F2-9457-8A111E4E0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E0B3-A598-42CE-B8DB-82A17ECD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88125-EF4D-48D9-8E87-1DE5CA5D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5DDD7-2E17-4195-A0C2-C9CEB0AF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1E249-2F2F-401F-8A25-AFDA094D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E3215-955E-4B53-8C7B-F480F528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A987D-9FE4-4784-975D-8E676E96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EB34-9F99-4C63-8F0A-79F91D05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54269-EFE1-4602-81A9-3F5B1B3A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5CB78-BBED-4208-AF48-B63C7B52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E1879-B4A6-473D-BEAE-5DE13AFB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5A783-B3B8-4E7D-8549-0533A182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31697-3209-4D52-9801-A3BFF4D1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F6AF2-BD4F-49F7-8639-7A4BD0C9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26D7E-C060-4E25-861F-617FF1B9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42D1A-B0A8-49B9-9F4D-E247A5AA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77C9D-3246-47FE-B45B-9CE808A5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C43DA-7A1B-428C-8644-43C4EEBE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4FC-42FE-4D45-A0DF-10E48026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0F1FD-3F07-44D1-97C7-F0CD2EC0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B24D7-5F53-49F1-86BA-4576FDDF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732F1-2D91-4C54-80F0-A21353E1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969789-52E7-4536-A1F6-808CDA8B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5823D-107C-4DE3-B986-D0BE993A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239E6-BAC4-45D9-9E62-FAE5053A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5CCD2-C2D2-485D-AF37-CD0616B5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84DA9-6F73-4129-BC27-1991EB70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2EB6D-73CB-4920-B9D5-62FF4388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E2C2B-126A-4E2E-B97C-EA2B190B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16DF-1043-407E-B04E-0B8F5573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A7CC3-01A0-423E-9236-9EBBA7BA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0CFF6-7E98-4626-8474-AF35805B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2D1BF-D840-4C9B-A622-106CCC92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FC8EA-7078-4429-B609-F361F9B3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C65AB-323F-465E-8903-B8E2F525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1B609-99B4-4C12-85FE-F517C854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6C2B3-986B-4542-A6F4-88297731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44A23-308D-4B38-A39D-CD7F511D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9D6EB-05C6-4202-A710-411D3F2C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FCDA0-ADCC-48A5-98DB-4806B4C6F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7A0-BC6B-480B-9D05-31D9CB17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8E8E5-E37C-42A9-B8E7-D6E2CB68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57D26-84CA-4666-A6C0-012D0162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5F5C8-1455-4A61-AF79-9EF021B9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B7AE6-8576-47D9-9BE8-986BCA70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9C1C5-1082-4BD9-8F16-6C032D49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C360B-CDDD-458D-9503-58A7749B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25DDB-E1AC-4337-A6E6-9D2D5C12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933E4-C308-4A0D-B6D3-4C9868EC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3B90A-A01D-460E-8015-E3245E07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5D208-218E-4ECE-AE35-06D3AD52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1D0C-40EC-4628-A64A-2B84EAA8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399EA-9A3B-4633-8023-3D4F8D27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9D5D6-60AA-4C80-8AD7-D6883184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5E8AB-BBF2-4009-AA6E-767D92C1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F52CB-FDBF-4312-92B1-20DA779E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55245-9E9E-4BFD-89DC-E46F03E1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2597E-65DE-451E-BE1D-3B935468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02697-6615-4BEB-922B-4745CA9F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7AA76-B716-4DC5-9E36-167875F4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8CFFB-496D-474B-8976-C9ACD118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64033-237A-456B-95E2-B6103B3F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6FFC-F4A0-4906-8A63-23E01F0C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1A320-AEF8-4D37-B7EF-FFCAD18B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D0380-BBFE-4CC8-8494-E70E8DF6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F154C-8127-49D0-B8B9-365FD7E9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D97B4-BAB6-404D-BF48-566134D5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D3880-0CA6-438A-94D7-1916F73B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FEC4F-6D77-4206-8A2E-0CD39CEC6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16719-80CC-4CB0-9CD4-B1127FC9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86CB3C-D8F1-45A0-AC9A-160105D7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62FCA-8DF6-40C2-8F30-349E2E02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1E1DC-0752-4795-A613-EB99E336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1528-476D-4094-82B0-2C62EA0E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2246C-CD7B-4770-85A4-C7A38E0A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F74F9-2302-4CA1-8918-81B1B0D1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46E13-13B9-44CB-9565-0882B7ED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9FCBC-68F9-43BA-94EC-334DFD4A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50594-48E0-4435-929B-4B0CBE08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B05E5-7AFE-4B33-82A2-DC3F1D134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ECD78-5BAC-478C-9419-17380DD7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FAC9-3832-42F5-8717-ADB3CDFE668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4125-C535-4B20-9CAB-2B133AA440D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A319-EA20-473E-A045-6353F18E79F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45B9-B858-4A89-AD03-3F2C7E2A621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F5FD-8046-4D9A-8043-2AC9FE8BDFF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BA0D-0FAB-4282-81F4-542CC4FD956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2501-2EF8-43D9-8E21-6AF636E9319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9BFC-1C67-42B2-9ED7-CA2453FB382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wm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083440" cy="22003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464646"/>
                </a:solidFill>
                <a:latin typeface="Lucida Sans Unicode"/>
              </a:rPr>
              <a:t>Buoyancy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is the ability of an object to flo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It is related to the object’s </a:t>
            </a:r>
            <a:r>
              <a:rPr b="0" i="1" lang="en-US" sz="2700" spc="-1" strike="noStrike">
                <a:solidFill>
                  <a:srgbClr val="464646"/>
                </a:solidFill>
                <a:latin typeface="Lucida Sans Unicode"/>
              </a:rPr>
              <a:t>density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2" descr="C:\Documents and Settings\carolyn.kinne\Local Settings\Temporary Internet Files\Content.IE5\60TCN93U\MCTR00389_0000[1].wmf"/>
          <p:cNvPicPr/>
          <p:nvPr/>
        </p:nvPicPr>
        <p:blipFill>
          <a:blip r:embed="rId2"/>
          <a:stretch/>
        </p:blipFill>
        <p:spPr>
          <a:xfrm>
            <a:off x="762120" y="609480"/>
            <a:ext cx="396216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Density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the amount of matter in a given volume or spa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asses are the least dense form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quids are more dense than gasses, but less dense than sol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lids are the most dense form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C:\Documents and Settings\carolyn.kinne\Local Settings\Temporary Internet Files\Content.IE5\E2LUDJLQ\MPj04372180000[1].jpg"/>
          <p:cNvPicPr/>
          <p:nvPr/>
        </p:nvPicPr>
        <p:blipFill>
          <a:blip r:embed="rId2"/>
          <a:stretch/>
        </p:blipFill>
        <p:spPr>
          <a:xfrm>
            <a:off x="4114800" y="4876920"/>
            <a:ext cx="1905120" cy="16603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8" descr="C:\Documents and Settings\carolyn.kinne\Local Settings\Temporary Internet Files\Content.IE5\XKKQW3N2\MCj04339190000[1].png"/>
          <p:cNvPicPr/>
          <p:nvPr/>
        </p:nvPicPr>
        <p:blipFill>
          <a:blip r:embed="rId3"/>
          <a:stretch/>
        </p:blipFill>
        <p:spPr>
          <a:xfrm>
            <a:off x="1905120" y="472428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C:\Documents and Settings\carolyn.kinne\Local Settings\Temporary Internet Files\Content.IE5\E2LUDJLQ\MPj04332010000[1].jpg"/>
          <p:cNvPicPr/>
          <p:nvPr/>
        </p:nvPicPr>
        <p:blipFill>
          <a:blip r:embed="rId4"/>
          <a:stretch/>
        </p:blipFill>
        <p:spPr>
          <a:xfrm>
            <a:off x="6934320" y="4724280"/>
            <a:ext cx="19033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f the balloon pops, the gas will spread out evenly in the cub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505320" y="2819520"/>
            <a:ext cx="2361960" cy="2394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C:\Documents and Settings\carolyn.kinne\Local Settings\Temporary Internet Files\Content.IE5\60TCN93U\MCj04361670000[1].png"/>
          <p:cNvPicPr/>
          <p:nvPr/>
        </p:nvPicPr>
        <p:blipFill>
          <a:blip r:embed="rId3"/>
          <a:stretch/>
        </p:blipFill>
        <p:spPr>
          <a:xfrm>
            <a:off x="3657600" y="3429000"/>
            <a:ext cx="1612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802720" cy="1614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505320" y="2895480"/>
            <a:ext cx="2447640" cy="24814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C:\Documents and Settings\carolyn.kinne\Local Settings\Temporary Internet Files\Content.IE5\XKKQW3N2\MPj04331430000[1].jpg"/>
          <p:cNvPicPr/>
          <p:nvPr/>
        </p:nvPicPr>
        <p:blipFill>
          <a:blip r:embed="rId3"/>
          <a:stretch/>
        </p:blipFill>
        <p:spPr>
          <a:xfrm>
            <a:off x="3657600" y="4038480"/>
            <a:ext cx="1371600" cy="9907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4"/>
          <p:cNvSpPr/>
          <p:nvPr/>
        </p:nvSpPr>
        <p:spPr>
          <a:xfrm>
            <a:off x="685800" y="1600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he water will take the shape of the cub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C:\Documents and Settings\carolyn.kinne\Local Settings\Temporary Internet Files\Content.IE5\MNV8FF4K\MCED00215_0000[1].wmf"/>
          <p:cNvPicPr/>
          <p:nvPr/>
        </p:nvPicPr>
        <p:blipFill>
          <a:blip r:embed="rId2"/>
          <a:stretch/>
        </p:blipFill>
        <p:spPr>
          <a:xfrm>
            <a:off x="3429000" y="2971800"/>
            <a:ext cx="2446200" cy="24796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Documents and Settings\carolyn.kinne\Local Settings\Temporary Internet Files\Content.IE5\MNV8FF4K\MCj04081500000[1].wmf"/>
          <p:cNvPicPr/>
          <p:nvPr/>
        </p:nvPicPr>
        <p:blipFill>
          <a:blip r:embed="rId3"/>
          <a:stretch/>
        </p:blipFill>
        <p:spPr>
          <a:xfrm>
            <a:off x="3581280" y="3962520"/>
            <a:ext cx="1524240" cy="1244520"/>
          </a:xfrm>
          <a:prstGeom prst="rect">
            <a:avLst/>
          </a:prstGeom>
          <a:ln w="0">
            <a:noFill/>
          </a:ln>
        </p:spPr>
      </p:pic>
      <p:sp>
        <p:nvSpPr>
          <p:cNvPr id="396" name="TextBox 4"/>
          <p:cNvSpPr/>
          <p:nvPr/>
        </p:nvSpPr>
        <p:spPr>
          <a:xfrm>
            <a:off x="838080" y="16765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  <a:ea typeface="Arial"/>
              </a:rPr>
              <a:t>The rock will keep its own sha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231840" y="274680"/>
            <a:ext cx="8454960" cy="11890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C:\Documents and Settings\carolyn.kinne\Local Settings\Temporary Internet Files\Content.IE5\E2LUDJLQ\MCj03591830000[1].wmf"/>
          <p:cNvPicPr/>
          <p:nvPr/>
        </p:nvPicPr>
        <p:blipFill>
          <a:blip r:embed="rId2"/>
          <a:stretch/>
        </p:blipFill>
        <p:spPr>
          <a:xfrm>
            <a:off x="685800" y="1523880"/>
            <a:ext cx="1751040" cy="1752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C:\Documents and Settings\carolyn.kinne\Local Settings\Temporary Internet Files\Content.IE5\60TCN93U\MCj02324350000[1].wmf"/>
          <p:cNvPicPr/>
          <p:nvPr/>
        </p:nvPicPr>
        <p:blipFill>
          <a:blip r:embed="rId3"/>
          <a:stretch/>
        </p:blipFill>
        <p:spPr>
          <a:xfrm>
            <a:off x="2590920" y="2590920"/>
            <a:ext cx="1282680" cy="1861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C:\Documents and Settings\carolyn.kinne\Local Settings\Temporary Internet Files\Content.IE5\E2LUDJLQ\MCSL00419_0000[1].wmf"/>
          <p:cNvPicPr/>
          <p:nvPr/>
        </p:nvPicPr>
        <p:blipFill>
          <a:blip r:embed="rId4"/>
          <a:stretch/>
        </p:blipFill>
        <p:spPr>
          <a:xfrm>
            <a:off x="6019920" y="2590920"/>
            <a:ext cx="1625400" cy="1376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C:\Documents and Settings\carolyn.kinne\Local Settings\Temporary Internet Files\Content.IE5\60TCN93U\MCj02900070000[1].wmf"/>
          <p:cNvPicPr/>
          <p:nvPr/>
        </p:nvPicPr>
        <p:blipFill>
          <a:blip r:embed="rId5"/>
          <a:stretch/>
        </p:blipFill>
        <p:spPr>
          <a:xfrm>
            <a:off x="6553080" y="4648320"/>
            <a:ext cx="1613160" cy="1530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C:\Documents and Settings\carolyn.kinne\Local Settings\Temporary Internet Files\Content.IE5\60TCN93U\MCTN00735_0000[1].wmf"/>
          <p:cNvPicPr/>
          <p:nvPr/>
        </p:nvPicPr>
        <p:blipFill>
          <a:blip r:embed="rId6"/>
          <a:stretch/>
        </p:blipFill>
        <p:spPr>
          <a:xfrm>
            <a:off x="3962520" y="609480"/>
            <a:ext cx="1796760" cy="20973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C:\Documents and Settings\carolyn.kinne\Local Settings\Temporary Internet Files\Content.IE5\XKKQW3N2\MCTR00183_0000[1].wmf"/>
          <p:cNvPicPr/>
          <p:nvPr/>
        </p:nvPicPr>
        <p:blipFill>
          <a:blip r:embed="rId7"/>
          <a:stretch/>
        </p:blipFill>
        <p:spPr>
          <a:xfrm>
            <a:off x="4191120" y="3962520"/>
            <a:ext cx="1368360" cy="2232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C:\Documents and Settings\carolyn.kinne\Local Settings\Temporary Internet Files\Content.IE5\MNV8FF4K\MCj01325130000[1].wmf"/>
          <p:cNvPicPr/>
          <p:nvPr/>
        </p:nvPicPr>
        <p:blipFill>
          <a:blip r:embed="rId8"/>
          <a:stretch/>
        </p:blipFill>
        <p:spPr>
          <a:xfrm>
            <a:off x="7010280" y="228600"/>
            <a:ext cx="1791000" cy="1719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6" descr="C:\Documents and Settings\carolyn.kinne\Local Settings\Temporary Internet Files\Content.IE5\MNV8FF4K\MCj02329450000[1].wmf"/>
          <p:cNvPicPr/>
          <p:nvPr/>
        </p:nvPicPr>
        <p:blipFill>
          <a:blip r:embed="rId9"/>
          <a:stretch/>
        </p:blipFill>
        <p:spPr>
          <a:xfrm>
            <a:off x="533520" y="4191120"/>
            <a:ext cx="21160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uoyancy and density are called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ROPERTI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of mat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property of matter i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displacemen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or how much matter (we use water) it pushes out of the wa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buoyant object will only displace its mass unless its surface area is large compared to its ma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would happen if you used sand instead of wat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C:\Documents and Settings\carolyn.kinne\Local Settings\Temporary Internet Files\Content.IE5\E2LUDJLQ\MCj01981710000[1].wmf"/>
          <p:cNvPicPr/>
          <p:nvPr/>
        </p:nvPicPr>
        <p:blipFill>
          <a:blip r:embed="rId2"/>
          <a:stretch/>
        </p:blipFill>
        <p:spPr>
          <a:xfrm>
            <a:off x="5029200" y="5486400"/>
            <a:ext cx="32590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9:25:17Z</dcterms:created>
  <dc:creator>Ector County ISD Employee</dc:creator>
  <dc:description/>
  <dc:language>en-US</dc:language>
  <cp:lastModifiedBy>RomaK</cp:lastModifiedBy>
  <dcterms:modified xsi:type="dcterms:W3CDTF">2015-09-01T16:19:39Z</dcterms:modified>
  <cp:revision>22</cp:revision>
  <dc:subject/>
  <dc:title>Buoyancy</dc:title>
</cp:coreProperties>
</file>