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3.png" ContentType="image/png"/>
  <Override PartName="/ppt/media/image17.jpeg" ContentType="image/jpeg"/>
  <Override PartName="/ppt/media/image5.jpeg" ContentType="image/jpeg"/>
  <Override PartName="/ppt/media/image10.jpeg" ContentType="image/jpeg"/>
  <Override PartName="/ppt/media/image28.wmf" ContentType="image/x-wmf"/>
  <Override PartName="/ppt/media/image30.wmf" ContentType="image/x-wmf"/>
  <Override PartName="/ppt/media/image7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8.wmf" ContentType="image/x-wmf"/>
  <Override PartName="/ppt/media/image11.png" ContentType="image/png"/>
  <Override PartName="/ppt/media/image9.png" ContentType="image/png"/>
  <Override PartName="/ppt/media/image2.png" ContentType="image/png"/>
  <Override PartName="/ppt/media/image1.png" ContentType="image/png"/>
  <Override PartName="/ppt/media/image14.wmf" ContentType="image/x-wmf"/>
  <Override PartName="/ppt/media/image29.png" ContentType="image/png"/>
  <Override PartName="/ppt/media/image15.png" ContentType="image/png"/>
  <Override PartName="/ppt/media/image16.png" ContentType="image/png"/>
  <Override PartName="/ppt/media/image20.png" ContentType="image/png"/>
  <Override PartName="/ppt/media/image19.wmf" ContentType="image/x-wmf"/>
  <Override PartName="/ppt/media/image6.jpeg" ContentType="image/jpeg"/>
  <Override PartName="/ppt/media/image18.png" ContentType="image/png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5.wmf" ContentType="image/x-wmf"/>
  <Override PartName="/ppt/media/image26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6F84-922A-4620-8CDB-754E80655F2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 is the ability of an object to flo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lated to the object’s dens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 is the ability of an object to flo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lated to the object’s dens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is the amount of matter in a given volume or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ses are the least dense form of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quids are more dense than gasses, but less dense than so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s are the most dense form of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is the amount of matter in a given volume or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ses are the least dense form of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quids are more dense than gasses, but less dense than so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s are the most dense form of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alloon pops, the gas will spread out evenly in the cu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ses fill any volume and take the shape of their contai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alloon pops, the gas will spread out evenly in the cu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ses fill any volume and take the shape of their conta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quids stick together, but take the shape of their contai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ter will take the shape of the cu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quids stick together, but take the shape of their conta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ter will take the shape of the cu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s are very dense and do not take the shape of their contai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ck will keep its own sha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s are very dense and do not take the shape of their conta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ck will keep its own sha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 and density are called PROPERTIES of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property of matter is displacement, or how much matter (we use water) it pushes out of the w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uoyant object will only displace its mass unless its surface area is large compared to its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happen if you used sand instead of wa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but not leas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 and density are called PROPERTIES of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property of matter is displacement, or how much matter (we use water) it pushes out of the w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uoyant object will only displace its mass unless its surface area is large compared to its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happen if you used sand instead of 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but not leas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0D36-E5BA-419D-8032-0FCA94825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E51C-E4CA-41A4-BC85-B5894DC9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2342-FB28-4C2F-89EA-0F308F25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99FA-748B-47B2-BEA4-35F816D7B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BDD4-DADC-4612-8A64-75E336AC5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7E39-ECF3-499F-99BE-CBCCCE4F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4C97-D68D-41C8-99EE-B832648B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FBE8-CB02-4A20-BB90-8B91C35D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6DBC-555B-48BC-822D-E8171286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E44B-908C-486F-8039-AD073086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7F96-3234-4C77-8CE9-76FD3107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4A86-8C12-4E2A-A45F-01DB23C2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71CE-4612-4544-8A41-79EB179F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1A0E-1B3E-473A-A612-45573BA2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2B45-6EBC-42F7-AA6C-BD343AC2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F371-90C3-477E-AD59-0CD0DD7C1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B24A-C0C5-4D23-8CA7-429D8737F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A1992-78C3-4F60-A487-251CC335C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5B06A-2179-48C9-8A0A-9F07E0C9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86838-1152-462F-8385-F932BBF4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1C489-A5C5-4E22-A95C-A6DE4BD4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3EE32-DF6E-4643-8F58-D40F32F3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7BC6-EA91-4EDC-BEC1-EB4DD8B7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E980B-6B72-482F-9F86-BD871FCB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45D7C-513C-4F56-A5AE-76469597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7C29A-4587-4937-9027-26981E8C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85039-7054-4DAC-9E8D-943E309C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B3BDF-B382-4DF6-B906-A515BA42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199BE-43E1-4ACB-9704-C8AD8FB11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63E9C-671F-42DB-9FF5-1BAC5A943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D6469-4804-4499-ADD5-F909B21DF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A0944-9CDF-45A9-97D5-1F0BB201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02C1E-C860-450B-B40B-2D1578CC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FAB7-ED86-4B53-92A2-9574919B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A01F6-2B74-4E6C-9F19-4673AA4F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4E5B4-DDDA-40FF-A053-BD38C14A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48DDF-8AA0-4153-B527-55E2C17A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4E492-4C25-4EBE-B9F1-70EC872A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FEACD-96D5-4F9D-A6DA-EBAC7515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255D9-38D4-47C8-A1CF-2FC44009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F02D4-67BB-402A-AFC8-85490360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215FE-8BDF-4EA6-A6A5-E5ACE33D8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014F5-9766-4571-A670-FCEA97717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4341E-8A37-4E28-B8EE-3ACA5D22C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66FE-F709-47EF-A4B0-1AE35563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63A44-B9EE-4303-A5C9-C48F6B5A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BE136-6B53-4370-86C3-6E97D106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42BA9-32FB-4157-A8C5-EAFE4D2C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924B9-9DFA-4787-9BD5-6041C559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0EBD8-94B3-422A-9B9D-B5256405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AF60D-2393-4B59-914F-60F2E4EF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8EE02-43EE-40E4-8AD3-01933253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7702B-517F-4FBC-94DE-2D10CE72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73B9B-A37E-42F7-A6B9-324CD13A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96A6E-9E83-43AD-80DC-B18EAE84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CB32-8E1B-4A5E-B5BF-FD45F959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A63E8-1AE4-427E-A759-3DB759E2A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C24CC-C5BB-4FCB-9D90-59EA3DC8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96F62-9B3A-4847-A3FD-ADCCFFB5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0210F-ACF4-4D06-BD73-07B55CC1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D53AB-3647-4329-A312-F03B3D81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CB765-E121-4201-82E6-A2EB6A06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41E49-4E4A-4FDF-9677-D1A6567B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CB762-E52B-4C06-A27C-24119DAE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D133E-28DE-49D6-BCCF-F0C3A3CF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93CB7-4975-464B-B42D-ACBD50B7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7BC0-8D2D-4B2E-95EC-6241F417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A3089-3418-417C-B769-81101313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6C3E7-DC63-4AB5-8FF1-90C4A2AE2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DADC3-B35D-4D89-9D69-244B3D3DB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3A622-872E-4B61-96E8-33CD8266E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562AC-A796-4B35-A1A0-AF25DE92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186FA-D869-4F55-8FE9-AA09A1A7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9ED68-EA27-47BF-AAF7-0BCA1783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61A68-65EC-4EFC-A9C5-6A6570FF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2E4C6-F273-437E-B541-EB069AE5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171B9-A79C-46FE-B3AB-65817BEB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33C4-E40F-45EE-90DE-BC7AA440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2183C-63F1-4546-B27D-DDB40E50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7AE97-C26B-41D4-B70D-72643112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392A8-AEF2-4CDD-BA9F-DE2359A6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17EED-B362-4AEA-BDEC-B0B58EB4C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3D14F-20F2-4CF1-BB02-7235804F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9C661-E995-4765-8F16-B5CE505A4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54F52-4957-44BD-9C55-A1FFF076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4C0A7-4385-4F9B-B4E7-54F87DE0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1BE81-8276-477D-9923-64E178DC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87E27-C423-48CF-ABB2-C1EBF1EC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3924-B799-4774-82FC-867F69FD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0E317-5CE0-45CF-A6D7-E4D27179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9B5BC-A600-48C8-BEE1-50F7001C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93F17-35D2-4C7D-AF79-87D2BD90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60E0A-7AC5-4544-A6D7-25104184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2A6BA-33A6-49A1-BD9E-9881F364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2F548-B8CA-4F32-B0CA-42F39B45A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E269B-67D1-49E4-9196-EB37425A1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EF29-95FF-4DCB-8195-2D06B371A09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4F6B-1DF1-4FC5-A6EF-B2E86809378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B033-1727-4D7D-8A12-8A2039E46AE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8D40-6A1D-43EB-8C46-07F5C6BCEB0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5035-B8C2-4204-92B4-4C9DF88F009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495A-F0B4-4A5F-8A18-4042BC97B0F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5C56-F1B2-4F2B-8249-82CB81289E0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C4B8-8031-4F98-932A-216F8446068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wm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image" Target="../media/image2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464646"/>
                </a:solidFill>
                <a:latin typeface="Lucida Sans Unicode"/>
              </a:rPr>
              <a:t>Buoyancy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is the ability of an object to flo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It is related to the object’s </a:t>
            </a:r>
            <a:r>
              <a:rPr b="0" i="1" lang="en-US" sz="2700" spc="-1" strike="noStrike">
                <a:solidFill>
                  <a:srgbClr val="464646"/>
                </a:solidFill>
                <a:latin typeface="Lucida Sans Unicode"/>
              </a:rPr>
              <a:t>density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Picture 2" descr="C:\Documents and Settings\carolyn.kinne\Local Settings\Temporary Internet Files\Content.IE5\60TCN93U\MCTR00389_0000[1].wmf"/>
          <p:cNvPicPr/>
          <p:nvPr/>
        </p:nvPicPr>
        <p:blipFill>
          <a:blip r:embed="rId2"/>
          <a:stretch/>
        </p:blipFill>
        <p:spPr>
          <a:xfrm>
            <a:off x="762120" y="609480"/>
            <a:ext cx="396216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Density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s the amount of matter in a given volume or spa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asses are the least dense form of mat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quids are more dense than gasses, but less dense than soli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lids are the most dense form of mat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C:\Documents and Settings\carolyn.kinne\Local Settings\Temporary Internet Files\Content.IE5\E2LUDJLQ\MPj04372180000[1].jpg"/>
          <p:cNvPicPr/>
          <p:nvPr/>
        </p:nvPicPr>
        <p:blipFill>
          <a:blip r:embed="rId2"/>
          <a:stretch/>
        </p:blipFill>
        <p:spPr>
          <a:xfrm>
            <a:off x="4114800" y="4876920"/>
            <a:ext cx="1905120" cy="16603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C:\Documents and Settings\carolyn.kinne\Local Settings\Temporary Internet Files\Content.IE5\XKKQW3N2\MCj04339190000[1].png"/>
          <p:cNvPicPr/>
          <p:nvPr/>
        </p:nvPicPr>
        <p:blipFill>
          <a:blip r:embed="rId3"/>
          <a:stretch/>
        </p:blipFill>
        <p:spPr>
          <a:xfrm>
            <a:off x="1905120" y="47242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C:\Documents and Settings\carolyn.kinne\Local Settings\Temporary Internet Files\Content.IE5\E2LUDJLQ\MPj04332010000[1].jpg"/>
          <p:cNvPicPr/>
          <p:nvPr/>
        </p:nvPicPr>
        <p:blipFill>
          <a:blip r:embed="rId4"/>
          <a:stretch/>
        </p:blipFill>
        <p:spPr>
          <a:xfrm>
            <a:off x="6934320" y="4724280"/>
            <a:ext cx="1903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the balloon pops, the gas will spread out evenly in the cub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C:\Documents and Settings\carolyn.kinne\Local Settings\Temporary Internet Files\Content.IE5\MNV8FF4K\MCED00215_0000[1].wmf"/>
          <p:cNvPicPr/>
          <p:nvPr/>
        </p:nvPicPr>
        <p:blipFill>
          <a:blip r:embed="rId2"/>
          <a:stretch/>
        </p:blipFill>
        <p:spPr>
          <a:xfrm>
            <a:off x="3505320" y="2819520"/>
            <a:ext cx="2361960" cy="2394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C:\Documents and Settings\carolyn.kinne\Local Settings\Temporary Internet Files\Content.IE5\60TCN93U\MCj04361670000[1].png"/>
          <p:cNvPicPr/>
          <p:nvPr/>
        </p:nvPicPr>
        <p:blipFill>
          <a:blip r:embed="rId3"/>
          <a:stretch/>
        </p:blipFill>
        <p:spPr>
          <a:xfrm>
            <a:off x="3657600" y="3429000"/>
            <a:ext cx="1612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802720" cy="16146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C:\Documents and Settings\carolyn.kinne\Local Settings\Temporary Internet Files\Content.IE5\MNV8FF4K\MCED00215_0000[1].wmf"/>
          <p:cNvPicPr/>
          <p:nvPr/>
        </p:nvPicPr>
        <p:blipFill>
          <a:blip r:embed="rId2"/>
          <a:stretch/>
        </p:blipFill>
        <p:spPr>
          <a:xfrm>
            <a:off x="3505320" y="2895480"/>
            <a:ext cx="2447640" cy="24814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C:\Documents and Settings\carolyn.kinne\Local Settings\Temporary Internet Files\Content.IE5\XKKQW3N2\MPj04331430000[1].jpg"/>
          <p:cNvPicPr/>
          <p:nvPr/>
        </p:nvPicPr>
        <p:blipFill>
          <a:blip r:embed="rId3"/>
          <a:stretch/>
        </p:blipFill>
        <p:spPr>
          <a:xfrm>
            <a:off x="3657600" y="4038480"/>
            <a:ext cx="1371600" cy="99072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685800" y="1600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The water will take the shape of the cu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C:\Documents and Settings\carolyn.kinne\Local Settings\Temporary Internet Files\Content.IE5\MNV8FF4K\MCED00215_0000[1].wmf"/>
          <p:cNvPicPr/>
          <p:nvPr/>
        </p:nvPicPr>
        <p:blipFill>
          <a:blip r:embed="rId2"/>
          <a:stretch/>
        </p:blipFill>
        <p:spPr>
          <a:xfrm>
            <a:off x="3429000" y="2971800"/>
            <a:ext cx="2446200" cy="24796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C:\Documents and Settings\carolyn.kinne\Local Settings\Temporary Internet Files\Content.IE5\MNV8FF4K\MCj04081500000[1].wmf"/>
          <p:cNvPicPr/>
          <p:nvPr/>
        </p:nvPicPr>
        <p:blipFill>
          <a:blip r:embed="rId3"/>
          <a:stretch/>
        </p:blipFill>
        <p:spPr>
          <a:xfrm>
            <a:off x="3581280" y="3962520"/>
            <a:ext cx="1524240" cy="1244520"/>
          </a:xfrm>
          <a:prstGeom prst="rect">
            <a:avLst/>
          </a:prstGeom>
          <a:ln w="0">
            <a:noFill/>
          </a:ln>
        </p:spPr>
      </p:pic>
      <p:sp>
        <p:nvSpPr>
          <p:cNvPr id="396" name="TextBox 4"/>
          <p:cNvSpPr/>
          <p:nvPr/>
        </p:nvSpPr>
        <p:spPr>
          <a:xfrm>
            <a:off x="838080" y="16765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The rock will keep its own sha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C:\Documents and Settings\carolyn.kinne\Local Settings\Temporary Internet Files\Content.IE5\E2LUDJLQ\MCj03591830000[1].wmf"/>
          <p:cNvPicPr/>
          <p:nvPr/>
        </p:nvPicPr>
        <p:blipFill>
          <a:blip r:embed="rId2"/>
          <a:stretch/>
        </p:blipFill>
        <p:spPr>
          <a:xfrm>
            <a:off x="685800" y="1523880"/>
            <a:ext cx="1751040" cy="17528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C:\Documents and Settings\carolyn.kinne\Local Settings\Temporary Internet Files\Content.IE5\60TCN93U\MCj02324350000[1].wmf"/>
          <p:cNvPicPr/>
          <p:nvPr/>
        </p:nvPicPr>
        <p:blipFill>
          <a:blip r:embed="rId3"/>
          <a:stretch/>
        </p:blipFill>
        <p:spPr>
          <a:xfrm>
            <a:off x="2590920" y="2590920"/>
            <a:ext cx="1282680" cy="18619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C:\Documents and Settings\carolyn.kinne\Local Settings\Temporary Internet Files\Content.IE5\E2LUDJLQ\MCSL00419_0000[1].wmf"/>
          <p:cNvPicPr/>
          <p:nvPr/>
        </p:nvPicPr>
        <p:blipFill>
          <a:blip r:embed="rId4"/>
          <a:stretch/>
        </p:blipFill>
        <p:spPr>
          <a:xfrm>
            <a:off x="6019920" y="2590920"/>
            <a:ext cx="1625400" cy="13762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C:\Documents and Settings\carolyn.kinne\Local Settings\Temporary Internet Files\Content.IE5\60TCN93U\MCj02900070000[1].wmf"/>
          <p:cNvPicPr/>
          <p:nvPr/>
        </p:nvPicPr>
        <p:blipFill>
          <a:blip r:embed="rId5"/>
          <a:stretch/>
        </p:blipFill>
        <p:spPr>
          <a:xfrm>
            <a:off x="6553080" y="4648320"/>
            <a:ext cx="1613160" cy="15303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C:\Documents and Settings\carolyn.kinne\Local Settings\Temporary Internet Files\Content.IE5\60TCN93U\MCTN00735_0000[1].wmf"/>
          <p:cNvPicPr/>
          <p:nvPr/>
        </p:nvPicPr>
        <p:blipFill>
          <a:blip r:embed="rId6"/>
          <a:stretch/>
        </p:blipFill>
        <p:spPr>
          <a:xfrm>
            <a:off x="3962520" y="609480"/>
            <a:ext cx="1796760" cy="20973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C:\Documents and Settings\carolyn.kinne\Local Settings\Temporary Internet Files\Content.IE5\XKKQW3N2\MCTR00183_0000[1].wmf"/>
          <p:cNvPicPr/>
          <p:nvPr/>
        </p:nvPicPr>
        <p:blipFill>
          <a:blip r:embed="rId7"/>
          <a:stretch/>
        </p:blipFill>
        <p:spPr>
          <a:xfrm>
            <a:off x="4191120" y="3962520"/>
            <a:ext cx="1368360" cy="2232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8" descr="C:\Documents and Settings\carolyn.kinne\Local Settings\Temporary Internet Files\Content.IE5\MNV8FF4K\MCj01325130000[1].wmf"/>
          <p:cNvPicPr/>
          <p:nvPr/>
        </p:nvPicPr>
        <p:blipFill>
          <a:blip r:embed="rId8"/>
          <a:stretch/>
        </p:blipFill>
        <p:spPr>
          <a:xfrm>
            <a:off x="7010280" y="228600"/>
            <a:ext cx="1791000" cy="17193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6" descr="C:\Documents and Settings\carolyn.kinne\Local Settings\Temporary Internet Files\Content.IE5\MNV8FF4K\MCj02329450000[1].wmf"/>
          <p:cNvPicPr/>
          <p:nvPr/>
        </p:nvPicPr>
        <p:blipFill>
          <a:blip r:embed="rId9"/>
          <a:stretch/>
        </p:blipFill>
        <p:spPr>
          <a:xfrm>
            <a:off x="533520" y="4191120"/>
            <a:ext cx="211608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oyancy and density are called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PROPERTI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f mat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other property of matter is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displacemen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or how much matter (we use water) it pushes out of the wa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buoyant object will only displace its mass unless its surface area is large compared to its ma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would happen if you used sand instead of water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C:\Documents and Settings\carolyn.kinne\Local Settings\Temporary Internet Files\Content.IE5\E2LUDJLQ\MCj01981710000[1].wmf"/>
          <p:cNvPicPr/>
          <p:nvPr/>
        </p:nvPicPr>
        <p:blipFill>
          <a:blip r:embed="rId2"/>
          <a:stretch/>
        </p:blipFill>
        <p:spPr>
          <a:xfrm>
            <a:off x="5029200" y="5486400"/>
            <a:ext cx="325908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9:25:17Z</dcterms:created>
  <dc:creator>Ector County ISD Employee</dc:creator>
  <dc:description/>
  <dc:language>en-US</dc:language>
  <cp:lastModifiedBy>RomaK</cp:lastModifiedBy>
  <dcterms:modified xsi:type="dcterms:W3CDTF">2015-09-01T16:19:39Z</dcterms:modified>
  <cp:revision>22</cp:revision>
  <dc:subject/>
  <dc:title>Buoyancy</dc:title>
</cp:coreProperties>
</file>