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media/image28.wmf" ContentType="image/x-wmf"/>
  <Override PartName="/ppt/media/image30.wmf" ContentType="image/x-wmf"/>
  <Override PartName="/ppt/media/image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8.wmf" ContentType="image/x-wmf"/>
  <Override PartName="/ppt/media/image11.png" ContentType="image/png"/>
  <Override PartName="/ppt/media/image9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19.wmf" ContentType="image/x-wmf"/>
  <Override PartName="/ppt/media/image6.jpeg" ContentType="image/jpeg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D6C8-9F14-4EA8-A658-488F9D339C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EA7-C351-472B-882A-4DF85956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9A4-4858-4442-83CA-DE12DFC9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899-18EE-450B-9146-4ABACE2B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EC4-CDC2-4889-8014-9A876225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FCC4-BD9D-4E25-BD6E-51FC9B92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7427-1267-4D7B-A196-842D2177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8F12-3406-45D7-A415-3AC67EF3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BF6D-837F-483E-8F2D-C0413A61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65BB-93F8-4F40-A4A2-E32D66CD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4EAD-CFDD-4909-A2BF-B7DC6F87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B144-D773-4719-B076-39A0AEE0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BE0-D2DC-4DF8-A320-2633BF59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CD53-D611-4380-AAB4-9BCF66F1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F82F-A287-4909-B5D2-CC5F74C9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801E-809F-422D-8C10-9CBC126D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2B75-64A5-4B9E-9081-0F6965F8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56C4-BF27-49BF-8081-0F4145A3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C4EA-E991-4CBF-8DF2-6FB49F8C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CCE0-DF62-4713-9314-7024A4D8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37CF-AC9B-4A99-9489-46786F70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085C-36B9-4E06-B750-F28E2FD3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944F8-223C-4DC4-A5FB-7FCFFA2F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19F-A677-446E-8645-96D576FD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F44C2-CD8E-4D47-BC22-33D5DE57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FC2B-8813-40D6-8A9A-E98535D9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3E6F-8204-4DCE-AD54-4B180512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80B3-7935-486F-95FD-BC8C3015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2805-10F2-4B6F-A888-F768BE72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1AB1-9FC1-4468-B3D3-0699CFF0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459B9-C79C-4678-A4EC-AB8FDC83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F3E81-F182-419F-B23C-751F5260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BFBFB-3550-44EE-A80B-41613272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2977A-A0CE-4C00-A606-5C90A3B8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862-3769-4F85-B8A7-4C6DFA99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A58A1-CC80-4F08-AAA6-6984D62E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EBE2E-24F1-4F7B-96D5-64515EE3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5FC7D-6BD1-4AEA-8E03-C4A7E884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F1BA7-CD63-4E8E-8C81-630658FF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2C0AC-8D55-47A4-AA92-790C7346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023BD-1C18-4339-8A65-3DBD1A04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4D706-8727-4901-A2D6-B563AE0F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DD32-AC2C-4656-975C-F01BE920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A4632-62CC-4B06-8BBB-A9F974F6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E2BA5-0EB5-4936-83CC-2BE3C2B0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056-0ECC-436E-83E0-0FFD629C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FF587-D75B-4C18-94F2-C147C04A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88A69-CA3E-49BB-B036-24BB00FD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28097-8A99-4D0F-9AF6-F6051364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73009-E70A-43CA-91EB-6E0E8028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AF5B3-444E-4C52-ADD3-59C4225E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44623-943E-4EEA-8A2B-96B1B4F0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B62D4-886A-4B01-B259-9E91FBFB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56E10-2369-4906-8688-76A9FB41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F8EE6-27E0-4568-94B6-602540E4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B4214-A3B0-4180-A633-E8D9A0DF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8D5-8873-4F4A-B254-1F2E1EF8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C3DD6-6BDD-44A1-A97B-769BCE44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86E00-49FF-4510-94D9-4B78B516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AB3F1-3D18-464F-9966-B2525D5D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52DD8-306E-4134-9EAF-D678D035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12D8E-26C4-421B-A0CE-4AF86C19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D0F80-21FD-4AE9-B641-B5AEE4C2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DEE49-84FF-4966-88F6-C54D2B10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0FC0F-C70F-47DF-AECC-667D508B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4BB84-A72A-4F65-A7B3-B967FF97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1293F-47EF-4F8D-BBA4-59FAF2FB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284-DDBA-4146-BE64-C1A84605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13B5F-C719-42BF-8B6D-F37D126F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4B0E4-16C0-4571-A5EE-084266B1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68071-C532-4FCF-82E5-9FCBA092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83631-2BAD-453A-A002-B110E1B6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9276E-AA61-46BC-A31F-67AB1283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19C27-4226-4318-A423-95C3279E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0D4B4-32A0-464D-A080-15718BE2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341A4-D94C-4288-B955-8F2CC882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CFD8E-9717-44E9-AB24-2C9CE29E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301E7-D3D0-4976-831E-A080534A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6F7-F2FF-4A08-91E3-4A3375D7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F3076-50AB-4480-96E7-217DEF4A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C3354-E21C-484B-A2B9-48734F96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214CF-2895-4BCE-BE8E-7BD647E8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EB450-1F7E-4B2A-B10F-B087E101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84AE2-A3AB-494C-925C-328D7B70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AB9E7-2987-4906-839D-6C44C22C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56334-BA35-44E0-9181-4BEC502F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480A4-1719-4A32-A187-BC5D1BB1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36FF8-2BB7-46A7-B31B-C3903DB5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24B33-FE52-4F5E-9EE5-838C0383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C20-A531-4B71-82CB-4EB30266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B95DE-8768-4BFA-B37B-537B2598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F111D-EA18-4CEC-B8A1-E1CAC744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532CD-C445-46DC-A3A7-1B1A60B2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8E06C-AE9A-4674-887A-BE8F983D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E1E25-2205-4A9B-88E6-66BCB341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D59C4-010B-42CD-AD9A-8D09D1FB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BFCC3-183B-4599-B587-1E5954A7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FE0C-4896-4320-9588-39C73C5B279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7474-906B-4F3E-9E8B-3A5257AA812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F328-A466-48DD-A5C3-194635F7514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2C59-5F1C-4F44-B76F-8800A139FE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9FD3-2A80-4409-A44D-74845A85C1D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0B2C-CB61-4089-82D3-027DC3DDE12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38CB-C0E4-440A-837D-16A19040BD9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AEB6-8F68-4750-ACF6-BAB36C08DB8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Buoyanc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is the ability of an object to flo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t is related to the object’s 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C:\Documents and Settings\carolyn.kinne\Local Settings\Temporary Internet Files\Content.IE5\60TCN93U\MCTR00389_0000[1].wmf"/>
          <p:cNvPicPr/>
          <p:nvPr/>
        </p:nvPicPr>
        <p:blipFill>
          <a:blip r:embed="rId2"/>
          <a:stretch/>
        </p:blipFill>
        <p:spPr>
          <a:xfrm>
            <a:off x="762120" y="609480"/>
            <a:ext cx="39621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the amount of matter in a given volume or sp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asses are the lea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quids are more dense than gasses, but less dense than sol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ids are the mo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carolyn.kinne\Local Settings\Temporary Internet Files\Content.IE5\E2LUDJLQ\MPj04372180000[1].jpg"/>
          <p:cNvPicPr/>
          <p:nvPr/>
        </p:nvPicPr>
        <p:blipFill>
          <a:blip r:embed="rId2"/>
          <a:stretch/>
        </p:blipFill>
        <p:spPr>
          <a:xfrm>
            <a:off x="4114800" y="4876920"/>
            <a:ext cx="1905120" cy="1660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C:\Documents and Settings\carolyn.kinne\Local Settings\Temporary Internet Files\Content.IE5\XKKQW3N2\MCj04339190000[1].png"/>
          <p:cNvPicPr/>
          <p:nvPr/>
        </p:nvPicPr>
        <p:blipFill>
          <a:blip r:embed="rId3"/>
          <a:stretch/>
        </p:blipFill>
        <p:spPr>
          <a:xfrm>
            <a:off x="1905120" y="472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C:\Documents and Settings\carolyn.kinne\Local Settings\Temporary Internet Files\Content.IE5\E2LUDJLQ\MPj04332010000[1].jpg"/>
          <p:cNvPicPr/>
          <p:nvPr/>
        </p:nvPicPr>
        <p:blipFill>
          <a:blip r:embed="rId4"/>
          <a:stretch/>
        </p:blipFill>
        <p:spPr>
          <a:xfrm>
            <a:off x="6934320" y="4724280"/>
            <a:ext cx="1903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balloon pops, the gas will spread out evenly in the cub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19520"/>
            <a:ext cx="2361960" cy="2394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Documents and Settings\carolyn.kinne\Local Settings\Temporary Internet Files\Content.IE5\60TCN93U\MCj04361670000[1].png"/>
          <p:cNvPicPr/>
          <p:nvPr/>
        </p:nvPicPr>
        <p:blipFill>
          <a:blip r:embed="rId3"/>
          <a:stretch/>
        </p:blipFill>
        <p:spPr>
          <a:xfrm>
            <a:off x="3657600" y="3429000"/>
            <a:ext cx="161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802720" cy="1614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95480"/>
            <a:ext cx="2447640" cy="2481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Documents and Settings\carolyn.kinne\Local Settings\Temporary Internet Files\Content.IE5\XKKQW3N2\MPj04331430000[1].jpg"/>
          <p:cNvPicPr/>
          <p:nvPr/>
        </p:nvPicPr>
        <p:blipFill>
          <a:blip r:embed="rId3"/>
          <a:stretch/>
        </p:blipFill>
        <p:spPr>
          <a:xfrm>
            <a:off x="3657600" y="403848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68580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water will take the shape of the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429000" y="2971800"/>
            <a:ext cx="2446200" cy="2479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Documents and Settings\carolyn.kinne\Local Settings\Temporary Internet Files\Content.IE5\MNV8FF4K\MCj04081500000[1].wmf"/>
          <p:cNvPicPr/>
          <p:nvPr/>
        </p:nvPicPr>
        <p:blipFill>
          <a:blip r:embed="rId3"/>
          <a:stretch/>
        </p:blipFill>
        <p:spPr>
          <a:xfrm>
            <a:off x="3581280" y="3962520"/>
            <a:ext cx="1524240" cy="12445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838080" y="1676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rock will keep its own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carolyn.kinne\Local Settings\Temporary Internet Files\Content.IE5\E2LUDJLQ\MCj03591830000[1].wmf"/>
          <p:cNvPicPr/>
          <p:nvPr/>
        </p:nvPicPr>
        <p:blipFill>
          <a:blip r:embed="rId2"/>
          <a:stretch/>
        </p:blipFill>
        <p:spPr>
          <a:xfrm>
            <a:off x="685800" y="1523880"/>
            <a:ext cx="1751040" cy="1752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Documents and Settings\carolyn.kinne\Local Settings\Temporary Internet Files\Content.IE5\60TCN93U\MCj02324350000[1].wmf"/>
          <p:cNvPicPr/>
          <p:nvPr/>
        </p:nvPicPr>
        <p:blipFill>
          <a:blip r:embed="rId3"/>
          <a:stretch/>
        </p:blipFill>
        <p:spPr>
          <a:xfrm>
            <a:off x="2590920" y="2590920"/>
            <a:ext cx="1282680" cy="186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C:\Documents and Settings\carolyn.kinne\Local Settings\Temporary Internet Files\Content.IE5\E2LUDJLQ\MCSL00419_0000[1].wmf"/>
          <p:cNvPicPr/>
          <p:nvPr/>
        </p:nvPicPr>
        <p:blipFill>
          <a:blip r:embed="rId4"/>
          <a:stretch/>
        </p:blipFill>
        <p:spPr>
          <a:xfrm>
            <a:off x="6019920" y="2590920"/>
            <a:ext cx="1625400" cy="1376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Documents and Settings\carolyn.kinne\Local Settings\Temporary Internet Files\Content.IE5\60TCN93U\MCj02900070000[1].wmf"/>
          <p:cNvPicPr/>
          <p:nvPr/>
        </p:nvPicPr>
        <p:blipFill>
          <a:blip r:embed="rId5"/>
          <a:stretch/>
        </p:blipFill>
        <p:spPr>
          <a:xfrm>
            <a:off x="6553080" y="4648320"/>
            <a:ext cx="1613160" cy="153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Documents and Settings\carolyn.kinne\Local Settings\Temporary Internet Files\Content.IE5\60TCN93U\MCTN00735_0000[1].wmf"/>
          <p:cNvPicPr/>
          <p:nvPr/>
        </p:nvPicPr>
        <p:blipFill>
          <a:blip r:embed="rId6"/>
          <a:stretch/>
        </p:blipFill>
        <p:spPr>
          <a:xfrm>
            <a:off x="3962520" y="609480"/>
            <a:ext cx="1796760" cy="209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C:\Documents and Settings\carolyn.kinne\Local Settings\Temporary Internet Files\Content.IE5\XKKQW3N2\MCTR00183_0000[1].wmf"/>
          <p:cNvPicPr/>
          <p:nvPr/>
        </p:nvPicPr>
        <p:blipFill>
          <a:blip r:embed="rId7"/>
          <a:stretch/>
        </p:blipFill>
        <p:spPr>
          <a:xfrm>
            <a:off x="4191120" y="3962520"/>
            <a:ext cx="1368360" cy="2232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Documents and Settings\carolyn.kinne\Local Settings\Temporary Internet Files\Content.IE5\MNV8FF4K\MCj01325130000[1].wmf"/>
          <p:cNvPicPr/>
          <p:nvPr/>
        </p:nvPicPr>
        <p:blipFill>
          <a:blip r:embed="rId8"/>
          <a:stretch/>
        </p:blipFill>
        <p:spPr>
          <a:xfrm>
            <a:off x="7010280" y="228600"/>
            <a:ext cx="1791000" cy="1719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C:\Documents and Settings\carolyn.kinne\Local Settings\Temporary Internet Files\Content.IE5\MNV8FF4K\MCj02329450000[1].wmf"/>
          <p:cNvPicPr/>
          <p:nvPr/>
        </p:nvPicPr>
        <p:blipFill>
          <a:blip r:embed="rId9"/>
          <a:stretch/>
        </p:blipFill>
        <p:spPr>
          <a:xfrm>
            <a:off x="533520" y="4191120"/>
            <a:ext cx="2116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oyancy and density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OPERTI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property of matter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isplaceme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or how much matter (we use water) it pushes out of the wa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buoyant object will only displace its mass unless its surface area is large compared to its m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would happen if you used sand instead of wa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carolyn.kinne\Local Settings\Temporary Internet Files\Content.IE5\E2LUDJLQ\MCj01981710000[1].wmf"/>
          <p:cNvPicPr/>
          <p:nvPr/>
        </p:nvPicPr>
        <p:blipFill>
          <a:blip r:embed="rId2"/>
          <a:stretch/>
        </p:blipFill>
        <p:spPr>
          <a:xfrm>
            <a:off x="5029200" y="5486400"/>
            <a:ext cx="32590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25:17Z</dcterms:created>
  <dc:creator>Ector County ISD Employee</dc:creator>
  <dc:description/>
  <dc:language>en-US</dc:language>
  <cp:lastModifiedBy>RomaK</cp:lastModifiedBy>
  <dcterms:modified xsi:type="dcterms:W3CDTF">2015-09-01T16:19:39Z</dcterms:modified>
  <cp:revision>22</cp:revision>
  <dc:subject/>
  <dc:title>Buoyancy</dc:title>
</cp:coreProperties>
</file>