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4765-7DC9-4393-B9AB-61098C2C63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662-5CBE-4B7E-AE12-637018C6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F52-A46F-41D0-A19C-11D0941F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B34-5EE7-4386-8399-9464A68A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B96-4837-4EE3-BC6A-A4D95F75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EFD-28B2-4798-B499-FE389366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ECC-75AE-43D0-BC89-3E220E95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32E-654E-4FCE-8367-A438F0CD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197-E95B-4D6B-8C04-F29A99FC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925-33D8-4ADB-87BB-77686133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BD2-39D8-4904-A305-10EABB24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864-CA3C-4684-B042-EBA19F91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37E-558F-4FCE-A198-40E5AD2D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CF6-932B-4E76-B51B-EBC8123813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at is meant by the ter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944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argets"/>
          <p:cNvPicPr/>
          <p:nvPr/>
        </p:nvPicPr>
        <p:blipFill>
          <a:blip r:embed="rId1"/>
          <a:stretch/>
        </p:blipFill>
        <p:spPr>
          <a:xfrm>
            <a:off x="380880" y="1792440"/>
            <a:ext cx="8534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hormone_2"/>
          <p:cNvPicPr/>
          <p:nvPr/>
        </p:nvPicPr>
        <p:blipFill>
          <a:blip r:embed="rId1"/>
          <a:stretch/>
        </p:blipFill>
        <p:spPr>
          <a:xfrm>
            <a:off x="152280" y="1050840"/>
            <a:ext cx="88394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arget ce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target cell responds to a hormone because it bears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rece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nsulin"/>
          <p:cNvPicPr/>
          <p:nvPr/>
        </p:nvPicPr>
        <p:blipFill>
          <a:blip r:embed="rId1"/>
          <a:stretch/>
        </p:blipFill>
        <p:spPr>
          <a:xfrm>
            <a:off x="990720" y="282600"/>
            <a:ext cx="71625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3108240" y="1023840"/>
            <a:ext cx="5000760" cy="268200"/>
            <a:chOff x="3108240" y="1023840"/>
            <a:chExt cx="5000760" cy="268200"/>
          </a:xfrm>
        </p:grpSpPr>
        <p:sp>
          <p:nvSpPr>
            <p:cNvPr id="51" name="Rectangle 6"/>
            <p:cNvSpPr/>
            <p:nvPr/>
          </p:nvSpPr>
          <p:spPr>
            <a:xfrm>
              <a:off x="3108240" y="1023840"/>
              <a:ext cx="5000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3108240" y="1023840"/>
              <a:ext cx="500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illu_endocrine_system"/>
          <p:cNvPicPr/>
          <p:nvPr/>
        </p:nvPicPr>
        <p:blipFill>
          <a:blip r:embed="rId1"/>
          <a:stretch/>
        </p:blipFill>
        <p:spPr>
          <a:xfrm>
            <a:off x="2303640" y="152280"/>
            <a:ext cx="4876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figure19c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49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0492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externally through a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hormones into the blood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pancreas has an exocrine portion that secretes digestive enzymes that are carried through a duct to the duodenum. The endocrine portion consists of the pancreatic islets, which secrete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glucagon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insuli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ugar"/>
          <p:cNvPicPr/>
          <p:nvPr/>
        </p:nvPicPr>
        <p:blipFill>
          <a:blip r:embed="rId1"/>
          <a:stretch/>
        </p:blipFill>
        <p:spPr>
          <a:xfrm>
            <a:off x="2392200" y="152280"/>
            <a:ext cx="4361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4304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743040" y="1085760"/>
            <a:ext cx="7659720" cy="4541760"/>
            <a:chOff x="743040" y="1085760"/>
            <a:chExt cx="7659720" cy="4541760"/>
          </a:xfrm>
        </p:grpSpPr>
        <p:sp>
          <p:nvSpPr>
            <p:cNvPr id="66" name="Rectangle 3"/>
            <p:cNvSpPr/>
            <p:nvPr/>
          </p:nvSpPr>
          <p:spPr>
            <a:xfrm>
              <a:off x="743040" y="108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743040" y="1085760"/>
              <a:ext cx="765972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  </a:t>
              </a:r>
              <a:r>
                <a:rPr b="0" lang="en-GB" sz="292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</a:t>
              </a: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" descr="Blood glucose regulation"/>
          <p:cNvPicPr/>
          <p:nvPr/>
        </p:nvPicPr>
        <p:blipFill>
          <a:blip r:embed="rId1"/>
          <a:stretch/>
        </p:blipFill>
        <p:spPr>
          <a:xfrm>
            <a:off x="228600" y="351000"/>
            <a:ext cx="87631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Homeos4"/>
          <p:cNvPicPr/>
          <p:nvPr/>
        </p:nvPicPr>
        <p:blipFill>
          <a:blip r:embed="rId1"/>
          <a:stretch/>
        </p:blipFill>
        <p:spPr>
          <a:xfrm>
            <a:off x="152280" y="1355760"/>
            <a:ext cx="883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1:53:37Z</dcterms:created>
  <dc:creator>Sarah</dc:creator>
  <dc:description/>
  <dc:language>en-US</dc:language>
  <cp:lastModifiedBy>RomaK</cp:lastModifiedBy>
  <dcterms:modified xsi:type="dcterms:W3CDTF">2015-09-04T10:46:37Z</dcterms:modified>
  <cp:revision>17</cp:revision>
  <dc:subject/>
  <dc:title>Objectives</dc:title>
</cp:coreProperties>
</file>