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0838B-A836-4927-BEB3-394428D50A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at is meant by the term endocrine g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cellular structure of an islet of Langerhans from the pancr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line the role of the pancreas as an endocrine g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at is meant by the term endocrine g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cellular structure of an islet of Langerhans from the pancr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line the role of the pancreas as an endocrine g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hormones circulate in blood, coming into contact with essentially all cells. However, a given hormone usually affects only a limited number of cells, which are called target cells. A target cell responds to a hormone because it bears receptors for the hormo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or is usually an org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hormones circulate in blood, coming into contact with essentially all cells. However, a given hormone usually affects only a limited number of cells, which are called target cells. A target cell responds to a hormone because it bears receptors for the hormo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or is usually an org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advantages of treating diabetics with human insulin produced by genetic enginee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advantages of treating diabetics with human insulin produced by genetic enginee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www-medlib.med.utah.edu/WebPath/ENDOHTML/ENDO03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`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-medlib.med.utah.edu/WebPath/ENDOHTML/ENDO03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`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ocrine Gland: a gland that secretes externally through a 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crine Gland: a gland that secretes hormones into the bloodstre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ocrine Gland: a gland that secretes externally through a 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crine Gland: a gland that secretes hormones into the bloodstre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ncreas has an exocrine portion that secretes digestive enzymes that are carried through a duct to the duodenum. The endocrine portion consists of the pancreatic islets, which secrete glucagons and insul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ncreas has an exocrine portion that secretes digestive enzymes that are carried through a duct to the duodenum. The endocrine portion consists of the pancreatic islets, which secrete glucagons and insul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how the blood glucose concentration is regulated by negative feedback control mechanisms, with reference to insulin and glucag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the importance of homeostasis in mammals, and explain the principles of homeostasis in terms of receptors, effectors and negative feed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how the blood glucose concentration is regulated by negative feedback control mechanisms, with reference to insulin and glucag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the importance of homeostasis in mammals, and explain the principles of homeostasis in terms of receptors, effectors and negative feed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443D-927E-4752-B74F-A64C0B10E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05CB-627B-4FD8-B84E-6194692B6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F672-152F-4A4B-825A-E115A138A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2C97-56B4-4CFA-8F96-F96578BE6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15B3-33EE-453B-AA20-7F2CDAF0A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96DB-AEAE-454E-B847-BCB56665F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D88D-B050-41E8-977C-922B42CDE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25BC-5CCA-47A8-A0FC-99AEEF09F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0FA9-C9D4-4D06-8E3B-2D3D654BC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67E2-F179-4552-9448-6097F819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09B0-6571-4596-BA6A-08A882D3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BCC9-F304-400A-9BC8-ADF25489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0806C-8250-42DB-8270-EE862468C2B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ain what is meant by the term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ocrine glan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cribe the cellular structure of an islet of Langerhans from the pancr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utline the role of the pancreas as an endocrine g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109440" y="266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targets"/>
          <p:cNvPicPr/>
          <p:nvPr/>
        </p:nvPicPr>
        <p:blipFill>
          <a:blip r:embed="rId1"/>
          <a:stretch/>
        </p:blipFill>
        <p:spPr>
          <a:xfrm>
            <a:off x="380880" y="1792440"/>
            <a:ext cx="853452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hormone_2"/>
          <p:cNvPicPr/>
          <p:nvPr/>
        </p:nvPicPr>
        <p:blipFill>
          <a:blip r:embed="rId1"/>
          <a:stretch/>
        </p:blipFill>
        <p:spPr>
          <a:xfrm>
            <a:off x="152280" y="1050840"/>
            <a:ext cx="8839440" cy="45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Horm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 hormones circulate in blood, coming into contact with essentially all cells. However, a given hormone usually affects only a limited number of cells, which are called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target cell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 A target cell responds to a hormone because it bears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receptor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or the hormo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effector is usually an org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ain the advantages of treating diabetics with human insulin produced by genetic enginee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insulin"/>
          <p:cNvPicPr/>
          <p:nvPr/>
        </p:nvPicPr>
        <p:blipFill>
          <a:blip r:embed="rId1"/>
          <a:stretch/>
        </p:blipFill>
        <p:spPr>
          <a:xfrm>
            <a:off x="990720" y="282600"/>
            <a:ext cx="7162560" cy="62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9"/>
          <p:cNvGrpSpPr/>
          <p:nvPr/>
        </p:nvGrpSpPr>
        <p:grpSpPr>
          <a:xfrm>
            <a:off x="3108240" y="1023840"/>
            <a:ext cx="5000760" cy="268200"/>
            <a:chOff x="3108240" y="1023840"/>
            <a:chExt cx="5000760" cy="268200"/>
          </a:xfrm>
        </p:grpSpPr>
        <p:sp>
          <p:nvSpPr>
            <p:cNvPr id="51" name="Rectangle 6"/>
            <p:cNvSpPr/>
            <p:nvPr/>
          </p:nvSpPr>
          <p:spPr>
            <a:xfrm>
              <a:off x="3108240" y="1023840"/>
              <a:ext cx="500076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7"/>
            <p:cNvSpPr/>
            <p:nvPr/>
          </p:nvSpPr>
          <p:spPr>
            <a:xfrm>
              <a:off x="3108240" y="1023840"/>
              <a:ext cx="50007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" name="Picture 8" descr="illu_endocrine_system"/>
          <p:cNvPicPr/>
          <p:nvPr/>
        </p:nvPicPr>
        <p:blipFill>
          <a:blip r:embed="rId1"/>
          <a:stretch/>
        </p:blipFill>
        <p:spPr>
          <a:xfrm>
            <a:off x="2303640" y="152280"/>
            <a:ext cx="48765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figure19c"/>
          <p:cNvPicPr/>
          <p:nvPr/>
        </p:nvPicPr>
        <p:blipFill>
          <a:blip r:embed="rId1"/>
          <a:stretch/>
        </p:blipFill>
        <p:spPr>
          <a:xfrm>
            <a:off x="152280" y="228600"/>
            <a:ext cx="8763120" cy="57499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4"/>
          <p:cNvSpPr/>
          <p:nvPr/>
        </p:nvSpPr>
        <p:spPr>
          <a:xfrm>
            <a:off x="304920" y="624852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-medlib.med.utah.edu/WebPath/ENDOHTML/ENDO032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`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Panc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ocrine Glan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a gland that secretes externally through a 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ocrine Glan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a gland that secretes hormones into the bloodstre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Panc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The pancreas has an exocrine portion that secretes digestive enzymes that are carried through a duct to the duodenum. The endocrine portion consists of the pancreatic islets, which secrete </a:t>
            </a:r>
            <a:r>
              <a:rPr b="0" lang="en-GB" sz="3200" spc="-1" strike="noStrike">
                <a:solidFill>
                  <a:srgbClr val="006699"/>
                </a:solidFill>
                <a:latin typeface="Verdana"/>
              </a:rPr>
              <a:t>glucagons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GB" sz="3200" spc="-1" strike="noStrike">
                <a:solidFill>
                  <a:srgbClr val="006699"/>
                </a:solidFill>
                <a:latin typeface="Verdana"/>
              </a:rPr>
              <a:t>insulin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ain how the blood glucose concentration is regulated by negative feedback control mechanisms, with reference to insulin and glucag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cuss the importance of homeostasis in mammals, and explain the principles of homeostasis in terms of receptors, effectors and negative feed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sugar"/>
          <p:cNvPicPr/>
          <p:nvPr/>
        </p:nvPicPr>
        <p:blipFill>
          <a:blip r:embed="rId1"/>
          <a:stretch/>
        </p:blipFill>
        <p:spPr>
          <a:xfrm>
            <a:off x="2392200" y="152280"/>
            <a:ext cx="43610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743040" y="108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743040" y="1085760"/>
            <a:ext cx="7659720" cy="4541760"/>
            <a:chOff x="743040" y="1085760"/>
            <a:chExt cx="7659720" cy="4541760"/>
          </a:xfrm>
        </p:grpSpPr>
        <p:sp>
          <p:nvSpPr>
            <p:cNvPr id="66" name="Rectangle 3"/>
            <p:cNvSpPr/>
            <p:nvPr/>
          </p:nvSpPr>
          <p:spPr>
            <a:xfrm>
              <a:off x="743040" y="1085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4"/>
            <p:cNvSpPr/>
            <p:nvPr/>
          </p:nvSpPr>
          <p:spPr>
            <a:xfrm>
              <a:off x="743040" y="1085760"/>
              <a:ext cx="7659720" cy="454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282828"/>
                  </a:solidFill>
                  <a:latin typeface="Arial"/>
                  <a:ea typeface="Arial"/>
                </a:rPr>
                <a:t>  </a:t>
              </a:r>
              <a:r>
                <a:rPr b="0" lang="en-GB" sz="29200" spc="-1" strike="noStrike">
                  <a:solidFill>
                    <a:srgbClr val="282828"/>
                  </a:solidFill>
                  <a:latin typeface="Arial"/>
                  <a:ea typeface="Arial"/>
                </a:rPr>
                <a:t> </a:t>
              </a:r>
              <a:r>
                <a:rPr b="0" lang="en-GB" sz="900" spc="-1" strike="noStrike">
                  <a:solidFill>
                    <a:srgbClr val="282828"/>
                  </a:solidFill>
                  <a:latin typeface="Arial"/>
                  <a:ea typeface="Arial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" name="Picture 5" descr="Blood glucose regulation"/>
          <p:cNvPicPr/>
          <p:nvPr/>
        </p:nvPicPr>
        <p:blipFill>
          <a:blip r:embed="rId1"/>
          <a:stretch/>
        </p:blipFill>
        <p:spPr>
          <a:xfrm>
            <a:off x="228600" y="351000"/>
            <a:ext cx="8763120" cy="63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Homeos4"/>
          <p:cNvPicPr/>
          <p:nvPr/>
        </p:nvPicPr>
        <p:blipFill>
          <a:blip r:embed="rId1"/>
          <a:stretch/>
        </p:blipFill>
        <p:spPr>
          <a:xfrm>
            <a:off x="152280" y="1355760"/>
            <a:ext cx="883944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0T11:53:37Z</dcterms:created>
  <dc:creator>Sarah</dc:creator>
  <dc:description/>
  <dc:language>en-US</dc:language>
  <cp:lastModifiedBy>RomaK</cp:lastModifiedBy>
  <dcterms:modified xsi:type="dcterms:W3CDTF">2015-09-04T10:46:37Z</dcterms:modified>
  <cp:revision>17</cp:revision>
  <dc:subject/>
  <dc:title>Objectives</dc:title>
</cp:coreProperties>
</file>