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7.png" ContentType="image/png"/>
  <Override PartName="/ppt/media/image11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F76A-EF19-4C6A-915B-D3F4C8A0A7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7C6-746E-4274-B57C-82FD839F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545-40AC-4AA7-974F-BA42685F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9E9-5482-4AC6-92CD-12213EB9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81A-5FED-4ABF-8846-1B3CA20D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C89-1C82-4542-8426-82A1793A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303-8987-4007-AC34-49FEF149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D6D-D02F-43EF-8FCE-459DA4D8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6C5-B50E-4072-B66C-20BE1D52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020-75F4-4F36-9811-F55E86D7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3FF-93B7-4F7A-B25D-F04032DD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ED35-E68F-47FF-B791-F611AB85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3BA7-247C-4603-99EB-7F29A9FF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7E0C-236F-47FB-8160-7E2C94F23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30800" y="83808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734040" y="45720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52720" y="2378160"/>
            <a:ext cx="86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A newborn baby has more 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than an adult. A baby is born wi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300 bones. An adult only has 2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-10936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Pj038580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99920" y="747720"/>
            <a:ext cx="805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jawbone is the hardest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human bo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-4495680" y="151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Pj038579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0200" y="1539720"/>
            <a:ext cx="86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The only bone not broken so far d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any ski accident is one lo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in your inner 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-3670200" y="96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Pj0305704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02280" y="306720"/>
            <a:ext cx="850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If you break your wrist as 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dult it will take you 8 weeks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he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 five year old child w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breaks their wrist only takes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weeks to he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-415908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HM00251_0000[1]"/>
          <p:cNvPicPr/>
          <p:nvPr/>
        </p:nvPicPr>
        <p:blipFill>
          <a:blip r:embed="rId1"/>
          <a:stretch/>
        </p:blipFill>
        <p:spPr>
          <a:xfrm rot="5400000">
            <a:off x="3800880" y="2522880"/>
            <a:ext cx="1808280" cy="4838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36960" y="535320"/>
            <a:ext cx="808272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ig toes have 2 bon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, while all y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toes have 3 b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-456084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j0211494"/>
          <p:cNvPicPr/>
          <p:nvPr/>
        </p:nvPicPr>
        <p:blipFill>
          <a:blip r:embed="rId1"/>
          <a:stretch/>
        </p:blipFill>
        <p:spPr>
          <a:xfrm>
            <a:off x="2209680" y="2757600"/>
            <a:ext cx="4648320" cy="3967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59920" y="168840"/>
            <a:ext cx="861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ones also manufa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blood cells and stor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ful mineral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539360" y="1164960"/>
            <a:ext cx="144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38581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990360" y="166680"/>
            <a:ext cx="69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Verdana"/>
                <a:ea typeface="Times New Roman"/>
              </a:rPr>
              <a:t>Your hand has 27 bones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6994440" y="4896000"/>
            <a:ext cx="1303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286000" y="2988000"/>
            <a:ext cx="565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92160" y="52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MPj03960060000[1]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1828800" y="18288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Your face has 14 bones.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mallest and The Long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smallest bone in your body is the stirrup bone in your ear which can measure only 1/10 of an inch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Cj03504550000[1]"/>
          <p:cNvPicPr/>
          <p:nvPr/>
        </p:nvPicPr>
        <p:blipFill>
          <a:blip r:embed="rId1"/>
          <a:stretch/>
        </p:blipFill>
        <p:spPr>
          <a:xfrm rot="2623200">
            <a:off x="1828440" y="5181480"/>
            <a:ext cx="7174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MCj03504550000[1]"/>
          <p:cNvPicPr/>
          <p:nvPr/>
        </p:nvPicPr>
        <p:blipFill>
          <a:blip r:embed="rId2"/>
          <a:stretch/>
        </p:blipFill>
        <p:spPr>
          <a:xfrm rot="4693800">
            <a:off x="5701320" y="4350240"/>
            <a:ext cx="1378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MPj038579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835000" y="0"/>
            <a:ext cx="44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Did You K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14400" y="182052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Humans and giraffes have the same number of bo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in their necks? A Giraffe’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neck vertebrae are just much, much longe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-358776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j03710220000[1]"/>
          <p:cNvPicPr/>
          <p:nvPr/>
        </p:nvPicPr>
        <p:blipFill>
          <a:blip r:embed="rId1"/>
          <a:stretch/>
        </p:blipFill>
        <p:spPr>
          <a:xfrm rot="5400000">
            <a:off x="167040" y="2270520"/>
            <a:ext cx="4438800" cy="2944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962520" y="17658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Your Femur (thigh bone)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is stronger than concre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one is stronger, inch for inch than the steel used in skyscrap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-3214800" y="115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human-anatomy.net/images/knee_anatomy/knee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811080" y="1219680"/>
            <a:ext cx="7753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Babies are b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without the patella (knee 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it develop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ages 2 and 5.</a:t>
            </a:r>
            <a:r>
              <a:rPr b="0" lang="en-US" sz="3600" spc="-1" strike="noStrike">
                <a:solidFill>
                  <a:srgbClr val="0066ff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-120348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38581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914400" y="6850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  <a:ea typeface="Times New Roman"/>
              </a:rPr>
              <a:t>One fourth of your bones are located in your f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m00355_"/>
          <p:cNvPicPr/>
          <p:nvPr/>
        </p:nvPicPr>
        <p:blipFill>
          <a:blip r:embed="rId1"/>
          <a:stretch/>
        </p:blipFill>
        <p:spPr>
          <a:xfrm>
            <a:off x="3809880" y="1371600"/>
            <a:ext cx="164808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762120" y="762840"/>
            <a:ext cx="782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Your ba</a:t>
            </a:r>
            <a:r>
              <a:rPr b="0" lang="en-US" sz="4800" spc="-1" strike="noStrike">
                <a:solidFill>
                  <a:srgbClr val="0000ff"/>
                </a:solidFill>
                <a:latin typeface="Verdana"/>
                <a:ea typeface="Times New Roman"/>
              </a:rPr>
              <a:t>ckbone is really thirty-three bones that run down the middle of your bo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3:23:15Z</dcterms:created>
  <dc:creator> </dc:creator>
  <dc:description/>
  <dc:language>en-US</dc:language>
  <cp:lastModifiedBy>RomaK</cp:lastModifiedBy>
  <dcterms:modified xsi:type="dcterms:W3CDTF">2015-09-04T10:46:50Z</dcterms:modified>
  <cp:revision>35</cp:revision>
  <dc:subject/>
  <dc:title>facts on bones</dc:title>
</cp:coreProperties>
</file>