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6.wmf" ContentType="image/x-wmf"/>
  <Override PartName="/ppt/media/image7.png" ContentType="image/png"/>
  <Override PartName="/ppt/media/image11.jpeg" ContentType="image/jpeg"/>
  <Override PartName="/ppt/media/image12.jpeg" ContentType="image/jpeg"/>
  <Override PartName="/ppt/media/image13.wmf" ContentType="image/x-wmf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BF432-24CE-44B9-8776-8F639C7C76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ure have lots of bon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ure have lots of bon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wborn baby has more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 an adult. A baby is born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0 bones. An adult only has 20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ure have lots of bon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ure have lots of bon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wborn baby has more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 an adult. A baby is born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0 bones. An adult only has 20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jawbone is the hardest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man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jawbone is the hardest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man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ly bone not broken so far du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ski accident is one loca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your inner 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ly bone not broken so far du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ski accident is one loca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your inner 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break your wrist as 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ult it will take you 8 weeks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ve year old child wh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s their wrist only takes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eks to he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break your wrist as 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ult it will take you 8 weeks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ve year old child wh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s their wrist only takes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eks to he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big toes have 2 b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m, while all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toes have 3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big toes have 2 b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m, while all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toes have 3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bones also manuf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ells and stor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ful miner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bones also manuf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ells and stor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ful miner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hand has 27 bo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hand has 27 bo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face has 14 bo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face has 14 bo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est and The Longe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ngest bone in your body is your thigh bone, the femur it is about 1/4 of your he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allest bone in your body is the stirrup bone in your ear which can measure only 1/10 of an in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est and The Longe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ngest bone in your body is your thigh bone, the femur it is about 1/4 of your he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allest bone in your body is the stirrup bone in your ear which can measure only 1/10 of an in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You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s and giraffes have the same number of b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ir necks? A Giraffe’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ck vertebrae are just much, much longer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You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s and giraffes have the same number of b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ir necks? A Giraffe’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ck vertebrae are just much, much longer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Femur (thigh bone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stronger than concre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e is stronger, inch for inch than the steel used in skyscrap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Femur (thigh bone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stronger than concre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e is stronger, inch for inch than the steel used in skyscrap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bies are bo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the patella (knee bon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develops betwe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s 2 and 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bies are bo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the patella (knee bon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develops betwe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s 2 and 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fourth of your bones are located in your fe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fourth of your bones are located in your fe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backbone is really thirty-three bones that run down the middle of your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backbone is really thirty-three bones that run down the middle of your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4CE9-625E-42E8-9BA5-962B174C0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C3F9-980F-4A8E-8108-D8F5EF8A0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6C9E-D643-4ED6-A471-3CBE43DC4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15C8-3B18-442E-878C-0E5C6D8DC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C62B-5DC3-4559-A21D-6EB0073FA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FCD9-EECF-4ABC-8341-BFEBD8E87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DD29-EF9D-45CA-8620-6E6D45690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3816-0967-4A5C-B1D9-776024B31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4239-B40F-42FE-83A2-C9BCCA56C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CD5E-21F8-4DD6-86D1-3ED3D8D6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6981-A7B2-443A-97B5-73CC0A41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11F0-1EE2-45DF-BED7-564624B2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A164C-6B0B-4151-9056-8BFF491CB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730800" y="838080"/>
            <a:ext cx="8059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We sure have lots of bone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1"/>
          <p:cNvSpPr/>
          <p:nvPr/>
        </p:nvSpPr>
        <p:spPr>
          <a:xfrm>
            <a:off x="734040" y="457200"/>
            <a:ext cx="8059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923da"/>
                </a:solidFill>
                <a:latin typeface="Verdana"/>
                <a:ea typeface="Times New Roman"/>
              </a:rPr>
              <a:t>We sure have lots of bone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0" y="17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3"/>
          <p:cNvSpPr/>
          <p:nvPr/>
        </p:nvSpPr>
        <p:spPr>
          <a:xfrm>
            <a:off x="252720" y="2378160"/>
            <a:ext cx="864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23da"/>
                </a:solidFill>
                <a:latin typeface="Arial"/>
              </a:rPr>
              <a:t>A newborn baby has more b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23da"/>
                </a:solidFill>
                <a:latin typeface="Arial"/>
              </a:rPr>
              <a:t>than an adult. A baby is born wit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23da"/>
                </a:solidFill>
                <a:latin typeface="Arial"/>
              </a:rPr>
              <a:t>300 bones. An adult only has 20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-109368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MPj0385801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6"/>
          <p:cNvSpPr/>
          <p:nvPr/>
        </p:nvSpPr>
        <p:spPr>
          <a:xfrm>
            <a:off x="799920" y="747720"/>
            <a:ext cx="8050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erdana"/>
                <a:ea typeface="Times New Roman"/>
              </a:rPr>
              <a:t>The jawbone is the hardest i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erdana"/>
                <a:ea typeface="Times New Roman"/>
              </a:rPr>
              <a:t>the human bod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-4495680" y="151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MPj0385793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9184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250200" y="1539720"/>
            <a:ext cx="860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Verdana"/>
                <a:ea typeface="Times New Roman"/>
              </a:rPr>
              <a:t>The only bone not broken so far du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Verdana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66ff33"/>
                </a:solidFill>
                <a:latin typeface="Verdana"/>
                <a:ea typeface="Times New Roman"/>
              </a:rPr>
              <a:t>any ski accident is one locat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Verdana"/>
                <a:ea typeface="Times New Roman"/>
              </a:rPr>
              <a:t>in your inner e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5"/>
          <p:cNvSpPr/>
          <p:nvPr/>
        </p:nvSpPr>
        <p:spPr>
          <a:xfrm>
            <a:off x="-3670200" y="96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MPj0305704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602280" y="306720"/>
            <a:ext cx="85032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Verdana"/>
                <a:ea typeface="Times New Roman"/>
              </a:rPr>
              <a:t>If you break your wrist as a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Verdana"/>
                <a:ea typeface="Times New Roman"/>
              </a:rPr>
              <a:t>adult it will take you 8 weeks 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Verdana"/>
                <a:ea typeface="Times New Roman"/>
              </a:rPr>
              <a:t>heal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Verdana"/>
                <a:ea typeface="Times New Roman"/>
              </a:rPr>
              <a:t>A five year old child wh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Verdana"/>
                <a:ea typeface="Times New Roman"/>
              </a:rPr>
              <a:t>breaks their wrist only takes 3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Verdana"/>
                <a:ea typeface="Times New Roman"/>
              </a:rPr>
              <a:t>weeks to he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5"/>
          <p:cNvSpPr/>
          <p:nvPr/>
        </p:nvSpPr>
        <p:spPr>
          <a:xfrm>
            <a:off x="-4159080" y="16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MCHM00251_0000[1]"/>
          <p:cNvPicPr/>
          <p:nvPr/>
        </p:nvPicPr>
        <p:blipFill>
          <a:blip r:embed="rId1"/>
          <a:stretch/>
        </p:blipFill>
        <p:spPr>
          <a:xfrm rot="5400000">
            <a:off x="3800880" y="2522880"/>
            <a:ext cx="1808280" cy="48387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6"/>
          <p:cNvSpPr/>
          <p:nvPr/>
        </p:nvSpPr>
        <p:spPr>
          <a:xfrm>
            <a:off x="336960" y="535320"/>
            <a:ext cx="8082720" cy="33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Your big toes have 2 bone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in them, while all your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other toes have 3 bon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in them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-4560840" y="7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j0211494"/>
          <p:cNvPicPr/>
          <p:nvPr/>
        </p:nvPicPr>
        <p:blipFill>
          <a:blip r:embed="rId1"/>
          <a:stretch/>
        </p:blipFill>
        <p:spPr>
          <a:xfrm>
            <a:off x="2209680" y="2757600"/>
            <a:ext cx="4648320" cy="39672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6"/>
          <p:cNvSpPr/>
          <p:nvPr/>
        </p:nvSpPr>
        <p:spPr>
          <a:xfrm>
            <a:off x="259920" y="168840"/>
            <a:ext cx="8614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Your bones also manufac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blood cells and store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useful minerals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1539360" y="1164960"/>
            <a:ext cx="1448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MPj0385818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"/>
          <p:cNvSpPr/>
          <p:nvPr/>
        </p:nvSpPr>
        <p:spPr>
          <a:xfrm>
            <a:off x="990360" y="166680"/>
            <a:ext cx="690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erdana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Verdana"/>
                <a:ea typeface="Times New Roman"/>
              </a:rPr>
              <a:t>Your hand has 27 bones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  <a:ea typeface="Times New Roman"/>
              </a:rPr>
              <a:t>.</a:t>
            </a:r>
            <a:r>
              <a:rPr b="0" lang="en-US" sz="3600" spc="-1" strike="noStrike">
                <a:solidFill>
                  <a:srgbClr val="ff0000"/>
                </a:solidFill>
                <a:latin typeface="Verdana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5"/>
          <p:cNvSpPr/>
          <p:nvPr/>
        </p:nvSpPr>
        <p:spPr>
          <a:xfrm>
            <a:off x="6994440" y="4896000"/>
            <a:ext cx="13032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2286000" y="2988000"/>
            <a:ext cx="5654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-92160" y="528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MPj03960060000[1]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9"/>
          <p:cNvSpPr/>
          <p:nvPr/>
        </p:nvSpPr>
        <p:spPr>
          <a:xfrm>
            <a:off x="1828800" y="182880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Arial"/>
              </a:rPr>
              <a:t>Your face has 14 bones.</a:t>
            </a: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Smallest and The Longes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The longest bone in your body is your thigh bone, the femur it is about 1/4 of your heigh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The smallest bone in your body is the stirrup bone in your ear which can measure only 1/10 of an inch.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MCj03504550000[1]"/>
          <p:cNvPicPr/>
          <p:nvPr/>
        </p:nvPicPr>
        <p:blipFill>
          <a:blip r:embed="rId1"/>
          <a:stretch/>
        </p:blipFill>
        <p:spPr>
          <a:xfrm rot="2623200">
            <a:off x="1828440" y="5181480"/>
            <a:ext cx="71748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MCj03504550000[1]"/>
          <p:cNvPicPr/>
          <p:nvPr/>
        </p:nvPicPr>
        <p:blipFill>
          <a:blip r:embed="rId2"/>
          <a:stretch/>
        </p:blipFill>
        <p:spPr>
          <a:xfrm rot="4693800">
            <a:off x="5701320" y="4350240"/>
            <a:ext cx="137808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MPj0385795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6"/>
          <p:cNvSpPr/>
          <p:nvPr/>
        </p:nvSpPr>
        <p:spPr>
          <a:xfrm>
            <a:off x="2835000" y="0"/>
            <a:ext cx="4431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923da"/>
                </a:solidFill>
                <a:latin typeface="Verdana"/>
                <a:ea typeface="Times New Roman"/>
              </a:rPr>
              <a:t>Did You Know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914400" y="1820520"/>
            <a:ext cx="73152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Verdana"/>
                <a:ea typeface="Times New Roman"/>
              </a:rPr>
              <a:t>Humans and giraffes have the same number of bon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Verdana"/>
                <a:ea typeface="Times New Roman"/>
              </a:rPr>
              <a:t>in their necks? A Giraffe’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Verdana"/>
                <a:ea typeface="Times New Roman"/>
              </a:rPr>
              <a:t>neck vertebrae are just much, much longer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-358776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MCj03710220000[1]"/>
          <p:cNvPicPr/>
          <p:nvPr/>
        </p:nvPicPr>
        <p:blipFill>
          <a:blip r:embed="rId1"/>
          <a:stretch/>
        </p:blipFill>
        <p:spPr>
          <a:xfrm rot="5400000">
            <a:off x="167040" y="2270520"/>
            <a:ext cx="4438800" cy="29448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3962520" y="1765800"/>
            <a:ext cx="4572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Your Femur (thigh bone)</a:t>
            </a:r>
            <a:br>
              <a:rPr sz="4000"/>
            </a:b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 is stronger than concre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Bone is stronger, inch for inch than the steel used in skyscraper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5"/>
          <p:cNvSpPr/>
          <p:nvPr/>
        </p:nvSpPr>
        <p:spPr>
          <a:xfrm>
            <a:off x="-3214800" y="115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http://www.human-anatomy.net/images/knee_anatomy/knee6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6"/>
          <p:cNvSpPr/>
          <p:nvPr/>
        </p:nvSpPr>
        <p:spPr>
          <a:xfrm>
            <a:off x="811080" y="1219680"/>
            <a:ext cx="775332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Verdana"/>
                <a:ea typeface="Times New Roman"/>
              </a:rPr>
              <a:t>Babies are bo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Verdana"/>
                <a:ea typeface="Times New Roman"/>
              </a:rPr>
              <a:t>without the patella (knee bone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Verdana"/>
                <a:ea typeface="Times New Roman"/>
              </a:rPr>
              <a:t>it develops betwee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Verdana"/>
                <a:ea typeface="Times New Roman"/>
              </a:rPr>
              <a:t>ages 2 and 5.</a:t>
            </a:r>
            <a:r>
              <a:rPr b="0" lang="en-US" sz="3600" spc="-1" strike="noStrike">
                <a:solidFill>
                  <a:srgbClr val="0066ff"/>
                </a:solidFill>
                <a:latin typeface="Verdana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5"/>
          <p:cNvSpPr/>
          <p:nvPr/>
        </p:nvSpPr>
        <p:spPr>
          <a:xfrm>
            <a:off x="-1203480" y="9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MPj0385815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6"/>
          <p:cNvSpPr/>
          <p:nvPr/>
        </p:nvSpPr>
        <p:spPr>
          <a:xfrm>
            <a:off x="914400" y="685080"/>
            <a:ext cx="7391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Verdana"/>
                <a:ea typeface="Times New Roman"/>
              </a:rPr>
              <a:t>One fourth of your bones are located in your fee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hm00355_"/>
          <p:cNvPicPr/>
          <p:nvPr/>
        </p:nvPicPr>
        <p:blipFill>
          <a:blip r:embed="rId1"/>
          <a:stretch/>
        </p:blipFill>
        <p:spPr>
          <a:xfrm>
            <a:off x="3809880" y="1371600"/>
            <a:ext cx="1648080" cy="50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6"/>
          <p:cNvSpPr/>
          <p:nvPr/>
        </p:nvSpPr>
        <p:spPr>
          <a:xfrm>
            <a:off x="762120" y="762840"/>
            <a:ext cx="78278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Your ba</a:t>
            </a:r>
            <a:r>
              <a:rPr b="0" lang="en-US" sz="4800" spc="-1" strike="noStrike">
                <a:solidFill>
                  <a:srgbClr val="0000ff"/>
                </a:solidFill>
                <a:latin typeface="Verdana"/>
                <a:ea typeface="Times New Roman"/>
              </a:rPr>
              <a:t>ckbone is really thirty-three bones that run down the middle of your bod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3T23:23:15Z</dcterms:created>
  <dc:creator> </dc:creator>
  <dc:description/>
  <dc:language>en-US</dc:language>
  <cp:lastModifiedBy>RomaK</cp:lastModifiedBy>
  <dcterms:modified xsi:type="dcterms:W3CDTF">2015-09-04T10:46:50Z</dcterms:modified>
  <cp:revision>35</cp:revision>
  <dc:subject/>
  <dc:title>facts on bones</dc:title>
</cp:coreProperties>
</file>