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6.wmf" ContentType="image/x-wmf"/>
  <Override PartName="/ppt/media/image7.png" ContentType="image/png"/>
  <Override PartName="/ppt/media/image11.jpeg" ContentType="image/jpe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B862-177C-4D7E-8F62-66A1348444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FFB-7410-4F90-B452-35762FA3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CB23-08C3-4EB9-A1AD-CC021BE9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1C7-AE41-47BF-AF47-4B27D511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216C-1F9A-4E6F-ADB4-8B843E67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6B8-D967-4BDB-9926-366ED1B3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E43-AC6D-4D32-A79F-9EB4581A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ABB-0B4B-4AF5-AFC7-DFF752EC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B3E-08D3-4338-9EAD-5045026E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111-16AD-41F4-8B0D-F5589089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19B-37CE-459F-AEBA-0ED4BB11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648-4705-40E2-AF41-F157E878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0DA-85FC-4596-BD20-7E8528BE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EF05-C3C8-452F-992B-B988FCBCF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730800" y="83808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734040" y="45720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52720" y="2378160"/>
            <a:ext cx="86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A newborn baby has more b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than an adult. A baby is born wi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300 bones. An adult only has 2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-10936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Pj038580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799920" y="747720"/>
            <a:ext cx="805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jawbone is the hardest 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human bo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-4495680" y="151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Pj038579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0200" y="1539720"/>
            <a:ext cx="86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The only bone not broken so far d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any ski accident is one lo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in your inner 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-3670200" y="96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Pj0305704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02280" y="306720"/>
            <a:ext cx="850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If you break your wrist as 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dult it will take you 8 weeks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he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 five year old child w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breaks their wrist only takes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weeks to he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-415908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CHM00251_0000[1]"/>
          <p:cNvPicPr/>
          <p:nvPr/>
        </p:nvPicPr>
        <p:blipFill>
          <a:blip r:embed="rId1"/>
          <a:stretch/>
        </p:blipFill>
        <p:spPr>
          <a:xfrm rot="5400000">
            <a:off x="3800880" y="2522880"/>
            <a:ext cx="1808280" cy="4838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36960" y="535320"/>
            <a:ext cx="8082720" cy="33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ig toes have 2 bon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, while all y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toes have 3 b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-456084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j0211494"/>
          <p:cNvPicPr/>
          <p:nvPr/>
        </p:nvPicPr>
        <p:blipFill>
          <a:blip r:embed="rId1"/>
          <a:stretch/>
        </p:blipFill>
        <p:spPr>
          <a:xfrm>
            <a:off x="2209680" y="2757600"/>
            <a:ext cx="4648320" cy="3967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259920" y="168840"/>
            <a:ext cx="861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ones also manufa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blood cells and stor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useful mineral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539360" y="1164960"/>
            <a:ext cx="144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Pj038581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990360" y="166680"/>
            <a:ext cx="690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Verdana"/>
                <a:ea typeface="Times New Roman"/>
              </a:rPr>
              <a:t>Your hand has 27 bones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6994440" y="4896000"/>
            <a:ext cx="1303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286000" y="2988000"/>
            <a:ext cx="565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92160" y="528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MPj03960060000[1]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1828800" y="18288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Your face has 14 bones.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mallest and The Long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smallest bone in your body is the stirrup bone in your ear which can measure only 1/10 of an inch.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Cj03504550000[1]"/>
          <p:cNvPicPr/>
          <p:nvPr/>
        </p:nvPicPr>
        <p:blipFill>
          <a:blip r:embed="rId1"/>
          <a:stretch/>
        </p:blipFill>
        <p:spPr>
          <a:xfrm rot="2623200">
            <a:off x="1828440" y="5181480"/>
            <a:ext cx="7174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MCj03504550000[1]"/>
          <p:cNvPicPr/>
          <p:nvPr/>
        </p:nvPicPr>
        <p:blipFill>
          <a:blip r:embed="rId2"/>
          <a:stretch/>
        </p:blipFill>
        <p:spPr>
          <a:xfrm rot="4693800">
            <a:off x="5701320" y="4350240"/>
            <a:ext cx="1378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MPj038579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2835000" y="0"/>
            <a:ext cx="44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Did You Kno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14400" y="1820520"/>
            <a:ext cx="73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Humans and giraffes have the same number of bo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in their necks? A Giraffe’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neck vertebrae are just much, much longe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-358776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j03710220000[1]"/>
          <p:cNvPicPr/>
          <p:nvPr/>
        </p:nvPicPr>
        <p:blipFill>
          <a:blip r:embed="rId1"/>
          <a:stretch/>
        </p:blipFill>
        <p:spPr>
          <a:xfrm rot="5400000">
            <a:off x="167040" y="2270520"/>
            <a:ext cx="4438800" cy="2944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3962520" y="17658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Your Femur (thigh bone)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is stronger than concre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one is stronger, inch for inch than the steel used in skyscrap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-3214800" y="115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human-anatomy.net/images/knee_anatomy/knee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811080" y="1219680"/>
            <a:ext cx="7753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Babies are b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without the patella (knee 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it develops betwe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ages 2 and 5.</a:t>
            </a:r>
            <a:r>
              <a:rPr b="0" lang="en-US" sz="3600" spc="-1" strike="noStrike">
                <a:solidFill>
                  <a:srgbClr val="0066ff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-120348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Pj038581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914400" y="6850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  <a:ea typeface="Times New Roman"/>
              </a:rPr>
              <a:t>One fourth of your bones are located in your f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m00355_"/>
          <p:cNvPicPr/>
          <p:nvPr/>
        </p:nvPicPr>
        <p:blipFill>
          <a:blip r:embed="rId1"/>
          <a:stretch/>
        </p:blipFill>
        <p:spPr>
          <a:xfrm>
            <a:off x="3809880" y="1371600"/>
            <a:ext cx="1648080" cy="50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762120" y="762840"/>
            <a:ext cx="7827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Your ba</a:t>
            </a:r>
            <a:r>
              <a:rPr b="0" lang="en-US" sz="4800" spc="-1" strike="noStrike">
                <a:solidFill>
                  <a:srgbClr val="0000ff"/>
                </a:solidFill>
                <a:latin typeface="Verdana"/>
                <a:ea typeface="Times New Roman"/>
              </a:rPr>
              <a:t>ckbone is really thirty-three bones that run down the middle of your bod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3:23:15Z</dcterms:created>
  <dc:creator> </dc:creator>
  <dc:description/>
  <dc:language>en-US</dc:language>
  <cp:lastModifiedBy>RomaK</cp:lastModifiedBy>
  <dcterms:modified xsi:type="dcterms:W3CDTF">2015-09-04T10:46:50Z</dcterms:modified>
  <cp:revision>35</cp:revision>
  <dc:subject/>
  <dc:title>facts on bones</dc:title>
</cp:coreProperties>
</file>