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7.png" ContentType="image/png"/>
  <Override PartName="/ppt/media/image11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5C6F-B50C-4C5E-A30F-DE074C4DE8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CD83-5225-444F-8BC9-168D911A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4BE-EFB3-47E5-A8BC-B1674C80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BA3-0E8E-4C5F-8DE9-F53AF696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EB2-3D95-48EF-9D3F-306A854D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A83-9CEE-4160-BA99-76980985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1F5-0C1D-4F45-AC98-B238A559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710-B590-4CB9-BCC4-EB4BA50F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D29-D029-47F6-BE49-9454A490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7D6-C5E2-4195-B607-277D478C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E28-4F73-4353-A0E4-AA09A006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014-DFD3-415A-A355-1E1D7069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81D-C96B-440A-A3DA-0E166336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0D56-53F7-42C9-A0BD-DCFBDD2F9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30800" y="83808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734040" y="45720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52720" y="2378160"/>
            <a:ext cx="86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A newborn baby has more 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than an adult. A baby is born wi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300 bones. An adult only has 2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-10936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Pj038580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99920" y="747720"/>
            <a:ext cx="805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jawbone is the hardest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human bo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-4495680" y="151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Pj038579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0200" y="1539720"/>
            <a:ext cx="86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The only bone not broken so far d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any ski accident is one lo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in your inner 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-3670200" y="96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Pj0305704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02280" y="306720"/>
            <a:ext cx="850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If you break your wrist as 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dult it will take you 8 weeks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he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 five year old child w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breaks their wrist only takes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weeks to he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-415908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HM00251_0000[1]"/>
          <p:cNvPicPr/>
          <p:nvPr/>
        </p:nvPicPr>
        <p:blipFill>
          <a:blip r:embed="rId1"/>
          <a:stretch/>
        </p:blipFill>
        <p:spPr>
          <a:xfrm rot="5400000">
            <a:off x="3800880" y="2522880"/>
            <a:ext cx="1808280" cy="4838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36960" y="535320"/>
            <a:ext cx="808272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ig toes have 2 bon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, while all y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toes have 3 b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-456084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j0211494"/>
          <p:cNvPicPr/>
          <p:nvPr/>
        </p:nvPicPr>
        <p:blipFill>
          <a:blip r:embed="rId1"/>
          <a:stretch/>
        </p:blipFill>
        <p:spPr>
          <a:xfrm>
            <a:off x="2209680" y="2757600"/>
            <a:ext cx="4648320" cy="3967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59920" y="168840"/>
            <a:ext cx="861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ones also manufa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blood cells and stor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ful mineral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539360" y="1164960"/>
            <a:ext cx="144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38581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990360" y="166680"/>
            <a:ext cx="69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Verdana"/>
                <a:ea typeface="Times New Roman"/>
              </a:rPr>
              <a:t>Your hand has 27 bones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6994440" y="4896000"/>
            <a:ext cx="1303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286000" y="2988000"/>
            <a:ext cx="565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92160" y="52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MPj03960060000[1]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1828800" y="18288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Your face has 14 bones.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mallest and The Long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smallest bone in your body is the stirrup bone in your ear which can measure only 1/10 of an inch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Cj03504550000[1]"/>
          <p:cNvPicPr/>
          <p:nvPr/>
        </p:nvPicPr>
        <p:blipFill>
          <a:blip r:embed="rId1"/>
          <a:stretch/>
        </p:blipFill>
        <p:spPr>
          <a:xfrm rot="2623200">
            <a:off x="1828440" y="5181480"/>
            <a:ext cx="7174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MCj03504550000[1]"/>
          <p:cNvPicPr/>
          <p:nvPr/>
        </p:nvPicPr>
        <p:blipFill>
          <a:blip r:embed="rId2"/>
          <a:stretch/>
        </p:blipFill>
        <p:spPr>
          <a:xfrm rot="4693800">
            <a:off x="5701320" y="4350240"/>
            <a:ext cx="1378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MPj038579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835000" y="0"/>
            <a:ext cx="44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Did You K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14400" y="182052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Humans and giraffes have the same number of bo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in their necks? A Giraffe’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neck vertebrae are just much, much longe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-358776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j03710220000[1]"/>
          <p:cNvPicPr/>
          <p:nvPr/>
        </p:nvPicPr>
        <p:blipFill>
          <a:blip r:embed="rId1"/>
          <a:stretch/>
        </p:blipFill>
        <p:spPr>
          <a:xfrm rot="5400000">
            <a:off x="167040" y="2270520"/>
            <a:ext cx="4438800" cy="2944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962520" y="17658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Your Femur (thigh bone)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is stronger than concre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one is stronger, inch for inch than the steel used in skyscrap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-3214800" y="115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human-anatomy.net/images/knee_anatomy/knee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811080" y="1219680"/>
            <a:ext cx="7753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Babies are b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without the patella (knee 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it develop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ages 2 and 5.</a:t>
            </a:r>
            <a:r>
              <a:rPr b="0" lang="en-US" sz="3600" spc="-1" strike="noStrike">
                <a:solidFill>
                  <a:srgbClr val="0066ff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-120348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38581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914400" y="6850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  <a:ea typeface="Times New Roman"/>
              </a:rPr>
              <a:t>One fourth of your bones are located in your f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m00355_"/>
          <p:cNvPicPr/>
          <p:nvPr/>
        </p:nvPicPr>
        <p:blipFill>
          <a:blip r:embed="rId1"/>
          <a:stretch/>
        </p:blipFill>
        <p:spPr>
          <a:xfrm>
            <a:off x="3809880" y="1371600"/>
            <a:ext cx="164808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762120" y="762840"/>
            <a:ext cx="782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Your ba</a:t>
            </a:r>
            <a:r>
              <a:rPr b="0" lang="en-US" sz="4800" spc="-1" strike="noStrike">
                <a:solidFill>
                  <a:srgbClr val="0000ff"/>
                </a:solidFill>
                <a:latin typeface="Verdana"/>
                <a:ea typeface="Times New Roman"/>
              </a:rPr>
              <a:t>ckbone is really thirty-three bones that run down the middle of your bo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3:23:15Z</dcterms:created>
  <dc:creator> </dc:creator>
  <dc:description/>
  <dc:language>en-US</dc:language>
  <cp:lastModifiedBy>RomaK</cp:lastModifiedBy>
  <dcterms:modified xsi:type="dcterms:W3CDTF">2015-09-04T10:46:50Z</dcterms:modified>
  <cp:revision>35</cp:revision>
  <dc:subject/>
  <dc:title>facts on bones</dc:title>
</cp:coreProperties>
</file>