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5308-8A62-4D63-9A28-86F4BA841611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Rules for being considered 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living things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ter – a place to l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– whether they eat or make it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– H2O without hydration you will d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– O2 whether you breath or get it out of water you will die with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– Organized by Cel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are made of one or mor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sponds to Stimul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react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– Develop and 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get bigger and develop into a more complex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– Energy /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animal you get your energy from ea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plant you make your energy from a process called photo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produ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be able to make copies of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 – Adapt to Environ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must be able to change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e living you must be able to do all of these things by yourself. If you don’t do all those things you are not alive according to sci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 following things AL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vs. Non-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perform all of the activities of    ORDER +A at the curren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Living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– you were once able to perform all the activities of ORDER+A but can not 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-Made – you were made by man and could never do ORDER+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Alive – you were made by nature and could never do ORDER+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27C-5C91-4415-9400-2D6BB46D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EA0-09A0-4D5B-9096-87F56A55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B9C-A4E1-4081-A0E1-DE68BF91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41D-9313-4BFF-8C13-35CDCE6E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5C9D-63D8-4970-A5B1-8D478EBE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07D1-D020-431A-ADE1-E6C2F8EE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4B66-3B9E-40FF-84FA-7558835C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8FC6-7FD0-4B50-BA82-11D31E01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A645-E274-4A20-B107-7CC6CF5C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5F97-8755-452B-B8AD-BECBED29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B232-B630-4A6C-981A-644D059B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959-3FB1-482D-B503-333054E0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B16C-3A0A-474E-AA17-661E9772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5F1D-56BD-4C30-AA88-DABBA8CE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0B7B-7996-46DC-83CC-2C232466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A89E-F0E4-486C-A358-AD518CB4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1FA7-9607-437D-B73A-A3D99D11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A122-DF48-48FC-96C3-AA89244B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D28C0-9A67-449E-9C85-574C2DDA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92F1E-C67F-4743-814B-57158AF5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EC352-E7C3-4806-A13D-379C15F2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0954-D143-4EC1-B12C-DF98BB31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ACA-D315-47AB-A9D5-159325D3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4B93-F704-4D31-BB43-6B1220F3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D609-4298-47A2-921A-9A3A560C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59F6-0797-46D0-BC60-7B4068F8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58E6E-D976-44F8-8B99-0E9F1F39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22337-A864-4ED9-8F82-B475EF64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920E6-D39B-4AF3-B82E-53E4373A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719F-D01D-42C9-929B-6B72A800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690E3-B72C-4641-B794-DCC4BCD6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F7BC9-28C0-47F3-94D4-87CDAAAF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33A10-D24A-48AC-984C-4EC065E7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6A7-CCD7-4848-BCDE-A1750870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5F80-0A83-4637-8E64-334EC32C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1877D-1598-4267-BACF-7F7F630C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03C4C-337A-4AA3-A9C4-4B2220DE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FF895-1DC6-461C-A51D-A5264279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904BA-D5FE-4A3A-A8CF-2F5ED1B1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10BF9-0D11-4008-9E59-F7CB6ADE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ABDD9-F56A-4CD3-97E0-600D5A9B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24F71-53E9-4A24-A72E-20A9324D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E5221-3FAA-4C91-880E-58B43F1A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62A-2287-4178-8FAB-B3037F64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526-8C38-4227-A6AA-1C569ED5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CB1-7F66-4AAB-B73E-B8091AFF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9F1-11E2-41D3-96BF-10F7BF0B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AF6-797C-42BE-AA26-1C81B071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E017-1A14-4B2E-9F2B-FB1C7C96396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B1B2-30EB-421F-B46B-A657FECF385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4772-6A14-435E-82EE-788C834417F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E1B8-B805-4F4B-979E-307888408A3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cientific Rules for being considered Liv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l living things Ne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lter – a place to liv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od – whether they eat or make it themsel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ter – H2O without hydration you will d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– O2 whether you breath or get it out of water you will die without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C:\Documents and Settings\ZakemJ\Local Settings\Temporary Internet Files\Content.IE5\GDIJKLMN\MPj04437780000[1].jpg"/>
          <p:cNvPicPr/>
          <p:nvPr/>
        </p:nvPicPr>
        <p:blipFill>
          <a:blip r:embed="rId1"/>
          <a:stretch/>
        </p:blipFill>
        <p:spPr>
          <a:xfrm>
            <a:off x="5715000" y="1143000"/>
            <a:ext cx="1974960" cy="132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C:\Documents and Settings\ZakemJ\Local Settings\Temporary Internet Files\Content.IE5\OLQNSPQV\MPj04226920000[1].jpg"/>
          <p:cNvPicPr/>
          <p:nvPr/>
        </p:nvPicPr>
        <p:blipFill>
          <a:blip r:embed="rId2"/>
          <a:stretch/>
        </p:blipFill>
        <p:spPr>
          <a:xfrm>
            <a:off x="7658280" y="1066680"/>
            <a:ext cx="1485720" cy="1981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C:\Documents and Settings\ZakemJ\Local Settings\Temporary Internet Files\Content.IE5\G5IJG9QZ\MPj04442250000[1].jpg"/>
          <p:cNvPicPr/>
          <p:nvPr/>
        </p:nvPicPr>
        <p:blipFill>
          <a:blip r:embed="rId3"/>
          <a:stretch/>
        </p:blipFill>
        <p:spPr>
          <a:xfrm>
            <a:off x="457200" y="4267080"/>
            <a:ext cx="2895480" cy="1927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C:\Documents and Settings\ZakemJ\Local Settings\Temporary Internet Files\Content.IE5\89A7CDEF\MPj04222740000[1].jpg"/>
          <p:cNvPicPr/>
          <p:nvPr/>
        </p:nvPicPr>
        <p:blipFill>
          <a:blip r:embed="rId4"/>
          <a:stretch/>
        </p:blipFill>
        <p:spPr>
          <a:xfrm>
            <a:off x="3733920" y="39625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C:\Documents and Settings\ZakemJ\Local Settings\Temporary Internet Files\Content.IE5\G5IJG9QZ\MPj03876970000[1].jpg"/>
          <p:cNvPicPr/>
          <p:nvPr/>
        </p:nvPicPr>
        <p:blipFill>
          <a:blip r:embed="rId5"/>
          <a:stretch/>
        </p:blipFill>
        <p:spPr>
          <a:xfrm>
            <a:off x="6705720" y="4419720"/>
            <a:ext cx="205560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 – Organized by Cell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are made of one or more cel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C:\Documents and Settings\ZakemJ\Local Settings\Temporary Internet Files\Content.IE5\GDIJKLMN\MPj04387380000[1].jpg"/>
          <p:cNvPicPr/>
          <p:nvPr/>
        </p:nvPicPr>
        <p:blipFill>
          <a:blip r:embed="rId1"/>
          <a:stretch/>
        </p:blipFill>
        <p:spPr>
          <a:xfrm>
            <a:off x="304920" y="2743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Documents and Settings\ZakemJ\Local Settings\Temporary Internet Files\Content.IE5\89A7CDEF\MPj04331490000[1].jpg"/>
          <p:cNvPicPr/>
          <p:nvPr/>
        </p:nvPicPr>
        <p:blipFill>
          <a:blip r:embed="rId2"/>
          <a:stretch/>
        </p:blipFill>
        <p:spPr>
          <a:xfrm>
            <a:off x="3124080" y="320040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ZakemJ\Local Settings\Temporary Internet Files\Content.IE5\89A7CDEF\MPj04330590000[1].jpg"/>
          <p:cNvPicPr/>
          <p:nvPr/>
        </p:nvPicPr>
        <p:blipFill>
          <a:blip r:embed="rId3"/>
          <a:stretch/>
        </p:blipFill>
        <p:spPr>
          <a:xfrm>
            <a:off x="6172200" y="2743200"/>
            <a:ext cx="2362320" cy="1735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ZakemJ\Local Settings\Temporary Internet Files\Content.IE5\OLQNSPQV\MPj04389220000[1].jpg"/>
          <p:cNvPicPr/>
          <p:nvPr/>
        </p:nvPicPr>
        <p:blipFill>
          <a:blip r:embed="rId4"/>
          <a:stretch/>
        </p:blipFill>
        <p:spPr>
          <a:xfrm>
            <a:off x="3352680" y="4724280"/>
            <a:ext cx="1830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sponds to Stimuli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react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C:\Documents and Settings\ZakemJ\Local Settings\Temporary Internet Files\Content.IE5\89A7CDEF\MPj04243780000[1].jpg"/>
          <p:cNvPicPr/>
          <p:nvPr/>
        </p:nvPicPr>
        <p:blipFill>
          <a:blip r:embed="rId1"/>
          <a:stretch/>
        </p:blipFill>
        <p:spPr>
          <a:xfrm>
            <a:off x="304920" y="3733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Documents and Settings\ZakemJ\Local Settings\Temporary Internet Files\Content.IE5\G5IJG9QZ\MPj04392970000[1].jpg"/>
          <p:cNvPicPr/>
          <p:nvPr/>
        </p:nvPicPr>
        <p:blipFill>
          <a:blip r:embed="rId2"/>
          <a:stretch/>
        </p:blipFill>
        <p:spPr>
          <a:xfrm>
            <a:off x="3352680" y="3429000"/>
            <a:ext cx="2286000" cy="3067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:\Documents and Settings\ZakemJ\Local Settings\Temporary Internet Files\Content.IE5\G5IJG9QZ\MPj04442520000[1].jpg"/>
          <p:cNvPicPr/>
          <p:nvPr/>
        </p:nvPicPr>
        <p:blipFill>
          <a:blip r:embed="rId3"/>
          <a:stretch/>
        </p:blipFill>
        <p:spPr>
          <a:xfrm>
            <a:off x="5867280" y="3962520"/>
            <a:ext cx="28908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 – Develop and Gr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get bigger and develop into a more complex be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Documents and Settings\ZakemJ\Local Settings\Temporary Internet Files\Content.IE5\OLQNSPQV\MPj04441630000[1].jpg"/>
          <p:cNvPicPr/>
          <p:nvPr/>
        </p:nvPicPr>
        <p:blipFill>
          <a:blip r:embed="rId1"/>
          <a:stretch/>
        </p:blipFill>
        <p:spPr>
          <a:xfrm>
            <a:off x="228600" y="3200400"/>
            <a:ext cx="1295280" cy="152388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5"/>
          <p:cNvCxnSpPr/>
          <p:nvPr/>
        </p:nvCxnSpPr>
        <p:spPr>
          <a:xfrm>
            <a:off x="152388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19" name="Picture 3" descr="C:\Documents and Settings\ZakemJ\Local Settings\Temporary Internet Files\Content.IE5\89A7CDEF\MPj04464860000[1].jpg"/>
          <p:cNvPicPr/>
          <p:nvPr/>
        </p:nvPicPr>
        <p:blipFill>
          <a:blip r:embed="rId2"/>
          <a:stretch/>
        </p:blipFill>
        <p:spPr>
          <a:xfrm>
            <a:off x="2590920" y="3276720"/>
            <a:ext cx="106668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0" name="Straight Arrow Connector 7"/>
          <p:cNvCxnSpPr/>
          <p:nvPr/>
        </p:nvCxnSpPr>
        <p:spPr>
          <a:xfrm>
            <a:off x="365760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1" name="Picture 5" descr="C:\Documents and Settings\ZakemJ\Local Settings\Temporary Internet Files\Content.IE5\GDIJKLMN\MPj04438980000[1].jpg"/>
          <p:cNvPicPr/>
          <p:nvPr/>
        </p:nvPicPr>
        <p:blipFill>
          <a:blip r:embed="rId3"/>
          <a:stretch/>
        </p:blipFill>
        <p:spPr>
          <a:xfrm>
            <a:off x="4648320" y="3276720"/>
            <a:ext cx="128412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10"/>
          <p:cNvCxnSpPr/>
          <p:nvPr/>
        </p:nvCxnSpPr>
        <p:spPr>
          <a:xfrm>
            <a:off x="6019560" y="396252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3" name="Picture 2" descr="C:\Documents and Settings\ZakemJ\Local Settings\Temporary Internet Files\Content.IE5\OLQNSPQV\MPj04464570000[1].jpg"/>
          <p:cNvPicPr/>
          <p:nvPr/>
        </p:nvPicPr>
        <p:blipFill>
          <a:blip r:embed="rId4"/>
          <a:stretch/>
        </p:blipFill>
        <p:spPr>
          <a:xfrm>
            <a:off x="7162920" y="3276720"/>
            <a:ext cx="1269720" cy="1676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ZakemJ\Local Settings\Temporary Internet Files\Content.IE5\89A7CDEF\MPj04426700000[1].jpg"/>
          <p:cNvPicPr/>
          <p:nvPr/>
        </p:nvPicPr>
        <p:blipFill>
          <a:blip r:embed="rId5"/>
          <a:stretch/>
        </p:blipFill>
        <p:spPr>
          <a:xfrm>
            <a:off x="228600" y="5181480"/>
            <a:ext cx="1066680" cy="1422360"/>
          </a:xfrm>
          <a:prstGeom prst="rect">
            <a:avLst/>
          </a:prstGeom>
          <a:ln w="0">
            <a:noFill/>
          </a:ln>
        </p:spPr>
      </p:pic>
      <p:cxnSp>
        <p:nvCxnSpPr>
          <p:cNvPr id="225" name="Straight Arrow Connector 11"/>
          <p:cNvCxnSpPr/>
          <p:nvPr/>
        </p:nvCxnSpPr>
        <p:spPr>
          <a:xfrm>
            <a:off x="1295280" y="57913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6" name="Picture 4" descr="C:\Documents and Settings\ZakemJ\Local Settings\Temporary Internet Files\Content.IE5\89A7CDEF\MPj04385240000[1].jpg"/>
          <p:cNvPicPr/>
          <p:nvPr/>
        </p:nvPicPr>
        <p:blipFill>
          <a:blip r:embed="rId6"/>
          <a:stretch/>
        </p:blipFill>
        <p:spPr>
          <a:xfrm>
            <a:off x="2286000" y="5181480"/>
            <a:ext cx="2133720" cy="1409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ZakemJ\Local Settings\Temporary Internet Files\Content.IE5\G5IJG9QZ\MPj04386010000[1].jpg"/>
          <p:cNvPicPr/>
          <p:nvPr/>
        </p:nvPicPr>
        <p:blipFill>
          <a:blip r:embed="rId7"/>
          <a:stretch/>
        </p:blipFill>
        <p:spPr>
          <a:xfrm>
            <a:off x="5486400" y="5181480"/>
            <a:ext cx="2209680" cy="1467000"/>
          </a:xfrm>
          <a:prstGeom prst="rect">
            <a:avLst/>
          </a:prstGeom>
          <a:ln w="0">
            <a:noFill/>
          </a:ln>
        </p:spPr>
      </p:pic>
      <p:cxnSp>
        <p:nvCxnSpPr>
          <p:cNvPr id="228" name="Straight Arrow Connector 15"/>
          <p:cNvCxnSpPr/>
          <p:nvPr/>
        </p:nvCxnSpPr>
        <p:spPr>
          <a:xfrm>
            <a:off x="4190760" y="594360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 – Energy /E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animal you get your energy from eat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plant you make your energy from a process called photosynth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C:\Documents and Settings\ZakemJ\Local Settings\Temporary Internet Files\Content.IE5\G5IJG9QZ\MPj04395760000[1].jpg"/>
          <p:cNvPicPr/>
          <p:nvPr/>
        </p:nvPicPr>
        <p:blipFill>
          <a:blip r:embed="rId1"/>
          <a:stretch/>
        </p:blipFill>
        <p:spPr>
          <a:xfrm>
            <a:off x="990720" y="3581280"/>
            <a:ext cx="2286000" cy="215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Documents and Settings\ZakemJ\Local Settings\Temporary Internet Files\Content.IE5\89A7CDEF\MPj04373010000[1].jpg"/>
          <p:cNvPicPr/>
          <p:nvPr/>
        </p:nvPicPr>
        <p:blipFill>
          <a:blip r:embed="rId2"/>
          <a:stretch/>
        </p:blipFill>
        <p:spPr>
          <a:xfrm>
            <a:off x="5943600" y="3733920"/>
            <a:ext cx="1781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produc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be able to make copies of yourself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2" descr="C:\Documents and Settings\ZakemJ\Local Settings\Temporary Internet Files\Content.IE5\89A7CDEF\MPj04477710000[1].jpg"/>
          <p:cNvPicPr/>
          <p:nvPr/>
        </p:nvPicPr>
        <p:blipFill>
          <a:blip r:embed="rId1"/>
          <a:stretch/>
        </p:blipFill>
        <p:spPr>
          <a:xfrm>
            <a:off x="609480" y="2590920"/>
            <a:ext cx="2845080" cy="1898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ZakemJ\Local Settings\Temporary Internet Files\Content.IE5\GDIJKLMN\MPj04464650000[1].jpg"/>
          <p:cNvPicPr/>
          <p:nvPr/>
        </p:nvPicPr>
        <p:blipFill>
          <a:blip r:embed="rId2"/>
          <a:stretch/>
        </p:blipFill>
        <p:spPr>
          <a:xfrm>
            <a:off x="3733920" y="2438280"/>
            <a:ext cx="2862000" cy="2318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Documents and Settings\ZakemJ\Local Settings\Temporary Internet Files\Content.IE5\G5IJG9QZ\MPj04465820000[1].jpg"/>
          <p:cNvPicPr/>
          <p:nvPr/>
        </p:nvPicPr>
        <p:blipFill>
          <a:blip r:embed="rId3"/>
          <a:stretch/>
        </p:blipFill>
        <p:spPr>
          <a:xfrm>
            <a:off x="6858000" y="2590920"/>
            <a:ext cx="1947960" cy="2514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ZakemJ\Local Settings\Temporary Internet Files\Content.IE5\89A7CDEF\MPj04478020000[1].jpg"/>
          <p:cNvPicPr/>
          <p:nvPr/>
        </p:nvPicPr>
        <p:blipFill>
          <a:blip r:embed="rId4"/>
          <a:stretch/>
        </p:blipFill>
        <p:spPr>
          <a:xfrm>
            <a:off x="685800" y="464832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+A – Adapt to Environmen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must be able to change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4" descr="C:\Documents and Settings\ZakemJ\Local Settings\Temporary Internet Files\Content.IE5\OLQNSPQV\MPj04442440000[1].jpg"/>
          <p:cNvPicPr/>
          <p:nvPr/>
        </p:nvPicPr>
        <p:blipFill>
          <a:blip r:embed="rId1"/>
          <a:stretch/>
        </p:blipFill>
        <p:spPr>
          <a:xfrm>
            <a:off x="3200400" y="3809880"/>
            <a:ext cx="1725480" cy="2584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Documents and Settings\ZakemJ\Local Settings\Temporary Internet Files\Content.IE5\89A7CDEF\MPj04438300000[1].jpg"/>
          <p:cNvPicPr/>
          <p:nvPr/>
        </p:nvPicPr>
        <p:blipFill>
          <a:blip r:embed="rId2"/>
          <a:stretch/>
        </p:blipFill>
        <p:spPr>
          <a:xfrm>
            <a:off x="5943600" y="3200400"/>
            <a:ext cx="2155680" cy="3230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:\Documents and Settings\ZakemJ\Local Settings\Temporary Internet Files\Content.IE5\GDIJKLMN\MPj03169020000[1].jpg"/>
          <p:cNvPicPr/>
          <p:nvPr/>
        </p:nvPicPr>
        <p:blipFill>
          <a:blip r:embed="rId3"/>
          <a:stretch/>
        </p:blipFill>
        <p:spPr>
          <a:xfrm>
            <a:off x="887400" y="3505320"/>
            <a:ext cx="2071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R +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be living you must be able to do all of these things by yourself. If you don’t do all those things you are not alive according to scienc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re the following things ALIV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C:\Documents and Settings\ZakemJ\Local Settings\Temporary Internet Files\Content.IE5\OLQNSPQV\MPj04392920000[1].jpg"/>
          <p:cNvPicPr/>
          <p:nvPr/>
        </p:nvPicPr>
        <p:blipFill>
          <a:blip r:embed="rId1"/>
          <a:stretch/>
        </p:blipFill>
        <p:spPr>
          <a:xfrm>
            <a:off x="762120" y="3276720"/>
            <a:ext cx="2476440" cy="1658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Documents and Settings\ZakemJ\Local Settings\Temporary Internet Files\Content.IE5\GDIJKLMN\MPj04425000000[1].jpg"/>
          <p:cNvPicPr/>
          <p:nvPr/>
        </p:nvPicPr>
        <p:blipFill>
          <a:blip r:embed="rId2"/>
          <a:stretch/>
        </p:blipFill>
        <p:spPr>
          <a:xfrm>
            <a:off x="3352680" y="32767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C:\Documents and Settings\ZakemJ\Local Settings\Temporary Internet Files\Content.IE5\G5IJG9QZ\MPj04439020000[1].jpg"/>
          <p:cNvPicPr/>
          <p:nvPr/>
        </p:nvPicPr>
        <p:blipFill>
          <a:blip r:embed="rId3"/>
          <a:stretch/>
        </p:blipFill>
        <p:spPr>
          <a:xfrm>
            <a:off x="6172200" y="3276720"/>
            <a:ext cx="2217600" cy="14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:\Documents and Settings\ZakemJ\Local Settings\Temporary Internet Files\Content.IE5\89A7CDEF\MPj04478830000[1].jpg"/>
          <p:cNvPicPr/>
          <p:nvPr/>
        </p:nvPicPr>
        <p:blipFill>
          <a:blip r:embed="rId4"/>
          <a:stretch/>
        </p:blipFill>
        <p:spPr>
          <a:xfrm>
            <a:off x="762120" y="502920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:\Documents and Settings\ZakemJ\Local Settings\Temporary Internet Files\Content.IE5\89A7CDEF\MPj04478070000[1].jpg"/>
          <p:cNvPicPr/>
          <p:nvPr/>
        </p:nvPicPr>
        <p:blipFill>
          <a:blip r:embed="rId5"/>
          <a:stretch/>
        </p:blipFill>
        <p:spPr>
          <a:xfrm>
            <a:off x="5791320" y="5105520"/>
            <a:ext cx="23144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ving vs. Non-Liv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523520"/>
            <a:ext cx="23623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ving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 can perform all of the activities of    ORDER +A at the current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n-Living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ad – you were once able to perform all the activities of ORDER+A but can not n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-Made – you were made by man and could never do ORDER+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ver Alive – you were made by nature and could never do ORDER+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3" descr="C:\Documents and Settings\ZakemJ\Local Settings\Temporary Internet Files\Content.IE5\OLQNSPQV\MPj04364260000[1].jpg"/>
          <p:cNvPicPr/>
          <p:nvPr/>
        </p:nvPicPr>
        <p:blipFill>
          <a:blip r:embed="rId1"/>
          <a:stretch/>
        </p:blipFill>
        <p:spPr>
          <a:xfrm>
            <a:off x="7467480" y="0"/>
            <a:ext cx="1487520" cy="1981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nts and Settings\ZakemJ\Local Settings\Temporary Internet Files\Content.IE5\G5IJG9QZ\MPj04387360000[1].jpg"/>
          <p:cNvPicPr/>
          <p:nvPr/>
        </p:nvPicPr>
        <p:blipFill>
          <a:blip r:embed="rId2"/>
          <a:stretch/>
        </p:blipFill>
        <p:spPr>
          <a:xfrm>
            <a:off x="3048120" y="2971800"/>
            <a:ext cx="2006640" cy="1504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Documents and Settings\ZakemJ\Local Settings\Temporary Internet Files\Content.IE5\89A7CDEF\MPj04477360000[1].jpg"/>
          <p:cNvPicPr/>
          <p:nvPr/>
        </p:nvPicPr>
        <p:blipFill>
          <a:blip r:embed="rId3"/>
          <a:stretch/>
        </p:blipFill>
        <p:spPr>
          <a:xfrm>
            <a:off x="3581280" y="4572000"/>
            <a:ext cx="152568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C:\Documents and Settings\ZakemJ\Local Settings\Temporary Internet Files\Content.IE5\89A7CDEF\MPj04464710000[1].jpg"/>
          <p:cNvPicPr/>
          <p:nvPr/>
        </p:nvPicPr>
        <p:blipFill>
          <a:blip r:embed="rId4"/>
          <a:stretch/>
        </p:blipFill>
        <p:spPr>
          <a:xfrm>
            <a:off x="68580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6:20:51Z</dcterms:created>
  <dc:creator>CCSD</dc:creator>
  <dc:description/>
  <cp:keywords>Characterisitcs of Life</cp:keywords>
  <dc:language>en-US</dc:language>
  <cp:lastModifiedBy>RomaK</cp:lastModifiedBy>
  <dcterms:modified xsi:type="dcterms:W3CDTF">2015-09-04T10:51:53Z</dcterms:modified>
  <cp:revision>16</cp:revision>
  <dc:subject>Characterisitcs of Life</dc:subject>
  <dc:title>Characterisitcs of Life</dc:title>
</cp:coreProperties>
</file>