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0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FBE65-C854-4033-9A69-5253F1031740}" type="slidenum">
              <a:rPr b="0" lang="en-GB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cientific Rules for being considered 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living things Ne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elter – a place to l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– whether they eat or make it themsel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– H2O without hydration you will di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– O2 whether you breath or get it out of water you will die without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– Organized by Cell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are made of one or mor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sponds to Stimul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react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– Develop and Gro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get bigger and develop into a more complex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– Energy /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animal you get your energy from eating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a living plant you make your energy from a process called photosynthe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Reproduc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have to be able to make copies of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A – Adapt to Environ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are living you must be able to change to the outside wor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 +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 living you must be able to do all of these things by yourself. If you don’t do all those things you are not alive according to scie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 the following things AL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vs. Non-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can perform all of the activities of    ORDER +A at the curren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Living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ad – you were once able to perform all the activities of ORDER+A but can not n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-Made – you were made by man and could never do ORDER+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Alive – you were made by nature and could never do ORDER+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DE55-B16A-4E5E-9A6F-508F529BE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A21-2F76-4BCB-B9CB-9B26278E1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3102-D840-460D-B0ED-F7C578113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17E9-E023-4BCC-97E3-5A311A852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9BB6-85B4-40FC-B670-7B20C0B04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B6FD5-9ABC-42C1-BDE9-9F5AE011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C86B-6C4F-47C5-B8E4-EA9BC471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0648C-9DAB-4834-AB61-2ABB8E175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141D5-C21D-4344-8DAE-4DC18BA8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0C170-DCFB-44D4-8A07-9F605F7F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1C3D-90AD-46A3-BB6E-8C019D45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40F7-721B-4F09-A990-C6D1195C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09816-E806-4FEB-8CD4-961E31C36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DA474-4C08-4266-843B-E3ECCDFE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8B249-0B01-40D5-830B-FA4AF4ED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2E40-7E20-4A60-B80C-707E237D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E921-10E0-41F4-B4AC-899DD4644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C0E29-2CCC-4F12-8B96-12B4FEBD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ED16-9DD5-40AB-B11E-4487266C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19DE9-1699-4920-82ED-82C211E89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B3F47-B680-4BF2-B376-C0CBD13E8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B699C-DA2D-44A4-8B48-32FBD816C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ACD8-1166-48E1-9335-9ED92E12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CBB5-D5EF-43DD-A33E-D8024961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80346-7D57-498D-A0A9-3531BA5E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2A651-5F84-4D59-AB2E-70AC91C0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43481-62AE-4720-87D1-7DCE956A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FFBCA-CD98-475C-869E-460A2D9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301A-0247-4226-B5EB-C82940E7A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655D-7934-4F88-8D7A-6BC8A04EE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E10A8-0203-4AC1-A9C4-873D3476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BCC8E-A4A3-4519-8570-377D84213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28CBA-C89E-4E9A-A364-72033DCD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A295-F766-4878-94E6-149ACB163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5A10A-49DA-45D2-BE9F-F0EDCB484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8E94-2BF4-4DFB-A693-2F11C092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975C9-D17C-437B-B565-B6DA68FD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384FE-C433-45D3-AA24-AD6FD44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C87CBB-8704-4153-83BA-55227F36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72F01-5AA8-489E-AC98-5F7C250D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0701-863E-480A-A9D9-AA7E053F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3B81D-1AE7-4F0B-8971-E56AE246E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510CA-1E92-4649-A661-F6DA07E4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1CC3-732F-46C9-831C-8DE74EC4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884-7C7D-478E-A59C-E626BDA3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4D8A-F81F-438A-A8FA-E2421845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BCFE-AD95-46EE-8FCD-862697A7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FC2-0269-479A-8F7F-316F1BE7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5DFB-713B-4CEE-9E62-0CD50F87B2F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ED5C-970D-4C97-B32F-0055B476FCB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59F7-BC5E-48E0-928C-E55FB17142E1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59A-FE32-47FC-9C9C-B0F90F503C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cientific Rules for being considered Living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522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ll living things Ne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helter – a place to live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od – whether they eat or make it themselv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ater – H2O without hydration you will di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ir – O2 whether you breath or get it out of water you will die without 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4" descr="C:\Documents and Settings\ZakemJ\Local Settings\Temporary Internet Files\Content.IE5\GDIJKLMN\MPj04437780000[1].jpg"/>
          <p:cNvPicPr/>
          <p:nvPr/>
        </p:nvPicPr>
        <p:blipFill>
          <a:blip r:embed="rId1"/>
          <a:stretch/>
        </p:blipFill>
        <p:spPr>
          <a:xfrm>
            <a:off x="5715000" y="1143000"/>
            <a:ext cx="1974960" cy="13222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C:\Documents and Settings\ZakemJ\Local Settings\Temporary Internet Files\Content.IE5\OLQNSPQV\MPj04226920000[1].jpg"/>
          <p:cNvPicPr/>
          <p:nvPr/>
        </p:nvPicPr>
        <p:blipFill>
          <a:blip r:embed="rId2"/>
          <a:stretch/>
        </p:blipFill>
        <p:spPr>
          <a:xfrm>
            <a:off x="7658280" y="1066680"/>
            <a:ext cx="1485720" cy="19814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8" descr="C:\Documents and Settings\ZakemJ\Local Settings\Temporary Internet Files\Content.IE5\G5IJG9QZ\MPj04442250000[1].jpg"/>
          <p:cNvPicPr/>
          <p:nvPr/>
        </p:nvPicPr>
        <p:blipFill>
          <a:blip r:embed="rId3"/>
          <a:stretch/>
        </p:blipFill>
        <p:spPr>
          <a:xfrm>
            <a:off x="457200" y="4267080"/>
            <a:ext cx="2895480" cy="19274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9" descr="C:\Documents and Settings\ZakemJ\Local Settings\Temporary Internet Files\Content.IE5\89A7CDEF\MPj04222740000[1].jpg"/>
          <p:cNvPicPr/>
          <p:nvPr/>
        </p:nvPicPr>
        <p:blipFill>
          <a:blip r:embed="rId4"/>
          <a:stretch/>
        </p:blipFill>
        <p:spPr>
          <a:xfrm>
            <a:off x="3733920" y="3962520"/>
            <a:ext cx="2590560" cy="2590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C:\Documents and Settings\ZakemJ\Local Settings\Temporary Internet Files\Content.IE5\G5IJG9QZ\MPj03876970000[1].jpg"/>
          <p:cNvPicPr/>
          <p:nvPr/>
        </p:nvPicPr>
        <p:blipFill>
          <a:blip r:embed="rId5"/>
          <a:stretch/>
        </p:blipFill>
        <p:spPr>
          <a:xfrm>
            <a:off x="6705720" y="4419720"/>
            <a:ext cx="205560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 – Organized by Cell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are made of one or more cells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3" descr="C:\Documents and Settings\ZakemJ\Local Settings\Temporary Internet Files\Content.IE5\GDIJKLMN\MPj04387380000[1].jpg"/>
          <p:cNvPicPr/>
          <p:nvPr/>
        </p:nvPicPr>
        <p:blipFill>
          <a:blip r:embed="rId1"/>
          <a:stretch/>
        </p:blipFill>
        <p:spPr>
          <a:xfrm>
            <a:off x="304920" y="2743200"/>
            <a:ext cx="2057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C:\Documents and Settings\ZakemJ\Local Settings\Temporary Internet Files\Content.IE5\89A7CDEF\MPj04331490000[1].jpg"/>
          <p:cNvPicPr/>
          <p:nvPr/>
        </p:nvPicPr>
        <p:blipFill>
          <a:blip r:embed="rId2"/>
          <a:stretch/>
        </p:blipFill>
        <p:spPr>
          <a:xfrm>
            <a:off x="3124080" y="3200400"/>
            <a:ext cx="2133720" cy="1422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ZakemJ\Local Settings\Temporary Internet Files\Content.IE5\89A7CDEF\MPj04330590000[1].jpg"/>
          <p:cNvPicPr/>
          <p:nvPr/>
        </p:nvPicPr>
        <p:blipFill>
          <a:blip r:embed="rId3"/>
          <a:stretch/>
        </p:blipFill>
        <p:spPr>
          <a:xfrm>
            <a:off x="6172200" y="2743200"/>
            <a:ext cx="2362320" cy="1735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8" descr="C:\Documents and Settings\ZakemJ\Local Settings\Temporary Internet Files\Content.IE5\OLQNSPQV\MPj04389220000[1].jpg"/>
          <p:cNvPicPr/>
          <p:nvPr/>
        </p:nvPicPr>
        <p:blipFill>
          <a:blip r:embed="rId4"/>
          <a:stretch/>
        </p:blipFill>
        <p:spPr>
          <a:xfrm>
            <a:off x="3352680" y="4724280"/>
            <a:ext cx="1830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sponds to Stimuli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react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3" descr="C:\Documents and Settings\ZakemJ\Local Settings\Temporary Internet Files\Content.IE5\89A7CDEF\MPj04243780000[1].jpg"/>
          <p:cNvPicPr/>
          <p:nvPr/>
        </p:nvPicPr>
        <p:blipFill>
          <a:blip r:embed="rId1"/>
          <a:stretch/>
        </p:blipFill>
        <p:spPr>
          <a:xfrm>
            <a:off x="304920" y="37339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C:\Documents and Settings\ZakemJ\Local Settings\Temporary Internet Files\Content.IE5\G5IJG9QZ\MPj04392970000[1].jpg"/>
          <p:cNvPicPr/>
          <p:nvPr/>
        </p:nvPicPr>
        <p:blipFill>
          <a:blip r:embed="rId2"/>
          <a:stretch/>
        </p:blipFill>
        <p:spPr>
          <a:xfrm>
            <a:off x="3352680" y="3429000"/>
            <a:ext cx="2286000" cy="306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C:\Documents and Settings\ZakemJ\Local Settings\Temporary Internet Files\Content.IE5\G5IJG9QZ\MPj04442520000[1].jpg"/>
          <p:cNvPicPr/>
          <p:nvPr/>
        </p:nvPicPr>
        <p:blipFill>
          <a:blip r:embed="rId3"/>
          <a:stretch/>
        </p:blipFill>
        <p:spPr>
          <a:xfrm>
            <a:off x="5867280" y="3962520"/>
            <a:ext cx="2890800" cy="19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 – Develop and Grow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get bigger and develop into a more complex being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ZakemJ\Local Settings\Temporary Internet Files\Content.IE5\OLQNSPQV\MPj04441630000[1].jpg"/>
          <p:cNvPicPr/>
          <p:nvPr/>
        </p:nvPicPr>
        <p:blipFill>
          <a:blip r:embed="rId1"/>
          <a:stretch/>
        </p:blipFill>
        <p:spPr>
          <a:xfrm>
            <a:off x="228600" y="3200400"/>
            <a:ext cx="1295280" cy="15238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5"/>
          <p:cNvCxnSpPr/>
          <p:nvPr/>
        </p:nvCxnSpPr>
        <p:spPr>
          <a:xfrm>
            <a:off x="152388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19" name="Picture 3" descr="C:\Documents and Settings\ZakemJ\Local Settings\Temporary Internet Files\Content.IE5\89A7CDEF\MPj04464860000[1].jpg"/>
          <p:cNvPicPr/>
          <p:nvPr/>
        </p:nvPicPr>
        <p:blipFill>
          <a:blip r:embed="rId2"/>
          <a:stretch/>
        </p:blipFill>
        <p:spPr>
          <a:xfrm>
            <a:off x="2590920" y="3276720"/>
            <a:ext cx="106668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0" name="Straight Arrow Connector 7"/>
          <p:cNvCxnSpPr/>
          <p:nvPr/>
        </p:nvCxnSpPr>
        <p:spPr>
          <a:xfrm>
            <a:off x="3657600" y="39625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1" name="Picture 5" descr="C:\Documents and Settings\ZakemJ\Local Settings\Temporary Internet Files\Content.IE5\GDIJKLMN\MPj04438980000[1].jpg"/>
          <p:cNvPicPr/>
          <p:nvPr/>
        </p:nvPicPr>
        <p:blipFill>
          <a:blip r:embed="rId3"/>
          <a:stretch/>
        </p:blipFill>
        <p:spPr>
          <a:xfrm>
            <a:off x="4648320" y="3276720"/>
            <a:ext cx="1284120" cy="1600200"/>
          </a:xfrm>
          <a:prstGeom prst="rect">
            <a:avLst/>
          </a:prstGeom>
          <a:ln w="0">
            <a:noFill/>
          </a:ln>
        </p:spPr>
      </p:pic>
      <p:cxnSp>
        <p:nvCxnSpPr>
          <p:cNvPr id="222" name="Straight Arrow Connector 10"/>
          <p:cNvCxnSpPr/>
          <p:nvPr/>
        </p:nvCxnSpPr>
        <p:spPr>
          <a:xfrm>
            <a:off x="6019560" y="396252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3" name="Picture 2" descr="C:\Documents and Settings\ZakemJ\Local Settings\Temporary Internet Files\Content.IE5\OLQNSPQV\MPj04464570000[1].jpg"/>
          <p:cNvPicPr/>
          <p:nvPr/>
        </p:nvPicPr>
        <p:blipFill>
          <a:blip r:embed="rId4"/>
          <a:stretch/>
        </p:blipFill>
        <p:spPr>
          <a:xfrm>
            <a:off x="7162920" y="3276720"/>
            <a:ext cx="1269720" cy="1676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3" descr="C:\Documents and Settings\ZakemJ\Local Settings\Temporary Internet Files\Content.IE5\89A7CDEF\MPj04426700000[1].jpg"/>
          <p:cNvPicPr/>
          <p:nvPr/>
        </p:nvPicPr>
        <p:blipFill>
          <a:blip r:embed="rId5"/>
          <a:stretch/>
        </p:blipFill>
        <p:spPr>
          <a:xfrm>
            <a:off x="228600" y="5181480"/>
            <a:ext cx="1066680" cy="1422360"/>
          </a:xfrm>
          <a:prstGeom prst="rect">
            <a:avLst/>
          </a:prstGeom>
          <a:ln w="0">
            <a:noFill/>
          </a:ln>
        </p:spPr>
      </p:pic>
      <p:cxnSp>
        <p:nvCxnSpPr>
          <p:cNvPr id="225" name="Straight Arrow Connector 11"/>
          <p:cNvCxnSpPr/>
          <p:nvPr/>
        </p:nvCxnSpPr>
        <p:spPr>
          <a:xfrm>
            <a:off x="1295280" y="5791320"/>
            <a:ext cx="99144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  <p:pic>
        <p:nvPicPr>
          <p:cNvPr id="226" name="Picture 4" descr="C:\Documents and Settings\ZakemJ\Local Settings\Temporary Internet Files\Content.IE5\89A7CDEF\MPj04385240000[1].jpg"/>
          <p:cNvPicPr/>
          <p:nvPr/>
        </p:nvPicPr>
        <p:blipFill>
          <a:blip r:embed="rId6"/>
          <a:stretch/>
        </p:blipFill>
        <p:spPr>
          <a:xfrm>
            <a:off x="2286000" y="5181480"/>
            <a:ext cx="2133720" cy="1409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ZakemJ\Local Settings\Temporary Internet Files\Content.IE5\G5IJG9QZ\MPj04386010000[1].jpg"/>
          <p:cNvPicPr/>
          <p:nvPr/>
        </p:nvPicPr>
        <p:blipFill>
          <a:blip r:embed="rId7"/>
          <a:stretch/>
        </p:blipFill>
        <p:spPr>
          <a:xfrm>
            <a:off x="5486400" y="5181480"/>
            <a:ext cx="2209680" cy="1467000"/>
          </a:xfrm>
          <a:prstGeom prst="rect">
            <a:avLst/>
          </a:prstGeom>
          <a:ln w="0">
            <a:noFill/>
          </a:ln>
        </p:spPr>
      </p:pic>
      <p:cxnSp>
        <p:nvCxnSpPr>
          <p:cNvPr id="228" name="Straight Arrow Connector 15"/>
          <p:cNvCxnSpPr/>
          <p:nvPr/>
        </p:nvCxnSpPr>
        <p:spPr>
          <a:xfrm>
            <a:off x="4190760" y="5943600"/>
            <a:ext cx="991080" cy="2160"/>
          </a:xfrm>
          <a:prstGeom prst="straightConnector1">
            <a:avLst/>
          </a:prstGeom>
          <a:ln w="25560">
            <a:solidFill>
              <a:srgbClr val="06509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 – Energy /E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animal you get your energy from eatin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f you are a living plant you make your energy from a process called photosynthe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Picture 2" descr="C:\Documents and Settings\ZakemJ\Local Settings\Temporary Internet Files\Content.IE5\G5IJG9QZ\MPj04395760000[1].jpg"/>
          <p:cNvPicPr/>
          <p:nvPr/>
        </p:nvPicPr>
        <p:blipFill>
          <a:blip r:embed="rId1"/>
          <a:stretch/>
        </p:blipFill>
        <p:spPr>
          <a:xfrm>
            <a:off x="990720" y="3581280"/>
            <a:ext cx="2286000" cy="215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C:\Documents and Settings\ZakemJ\Local Settings\Temporary Internet Files\Content.IE5\89A7CDEF\MPj04373010000[1].jpg"/>
          <p:cNvPicPr/>
          <p:nvPr/>
        </p:nvPicPr>
        <p:blipFill>
          <a:blip r:embed="rId2"/>
          <a:stretch/>
        </p:blipFill>
        <p:spPr>
          <a:xfrm>
            <a:off x="5943600" y="3733920"/>
            <a:ext cx="17812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 – Reproduc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have to be able to make copies of yourself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6" name="Picture 2" descr="C:\Documents and Settings\ZakemJ\Local Settings\Temporary Internet Files\Content.IE5\89A7CDEF\MPj04477710000[1].jpg"/>
          <p:cNvPicPr/>
          <p:nvPr/>
        </p:nvPicPr>
        <p:blipFill>
          <a:blip r:embed="rId1"/>
          <a:stretch/>
        </p:blipFill>
        <p:spPr>
          <a:xfrm>
            <a:off x="609480" y="2590920"/>
            <a:ext cx="2845080" cy="1898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C:\Documents and Settings\ZakemJ\Local Settings\Temporary Internet Files\Content.IE5\GDIJKLMN\MPj04464650000[1].jpg"/>
          <p:cNvPicPr/>
          <p:nvPr/>
        </p:nvPicPr>
        <p:blipFill>
          <a:blip r:embed="rId2"/>
          <a:stretch/>
        </p:blipFill>
        <p:spPr>
          <a:xfrm>
            <a:off x="3733920" y="2438280"/>
            <a:ext cx="2862000" cy="2318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C:\Documents and Settings\ZakemJ\Local Settings\Temporary Internet Files\Content.IE5\G5IJG9QZ\MPj04465820000[1].jpg"/>
          <p:cNvPicPr/>
          <p:nvPr/>
        </p:nvPicPr>
        <p:blipFill>
          <a:blip r:embed="rId3"/>
          <a:stretch/>
        </p:blipFill>
        <p:spPr>
          <a:xfrm>
            <a:off x="6858000" y="2590920"/>
            <a:ext cx="1947960" cy="25146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ZakemJ\Local Settings\Temporary Internet Files\Content.IE5\89A7CDEF\MPj04478020000[1].jpg"/>
          <p:cNvPicPr/>
          <p:nvPr/>
        </p:nvPicPr>
        <p:blipFill>
          <a:blip r:embed="rId4"/>
          <a:stretch/>
        </p:blipFill>
        <p:spPr>
          <a:xfrm>
            <a:off x="685800" y="4648320"/>
            <a:ext cx="274320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+A – Adapt to Environment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nstantia"/>
              </a:rPr>
              <a:t>If you are living you must be able to change to the outside worl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2" name="Picture 4" descr="C:\Documents and Settings\ZakemJ\Local Settings\Temporary Internet Files\Content.IE5\OLQNSPQV\MPj04442440000[1].jpg"/>
          <p:cNvPicPr/>
          <p:nvPr/>
        </p:nvPicPr>
        <p:blipFill>
          <a:blip r:embed="rId1"/>
          <a:stretch/>
        </p:blipFill>
        <p:spPr>
          <a:xfrm>
            <a:off x="3200400" y="3809880"/>
            <a:ext cx="1725480" cy="25844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Documents and Settings\ZakemJ\Local Settings\Temporary Internet Files\Content.IE5\89A7CDEF\MPj04438300000[1].jpg"/>
          <p:cNvPicPr/>
          <p:nvPr/>
        </p:nvPicPr>
        <p:blipFill>
          <a:blip r:embed="rId2"/>
          <a:stretch/>
        </p:blipFill>
        <p:spPr>
          <a:xfrm>
            <a:off x="5943600" y="3200400"/>
            <a:ext cx="2155680" cy="3230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ZakemJ\Local Settings\Temporary Internet Files\Content.IE5\GDIJKLMN\MPj03169020000[1].jpg"/>
          <p:cNvPicPr/>
          <p:nvPr/>
        </p:nvPicPr>
        <p:blipFill>
          <a:blip r:embed="rId3"/>
          <a:stretch/>
        </p:blipFill>
        <p:spPr>
          <a:xfrm>
            <a:off x="887400" y="3505320"/>
            <a:ext cx="20718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ORDER +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294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o be living you must be able to do all of these things by yourself. If you don’t do all those things you are not alive according to science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re the following things ALIV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C:\Documents and Settings\ZakemJ\Local Settings\Temporary Internet Files\Content.IE5\OLQNSPQV\MPj04392920000[1].jpg"/>
          <p:cNvPicPr/>
          <p:nvPr/>
        </p:nvPicPr>
        <p:blipFill>
          <a:blip r:embed="rId1"/>
          <a:stretch/>
        </p:blipFill>
        <p:spPr>
          <a:xfrm>
            <a:off x="762120" y="3276720"/>
            <a:ext cx="2476440" cy="16588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" descr="C:\Documents and Settings\ZakemJ\Local Settings\Temporary Internet Files\Content.IE5\GDIJKLMN\MPj04425000000[1].jpg"/>
          <p:cNvPicPr/>
          <p:nvPr/>
        </p:nvPicPr>
        <p:blipFill>
          <a:blip r:embed="rId2"/>
          <a:stretch/>
        </p:blipFill>
        <p:spPr>
          <a:xfrm>
            <a:off x="3352680" y="3276720"/>
            <a:ext cx="2514600" cy="16761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ZakemJ\Local Settings\Temporary Internet Files\Content.IE5\G5IJG9QZ\MPj04439020000[1].jpg"/>
          <p:cNvPicPr/>
          <p:nvPr/>
        </p:nvPicPr>
        <p:blipFill>
          <a:blip r:embed="rId3"/>
          <a:stretch/>
        </p:blipFill>
        <p:spPr>
          <a:xfrm>
            <a:off x="6172200" y="3276720"/>
            <a:ext cx="2217600" cy="1476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C:\Documents and Settings\ZakemJ\Local Settings\Temporary Internet Files\Content.IE5\89A7CDEF\MPj04478830000[1].jpg"/>
          <p:cNvPicPr/>
          <p:nvPr/>
        </p:nvPicPr>
        <p:blipFill>
          <a:blip r:embed="rId4"/>
          <a:stretch/>
        </p:blipFill>
        <p:spPr>
          <a:xfrm>
            <a:off x="762120" y="5029200"/>
            <a:ext cx="2463840" cy="1644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C:\Documents and Settings\ZakemJ\Local Settings\Temporary Internet Files\Content.IE5\89A7CDEF\MPj04478070000[1].jpg"/>
          <p:cNvPicPr/>
          <p:nvPr/>
        </p:nvPicPr>
        <p:blipFill>
          <a:blip r:embed="rId5"/>
          <a:stretch/>
        </p:blipFill>
        <p:spPr>
          <a:xfrm>
            <a:off x="5791320" y="5105520"/>
            <a:ext cx="2314440" cy="15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iving vs. Non-Living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523520"/>
            <a:ext cx="23623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ving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You can perform all of the activities of    ORDER +A at the current ti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n-Living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ad – you were once able to perform all the activities of ORDER+A but can not now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-Made – you were made by man and could never do ORDER+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1200" indent="-2311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ever Alive – you were made by nature and could never do ORDER+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3" descr="C:\Documents and Settings\ZakemJ\Local Settings\Temporary Internet Files\Content.IE5\OLQNSPQV\MPj04364260000[1].jpg"/>
          <p:cNvPicPr/>
          <p:nvPr/>
        </p:nvPicPr>
        <p:blipFill>
          <a:blip r:embed="rId1"/>
          <a:stretch/>
        </p:blipFill>
        <p:spPr>
          <a:xfrm>
            <a:off x="7467480" y="0"/>
            <a:ext cx="1487520" cy="198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C:\Documents and Settings\ZakemJ\Local Settings\Temporary Internet Files\Content.IE5\G5IJG9QZ\MPj04387360000[1].jpg"/>
          <p:cNvPicPr/>
          <p:nvPr/>
        </p:nvPicPr>
        <p:blipFill>
          <a:blip r:embed="rId2"/>
          <a:stretch/>
        </p:blipFill>
        <p:spPr>
          <a:xfrm>
            <a:off x="3048120" y="2971800"/>
            <a:ext cx="2006640" cy="15048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C:\Documents and Settings\ZakemJ\Local Settings\Temporary Internet Files\Content.IE5\89A7CDEF\MPj04477360000[1].jpg"/>
          <p:cNvPicPr/>
          <p:nvPr/>
        </p:nvPicPr>
        <p:blipFill>
          <a:blip r:embed="rId3"/>
          <a:stretch/>
        </p:blipFill>
        <p:spPr>
          <a:xfrm>
            <a:off x="3581280" y="4572000"/>
            <a:ext cx="152568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C:\Documents and Settings\ZakemJ\Local Settings\Temporary Internet Files\Content.IE5\89A7CDEF\MPj04464710000[1].jpg"/>
          <p:cNvPicPr/>
          <p:nvPr/>
        </p:nvPicPr>
        <p:blipFill>
          <a:blip r:embed="rId4"/>
          <a:stretch/>
        </p:blipFill>
        <p:spPr>
          <a:xfrm>
            <a:off x="685800" y="4952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16:20:51Z</dcterms:created>
  <dc:creator>CCSD</dc:creator>
  <dc:description/>
  <cp:keywords>Characterisitcs of Life</cp:keywords>
  <dc:language>en-US</dc:language>
  <cp:lastModifiedBy>RomaK</cp:lastModifiedBy>
  <dcterms:modified xsi:type="dcterms:W3CDTF">2015-09-04T10:51:53Z</dcterms:modified>
  <cp:revision>16</cp:revision>
  <dc:subject>Characterisitcs of Life</dc:subject>
  <dc:title>Characterisitcs of Life</dc:title>
</cp:coreProperties>
</file>