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2930-6671-4FF7-8BD0-0F45962C6D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421-F28B-4956-8AA1-560F8443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A798-22C5-4E03-A9DC-BA5C1AFA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AC4657-7DDC-455D-8F52-A32E7997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24EE33-9944-4F68-9A62-3E83240B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0D8DED-B5CC-4194-A8D2-EF2D5DFF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F8E4D8-9FD7-49EB-8612-EA21EFA7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4D9022-0D6C-4EB4-87BB-5ACFFCC9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646A9C-F065-4659-8B86-A330B7A2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B61ADA-4637-4BC0-ACE3-5DDB6055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0D8AFB-FD8C-4B89-9F11-91E30CBC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DFDC69-DA9E-44BF-B547-C70E031F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58AB1-C27C-42EB-BAC9-1C475621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6EF-1701-4E52-A651-30264F78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220EF-A934-4061-AFD3-E94C04C3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CC083-E00A-42AC-B9ED-FC73865B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28AA0-6D33-400B-9DD7-171E6EB2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6F0F0-218D-40A1-8E7F-C36C9374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38160-8757-4599-8262-2B863B72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B85FB-B82F-4249-8460-0E56A2A8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8799F-DD79-4DED-B8B3-22C2F0FD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31574-B73C-46C1-AF75-2E57BDBE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9CCBC-252C-41A7-BA49-2198BE5B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8CFB8-6F9B-4026-BE9E-60F40097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734-F18E-45E7-8F8B-114E73CD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AEB83-8287-404D-BAAE-21E225C9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DA8AB-5FB2-4CB0-97DE-073845E7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7006A-9EF7-4807-B184-69D39BBF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06398-A937-421E-B818-0AD39B2D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8FCE8-0A58-409A-8C15-7B5972A3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82F26-7E79-4102-8F6E-A836658A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FB972-A020-4DD4-B276-29498765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A14D2-8C2C-43B5-B7FC-27032E28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025BD-AB6F-4AAD-8FD3-32EAF01C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A3CA6-B967-4380-A922-24328E57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3A5C-0B59-4A54-A7C3-C5456DB2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19990-EE82-4482-B28B-59475D54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8465D-83F1-48D4-ADB9-65CD0CEF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F3956-F507-4573-90CE-4FD2496C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DFC66-DB9C-4269-B8B2-D5CA15BC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553B8-71A5-4CBB-895E-8A696B4F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AB3A0-D401-463F-B315-CD5F35AE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6540D-62BF-4A56-AA41-1D672FBD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D3AEB-3A88-48C6-8372-AC00D86D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DE74C-FB46-4637-A92D-82151AF5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A40B7-0EF3-4855-87B6-02751C4C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79DF-CD44-4536-9050-C8758EF9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07729-B01C-4EAA-828E-DC8D5AA5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4F1A3-A541-44BC-9B21-E73E0104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71B13-4CEA-4313-BA76-F863255E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5F642-00BB-49C5-B9DD-E66E35D4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DAD44-A0DC-416B-92DB-2DFD3435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11152-B5E8-4D80-BFD9-B42A75B0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A60CC-43C5-40E5-95D0-80EEF1FC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06052-1397-40B0-9C03-2B8C327F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76F58-9440-41FE-BB70-8E87C599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1FA32-7F7A-442C-8D35-3E57A4A8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DAA3-B5BD-42EE-BA98-228FE5EC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DFBA5-536D-4615-9217-29BCC831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541A8-D564-4B70-BD5B-F2693829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5AD18-32F2-49A1-963E-A24F0229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5A7AE-A492-486B-9688-3322DE3A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292F9-CD00-4D12-B8CA-C5C80206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40720-38E1-42E7-9163-5A67A42B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60330-D542-46B4-84C1-878FECF9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567B0B-F329-4986-8229-22041591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23BE1-3ED5-4D68-82EE-6058EFB2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958215-3BDF-4620-AD72-6E5804DE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96DB-883F-4D4F-BB97-98127553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24470-9A9F-4ECA-B712-A445D1E2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51988D-3BA2-422C-AEE5-57361A27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29153D-8CF0-4F25-AE3C-D27B023F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175B4-A30E-417D-A165-805F019B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7153FD-B50E-4B40-880F-84E5EADD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052314-342F-4556-8587-684E3A9A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EAF37C-CDB4-4392-8D4D-06B0722B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1B86C-1E72-490E-BCFC-A0B0F75F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D8439-3956-485E-B02E-48457B7F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2750B6-4F44-4172-B93D-D15B064A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25FF-1B50-4137-827C-9ED8C1CC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B6B54A-3BA2-4344-AEAB-308BE7EE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D173AB-FD27-4989-A170-0F3E5D59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92A8CF-43B9-4BFB-9907-B4B39D7A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4A42A0-5ECF-4AD3-B078-D59424A9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0D8B19-43C1-43FD-A80D-3AADE8D3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31C4E4-1F15-4DEA-BBF4-6F1FA833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37EA0-7A6D-4378-8400-3B9F51A1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F3DFA1-9221-4736-8017-589B5C7D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C079AC-79AA-4B5B-91A0-A8E1F057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24E0AB-9CEC-416B-A73A-81AB4DF3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50C2-C6D1-42D9-9DC2-BE3E3402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DDE92F-2D96-4FE5-8A4B-9172A5C1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C6D41C9-DAB2-4EB1-A67E-FEFAD045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E274216-1756-4016-B97B-A0E456FD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45773A-A74D-4F9B-9C1E-37E741DC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BE5EEE4-C795-4BA1-ABF0-6580C2BC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F67821F-6E75-4CAB-9C9C-61BBE563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BB36C81-829A-4DE6-ADF2-3A08D6E1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C05A91-2CAB-451E-BAFF-9FDEA1C7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FF617B-FDCA-477C-89C6-A42CAB48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AE2E8DE-69AA-4E6C-9A81-27E1EE93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D395-5F8B-44F7-82F5-2E9FF030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F0F277-0C45-4C3C-8FB1-B9352511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E4DBAD-653F-4D46-8CC6-71EEFD93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C47805-BD69-44EE-8DFC-07045E3B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0D26A9-27C5-4D58-A206-978ACA14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6DC1D2-3C71-49CC-947E-96A490D6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DF09B8-52A1-4797-8F47-67F23939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FC85C4-2E0F-4C9F-B725-FE1F53BC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FE7A7F-96D9-4278-9C7A-23A123AD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2997FA-35D4-49AF-97E7-8EC0FF6E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989E1-0459-49F3-B874-C05A99A7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153-0C1B-401A-AB08-85662100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63A9-7110-4070-92BC-CE2AAE4A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66F91D-158E-439A-BD99-107724B6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CFEC44-0DB5-411A-9E94-F7467ABC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78CCCD-BAF8-4560-915B-54E64B93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0AE5EF-0A22-4C42-BD9E-102AA3B0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869284-D345-49D8-8D1F-2FA4375A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C2E6-5458-4454-8FBE-A27148A4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A387-23A0-4294-8EA4-D354714A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DE3F-78BF-47AA-8923-65AF8085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93EA-17D6-443F-86C1-0D07BC3A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2A117-856E-4270-98C6-440350FC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F004B-0C31-4CFD-8806-24E665FC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29BDD-F247-4DEC-A9D3-FCBB1196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FB204-E639-4915-ACD1-CED3CC71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F4489-F985-46B0-9472-7CE20BB0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36DA-F980-4437-BE27-0879E8CA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F1147-2D43-40FC-BD35-1FFDE944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2A0EC-CA7C-4DAC-82CA-C98B6232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C61C7-7F03-413C-9CC3-CCF7A1D5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7D14C-8EF3-4F06-A907-A7B0AE85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CB923-8D5D-462A-AC11-FB89C90E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CC697-5148-4A37-9A31-D8181E0D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6DC08-CA4B-4537-AED4-A6A0019D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3001F-4C93-4705-B48B-E8EDA7DF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AD41E-317B-45F1-99D0-69BAB778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90D19-2349-49B8-A9E2-21B15CD7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99FB-DCDF-4BB9-AEA6-9E1E8C6B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456A6-49C9-4E3E-A3BD-5F367D51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A6620-E9CD-40D6-BE38-AC70A4EA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1C87E-1E62-43FA-A99D-B3C793F9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DD0FF-5EB3-4E9E-AFAC-9369BD8D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9974E-7824-4659-952D-15A46033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FF48E-DAB4-4E01-9236-5A199294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334FF-2B87-417C-8C38-D9798318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30FDF-66EB-48B5-96A4-A845EA3F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917CB-5156-42C4-9E0E-C77DC6B7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4367A-F41B-4526-861D-86064D88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B51-6EAD-4B5E-AB02-FB770D70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1FC99-E0DA-4F2F-9B2C-0EFEB5F5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DB806-A18B-4CF8-90DB-E8021C5E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9BF3D-7CA0-4DC5-9413-02B80072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C140E-69AB-4358-89D6-AEB91B44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5447E-085C-40C5-BBAF-DEFD93FB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7C3DB-5A1B-49C7-AD6C-F0B3F056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1987E-0E0F-446A-BE10-4819377C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B4495-CF1B-4BD6-9982-CF0F0F32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E3CD0-3B0F-4890-89E3-A2A6457B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82275-4E25-4941-A2FA-AA387024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7BD-7B95-4F9C-B2E0-66C0706B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2B6AF-2EBD-4299-9849-233AC14D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3F2F2-E8CA-4712-AC75-6753DE39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7C999-45EA-4315-B720-7B25E8B1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176FA-ABE4-4734-8FAB-B9749025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005DD-A5F6-4444-9928-206C7929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D16FB-4E64-4A47-900F-5AB9EE99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55211-E154-4BED-A1CB-A529073B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E11EF-3B54-410E-B9FD-8CB7015D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AC7AC-B735-48FD-A2F6-5CF34D37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3485B-152F-4F17-926A-0BFC0D16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AA0-72F4-4AED-B2EF-FBD4126C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3EFD3-83F0-4C44-9720-0B3CEC4F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F6173-279A-465E-A01A-104150AE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86FCF-B3B6-46D8-B527-E3BFF0C6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4A3C8-17ED-45A2-B067-E9E1A3AE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6BF92-A5E8-4238-BD5E-A5DCD393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079FE-4E61-4E2B-905B-84F0FEEA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5A6E4-5088-4DEB-84F1-0D495B86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61E32-2E80-4DD6-B426-4299412E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C04F9-8616-4E6C-BDD7-88C4BA68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B2D7B-DA87-4C3F-B0D0-4AA419B1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200-5249-4B89-A6E4-5E6B4FDF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63581-363C-4690-9917-737326FF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88AED-9674-4E26-835A-E11290D5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07EDF-A78A-4B3E-8100-32097387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26C7D-22D1-4E29-A9DB-E3060648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8AD78-5E83-4024-A7DF-F6A5E10E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DBF2C-4420-4D8A-9676-1F6F4862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B512B-FBAD-4A29-9E34-15547086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4A7C8-1829-4058-A9F4-72AA765A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255E0-E45C-4B63-8D39-1F8A938D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C2A98-7F71-4608-A5BE-2C0465AA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563-C5D5-44DB-956F-E7AD481B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F12E2-A132-4EB4-A197-725673BD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A3BF0-91BD-4033-A7FB-F896C552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BA7BA-E265-489F-91D1-15BD68DF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05B7B-9324-4859-9035-DD1121BA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66C2C-CB18-4C5D-8911-055231DC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7883E-DA42-4CBB-976A-D255B02C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9C34C-5F29-4B2D-89DE-0EA48E5A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0093A6-EF99-4CC8-BEA7-E76EEAF0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036ADB-E68B-4808-9605-A8F4A36B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E120F3-69B9-41A9-9EA6-532DBF19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94C1-0228-46E0-B7A7-E65DB480F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0194-AA82-41DE-99F7-F78A09ED6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7D57-209A-4DA2-BFF6-F9C50B859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6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7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7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8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9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9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0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A3FD-7835-45CE-ACDB-1758141BD5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4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84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5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85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931B-B328-4F23-B876-38085AFC74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3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222F-52D8-420E-AF6E-2B105FCEA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7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7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9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4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06EB-9707-4236-B03C-89369734A31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17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17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7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7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8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0B3C-7ABE-468B-BDE4-1D97AF926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3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3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3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5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854B-AD80-4B47-B5D1-938050738B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A1A1-82A9-4677-85A5-2509B6D98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5D0A-828F-4DC1-975D-907DAD3FA9C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8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5ED3-60B0-41DD-B61F-382EAA9E64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3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7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70D3-C2B1-4456-89FA-4E041D6A4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1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3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3F38-8854-4356-8007-E6AA5CA3D1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2C9E-9CFC-45D1-AD7D-E3F035A51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5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5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6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5BDB-EE02-4CFF-BCE0-FC8CBA709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E80E-B24E-4231-90F7-C5F181F5A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1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1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1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2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cteristics of Living Thin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entury Gothic"/>
              </a:rPr>
              <a:t>Living Things are made of units called cel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Bookman Old Style"/>
              </a:rPr>
              <a:t>Living Things reprod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ual reproduction- cells from 2 different parents unite to form the first cell of  the new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exual reproduction- new organism is formed from a single pa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Book Antiqua"/>
              </a:rPr>
              <a:t>Living things are based on a universal genetic code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anklin Gothic Medium"/>
              </a:rPr>
              <a:t>Living things grow and develo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ving things obtain and use materials and ener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1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c4d"/>
                </a:solidFill>
                <a:latin typeface="Century"/>
              </a:rPr>
              <a:t>Living things respond to their environment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Book Antiqua"/>
              </a:rPr>
              <a:t>Living things maintain a stable internal environmen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Sylfaen"/>
              </a:rPr>
              <a:t>Taken as a group, living things change over time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9:14:01Z</dcterms:created>
  <dc:creator>Don Little</dc:creator>
  <dc:description/>
  <dc:language>en-US</dc:language>
  <cp:lastModifiedBy>RomaK</cp:lastModifiedBy>
  <dcterms:modified xsi:type="dcterms:W3CDTF">2015-09-04T10:52:03Z</dcterms:modified>
  <cp:revision>6</cp:revision>
  <dc:subject/>
  <dc:title>Characteristics of Living Things</dc:title>
</cp:coreProperties>
</file>