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5305-EA75-485A-9612-5F5560A60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4CA-C3CD-4923-9B28-DC49CC8D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D48-D71D-47F1-A704-60E862C6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C6E08B-5757-40D8-8A77-B87222FC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66B5F4-F1DC-4C66-A489-F21D5A7A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5464A4-C72A-4888-B7D4-867537D0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47C150-8C54-4868-80E3-51234B77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8CEF68-C6C2-4792-B2A7-E9F8E92B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CDE152-0EE2-4CBC-94C1-AA10E045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EC4E78-F2F0-4B5A-96DE-A61AF146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238F4B-9BEA-4F3D-BC89-760ED29A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89CCE1-69F0-4769-B54A-8D39D129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7DF00-07C3-4773-9E4D-13E4A9E6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922-C70E-439A-9AEB-5CF63EFB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D1622-4AC0-46FC-9E91-E42B8C36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55939-A355-477A-85B4-FDEE27BF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160A6-5E62-42A1-9954-2BFC100F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0CA20-A863-42BB-ADD3-FB1B0125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9E042-30A0-46CB-BF77-B88CA55C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71BEB-BCDE-474F-81CA-FA3ED3D0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F0D2A-2D41-43AD-87AF-B7444935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DD994-A253-4459-883D-AE3FFD7C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05ED1-4840-433C-AD98-F50E69FB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63C65-6C82-402B-8CDE-12617D82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86D8-399C-42E6-B27A-87B26B91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7E788-C388-497F-9B09-0ADE3A68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91E06-85EE-418E-820F-AE6D1261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83B61-16C4-44E4-8B3A-6B6BCFD6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5E0F5-F1F2-41E0-878B-C60D3BC9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24A3C-51F8-4844-A9CF-BF498C10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CFBCB-80AE-49BC-9188-BD91838C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3CB12-0935-49E8-A20C-9FFCF966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E69A7-B00B-4491-8B48-4F1515D6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CBAF7-D724-45A0-BAD9-A4CA8259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67086-96A9-4E9D-A78C-1CE3A724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A619-CFFE-4F0E-9FB7-8BF4443C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FC1CC-2510-452D-81F3-86AA0583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64631-80B9-49DD-A797-FA87C73E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88C37-8067-4C09-81AA-A6E4E5B5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415B4-1A28-411B-AFB1-78EBDFEB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430C3-1EC6-44F9-AA65-01E64B27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30782-C6BF-4B32-9189-2E260766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1D93E-84D1-4F15-8BBC-37FCD3DA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6300F-1DE8-46FD-9392-F2222EF1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BEFD7-F348-4215-8D06-80C72AF0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C6857-2306-48E6-83EB-8DC00074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4432-D096-4326-927F-8AE1B3DF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5C5A7-48FA-4CAD-B3DB-C7D49FF7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DC71F-00A1-4984-B89E-4ED18FDF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ADACE-34D3-4700-B02C-13A2A24A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35217-1872-4316-A7EE-1636DCC3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30B90-C065-405D-9608-FB56BB4B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2465A-9E2A-444F-8CF7-27CC3002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2ED65-E98C-49F7-9C59-21F9DFB2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87423-9339-4C0F-8DB6-F5A4381E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99C25-A495-40BF-8BC2-6B28A455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2A949-B469-4D31-9852-7DA4A51D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ABFB-384B-4541-9359-0F319946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F110C-FB39-4036-BF73-2E099FBF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33314-D3F8-43A8-B998-648E9E7C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1B825E-A666-4206-963C-752AA55B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AB9DC-AB0B-44EA-84B9-41C4A582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F82E8-355C-4245-BF2E-CC50AD83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BE04F-4ED8-4EC5-962A-005C3D12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22088-76BE-4108-A459-D0BDA08F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E4F48-7A88-4B2F-A9B6-8F2C773C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E9A98-5AFE-4AD3-A560-E0E46AD0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ACD07-8DA5-442F-830E-1C49CFC9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2998-A8BE-4E63-B188-A59B8EF8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52E847-80A6-49BC-AE6D-388B1694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364AAC-67B4-4917-8FCC-E31FE847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AC607-8F81-42C6-A5B5-956B175F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08638-508C-4B62-9820-7129A2C9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D3D2F-ECA1-4CFF-8AA3-D3DA3710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648B3-BEBA-4918-BA5D-4FA1AE92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719D5-21E2-44C8-9DF6-AD5B224A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71031-BB7F-4FF7-825F-3D8AC405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28713-AD3D-4BE8-A340-E56D608D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3809D-E8A4-4A2D-BE62-3C7A9F53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1975-9B5E-4219-A757-4BE88C32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26219-562B-4904-95CD-B54CA807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5698CE-0F64-42B3-BC5C-5BB749D0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80F29E-C0CD-4625-9C02-B6626CB3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CEBA89-8069-4387-907C-03AC18E1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5971E-0FEF-4D36-9E9D-585A52B4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D97B4-B821-4CFF-B83B-43BFFCFD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D430E-1D60-4C2C-A162-292F40AF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9EBA8-8E2C-4932-8A87-53736A4C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4EF0AD-F69F-46BB-97D0-15C00808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0B2B0-0CAF-4967-A48E-1B214DA4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87F0-CD45-487D-B796-6F1298E6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16D08B-35ED-4A74-B776-D12200BD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5A2E7E-B48E-4833-8E15-061D9437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D2355A-A192-433B-98A8-0075149B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E50D35-BABD-4D6B-9C31-DC87D06C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DE5B4ED-7D02-4129-B403-A4DD4815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1D9378A-4001-4939-9489-9630FE7D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3B4A37-192E-4CB6-BED2-3459F789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9220C1F-05E9-4BE0-859F-7F6B802E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4859EE-31B6-4B51-8231-671CB6F5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C2DC53-E2BA-4CAC-A291-B7A96553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8105-4015-4875-9667-FACECD71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C1CD89-00E5-4159-93A3-0EBF46FF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E645D0-A31D-4000-95DC-FE8E5610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60CBE7-922C-4DD9-A164-D5169617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D4D7C6-5F3B-4327-9FDF-485032EA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890B35-259E-4D2F-90EB-EC96145A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6E4977-35FF-450F-A691-22BA24F5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EA477-8440-4F16-B0D8-B5CA4D50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02940F-C77D-43CA-AAEB-A334036E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B2594-1BB7-42AB-85CE-1F5753C0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BAB2E3-2BF0-4270-837B-1F029E0B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1D69-40B0-41D7-9F6E-C993E92F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3E7D-ECD1-4A7A-83E7-40FDFB12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819AEA-5794-4ABC-9F2D-82A176DF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2A07C3-4CE3-4970-93AD-CDDB5703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1D88F9-9FC6-440B-9BBE-B99562F9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4458FD-8855-4620-81E6-8447C245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4A90CF-0462-4D0D-8A62-222C5C2C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1AD9-4BD0-4A53-BD31-83877B93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E2BB-0EAF-43ED-A628-9E2BAA2C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FDD7-8868-4CB0-A890-002CAE7C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019A-6077-4E78-BC79-AF830F97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CD34-B5D0-401E-8958-1B871005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AA0C-9761-47C6-94B8-D8CF5248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1A29-0514-4D36-B6F2-7304FF9D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FAF26-E4E2-4E28-AFA5-42F0C48B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84C83-C93F-4593-892F-412B2C2D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D06-9DA7-40AA-A8DB-E29A9D69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B94B-0FA0-4BDE-9688-E90236A0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FB2C5-C559-43B7-A08E-C48AE1CA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7977D-212C-4487-AC57-969DB8BA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37CD9-989A-4A4F-B3DE-9BDBB65A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F8F5-9887-436C-B555-A2326595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6297E-4761-4DAC-9458-DF8FD63E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4DBCB-8153-4CDA-8E60-09A070B3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6D412-BAC4-4C9F-963A-9E79AF94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AE14B-1A53-486C-9E64-5B49E0BC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4E171-991F-4306-A40E-9B14E964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F65-B68A-4905-B97C-E0197D0C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59031-1919-4E99-907A-CDE22279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ED7F7-48FD-4381-AE0B-4D31E8D8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4AB7B-7064-4762-85BE-81FD1261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C0041-A494-4073-A266-26BC90A7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295AD-BABD-4A94-BA5B-EFD52F16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5724A-C818-48EA-B0A0-CE3A0FC7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6A1FE-712A-42D4-B397-6A4549F3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03BB9-4F0E-45A5-B172-4E9BE2B4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FFB94-AE9D-4DD6-B28C-8C501545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12988-F9E8-4B38-811D-83FED9CC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261-D7E0-4F37-BD7B-209B3C28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B3E99-53C8-4CCC-B265-DE1DAA8B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59019-5E8D-4C4C-843F-44EFF266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3C4D1-7D0F-4C51-A542-83A97E52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ED939-1D20-42E6-894B-1F8C2206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8E55E-AE15-40A8-977D-2AA985F6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CD3E0-B434-4AC0-9DFF-A2BFDBD4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1B7D8-65F3-4E87-BD3A-C9A54D35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D051B-D9C7-44BE-A3A7-6CB860CC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C6434-0D40-4E07-BE3F-0C7C5D4B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655B9-9274-4819-A56F-8D510AB8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7C1-1F9B-4E80-A3C7-C3DD883E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9F045-F86C-4DD5-B2B9-ED397EF1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53955-3B56-4810-BE3A-4F0618B8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7E3B0-9B57-4221-B2F5-0AE9F9F0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D773D-922F-4578-BB4D-92812A43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DE41D-8FD5-4343-B58B-6078A3D8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5C1E6-CBAF-4D2C-97F6-FBD9599A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A41F9-3D0A-4DE4-8842-BAEE8E2C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C0257-5264-4C95-AF53-5A013BD4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5D693-2540-45FC-BE5F-F2BB0BB4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AB322-791A-430E-85C4-5EAAC5CD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B0A-EFA2-4D80-BF43-6D603665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12456-2487-4CD5-AF31-8FA34E01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313DE-B753-4638-BA76-C9C243DF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CDB8C-2078-42DE-A37A-0FE3FBA9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2A3C0-0AD6-47F5-8F10-080C824C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9AE02-AAA5-4543-B00A-CF5A1906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68808-5222-41C5-8578-C30A4092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C51CC-2A7C-4B89-950B-AC29CE5D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85F6A-90B8-4315-8470-EEC4C961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F4A72-584A-4343-A3AC-C42DB889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ADE3A-55CC-418A-A9B5-85BFE1B4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63E-3BFB-4E38-8C63-2ED07CB1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52350-5F88-403C-9CCE-87E1F2DB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4A11A-5CEC-49CA-A67A-254E78A5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647AB-04CC-4C6C-A0BE-692484BD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D7080-0420-469C-89BA-6CA524FE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EDE49-C725-4EA2-A016-EF10AC31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C543A-F9BA-4C87-A66B-96B87F10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CD6DD-C226-4DBD-B9FA-D6A904F5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870EF-67E5-46C8-9358-D14AB1A6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6A6E4-B0FD-4570-9504-85E2BCC8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4767E-B098-462D-B948-5C1BA765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740-B136-46A1-B3D4-D1B0E74B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15F33-F33F-4D06-875C-5DCE51CF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E94F8-595F-4973-9897-3DC2400F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C06DA-99AE-4EE7-AF85-E29A0931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37B66-EDE7-469E-8D93-DF0740D1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3B2A4-0EC9-45CD-957C-3F1954B8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A0E00-3A34-4BD1-B1F2-83A55FD9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99A1F-23BF-4C3D-968F-54D792D6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D3DE68-19A3-4B7C-A2B3-3E262C94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E809F2-3191-4DD3-B430-B36D38E6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83E085-A430-4D01-8CEB-5197762F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ED3F-7ED7-4AE6-B69B-94E26309B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EE90-2EF9-4EED-9930-1B01B9A3F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F0D9-3F79-4AB7-9B92-A132AFFF7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6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7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7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8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9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9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0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168D-8B37-47AC-B9F4-7CB4CEB560C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4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4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5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5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30B0-B03A-46D2-8FE1-54DB0AAAF4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3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81CC-F15B-4F16-B63D-A74AC89B1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7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9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4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103F-A69F-4C6F-AE76-C926A86669B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7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7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7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7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BD25-8A61-41CF-A014-8B1EBB21B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3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3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5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A25D-E5F8-4BE9-9849-37A5FC5A7A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EA84-AA29-4E48-93DF-3433682E2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CD47-0CD8-424D-8D81-F56A0668BE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4313-A7A7-4BE4-B58A-1F06CAED6A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8416-C7D4-4C6B-A757-4A394DDC4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3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CB95-3572-400E-A505-25BE719386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CEC7-64D2-4A55-81F7-4CB30F182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6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6C30-191C-4321-8233-1A75F7BE3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EA25-9ECD-4F93-9FEB-1ECA38A1A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1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1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cteristics of Living Thin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entury Gothic"/>
              </a:rPr>
              <a:t>Living Things are made of units called cel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Bookman Old Style"/>
              </a:rPr>
              <a:t>Living Things reprod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ual reproduction- cells from 2 different parents unite to form the first cell of  the new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exual reproduction- new organism is formed from a single 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Book Antiqua"/>
              </a:rPr>
              <a:t>Living things are based on a universal genetic code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Medium"/>
              </a:rPr>
              <a:t>Living things grow and devel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ving things obtain and use materials and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c4d"/>
                </a:solidFill>
                <a:latin typeface="Century"/>
              </a:rPr>
              <a:t>Living things respond to their environment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Book Antiqua"/>
              </a:rPr>
              <a:t>Living things maintain a stable internal environme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Sylfaen"/>
              </a:rPr>
              <a:t>Taken as a group, living things change over time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9:14:01Z</dcterms:created>
  <dc:creator>Don Little</dc:creator>
  <dc:description/>
  <dc:language>en-US</dc:language>
  <cp:lastModifiedBy>RomaK</cp:lastModifiedBy>
  <dcterms:modified xsi:type="dcterms:W3CDTF">2015-09-04T10:52:03Z</dcterms:modified>
  <cp:revision>6</cp:revision>
  <dc:subject/>
  <dc:title>Characteristics of Living Things</dc:title>
</cp:coreProperties>
</file>