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A219-9C69-4DCF-9CB7-A37D24294F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C0D-79FB-4E1C-8A22-25F0A3F2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82B-E064-4DEF-AAE6-3D60EDF2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4EDC-7660-4536-9637-5964CF4A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E54A-1EE6-4292-86CB-C9B35A62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A631-F59C-4A37-8A26-5BBF318A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1B5C-A7A1-469B-A5F0-5B738541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1502-DFF4-4981-9769-6AF31705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59FE-AFCF-42FA-B9D6-57E8F02E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0F2F-8AB1-47B8-AE71-ED2FF9C3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339D-0730-462B-BA08-995D6F7B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A103-7EFA-4AD1-A34C-71D71EE8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7C2-D4EA-4E8F-BA0D-641715BF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B3EF-F9DD-4AFC-91EB-90705847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D26E-A2CC-47F1-9D28-3AD3673B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843E-8BD2-4823-BD66-9D34FDB8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124E-A5A4-4418-9BED-6D8485E5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9820-2E7E-44DF-B3C7-81AD34B4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521-F5DF-43C1-8CB8-4748F3A8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9A1-087B-4251-9CF1-3C00814E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BD4-FF27-4500-817B-E64A5A0A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9A0-7E0A-4432-BFA1-C6A2EB64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5586-D5E7-4FA2-9135-E8278414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950-588A-4837-9829-74996262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456-DE12-4011-8057-DC87A80C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D1EF-B635-49F5-A3CD-B6B940747E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E4DC-57C6-4255-BE28-1B1E93FAB409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0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7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1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63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7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0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5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9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2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5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RomaK</cp:lastModifiedBy>
  <dcterms:modified xsi:type="dcterms:W3CDTF">2015-09-04T10:41:22Z</dcterms:modified>
  <cp:revision>46</cp:revision>
  <dc:subject/>
  <dc:title>Slide 1</dc:title>
</cp:coreProperties>
</file>