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5911-C580-4CB5-8BCF-5784235D17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7E3-477D-4846-9889-8A715FD3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748-EC56-4697-979A-9460ABD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9DE-68E2-4493-B43B-005F140A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0EE-9EFE-4F88-A1BE-8FC11934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93FB-AB8D-4207-8858-738D34A8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2872-A6D7-470F-9A2E-1078620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3C9-597D-4490-86EA-9F55FB9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7003-1163-42FC-B50D-9553EACE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AB8A-4E2A-4AA3-A7C9-B774641D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6806-6B45-4D08-9FF7-50059EF9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C00D-7053-472C-B986-9E638AB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E02-AE7A-4E67-B848-1EF93D9F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3C32-7F27-461A-A133-51D72B0A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8A1F-8E82-45E0-8E27-ABE7AF3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4C9D-8611-4CEA-AA44-CE719834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C2C4-8CFC-4EDD-B9FC-D27CADA4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082F-FD25-47F2-B882-252B8A9D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CF0-0FC2-4697-9DCE-8A84DD92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9CB-FF7E-4E76-B890-BAECA84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45B-7DBE-4C7B-84EF-73AF7CF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63B-8836-4BE1-BA7B-4DB400D7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3DF-6450-4D74-97D8-67CB58C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7D0-9DE2-4B93-A37E-2A27F0C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328-DC61-417F-BC70-99E87E5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38F0-C6FE-4E5A-A622-46BB3209CA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CF4F-286F-40C1-B764-F6C5EF6C1FAF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0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7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1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63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0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5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9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2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5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RomaK</cp:lastModifiedBy>
  <dcterms:modified xsi:type="dcterms:W3CDTF">2015-09-04T10:41:22Z</dcterms:modified>
  <cp:revision>46</cp:revision>
  <dc:subject/>
  <dc:title>Slide 1</dc:title>
</cp:coreProperties>
</file>