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SPKGLISS.WAV" ContentType="audio/x-wav"/>
  <Override PartName="/ppt/media/image9.jpeg" ContentType="image/jpeg"/>
  <Override PartName="/ppt/media/image14.gif" ContentType="image/gif"/>
  <Override PartName="/ppt/media/image13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5.wmf" ContentType="image/x-wmf"/>
  <Override PartName="/ppt/media/image7.jpeg" ContentType="image/jpeg"/>
  <Override PartName="/ppt/media/image15.gif" ContentType="image/gif"/>
  <Override PartName="/ppt/media/image6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2880" y="696960"/>
            <a:ext cx="46400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P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469E04-CB7D-4C28-B225-C6C3EAA9680A}" type="slidenum"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108-5CC4-42A4-88EA-ED3D16D3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CE6-D0AE-46C0-A2E9-CAAA64FC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4E1-8DE0-400B-810B-0FB61981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D62-F416-487C-8B26-17DD4F09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716-2DBE-4E9A-A4B0-D2C44004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C17-6046-435F-A5CA-85B9593E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90C-C230-40EA-AAE9-CC21A2B9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FE4-CD8B-4694-8DFF-8957D58E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8CB3-A58B-45B1-8B36-FABAEE2F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69D-9ED9-4853-8482-8E6EB089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6FB-E4BA-48EE-95B2-7096C26D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F99-3A74-4AC4-B7EF-CE82F847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F669-FFAB-4A07-A31A-79F54E35697A}" type="slidenum">
              <a:rPr b="0" lang="es-P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endshow"/>
          </p:cNvPr>
          <p:cNvSpPr/>
          <p:nvPr/>
        </p:nvSpPr>
        <p:spPr>
          <a:xfrm>
            <a:off x="7467480" y="64771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400" spc="-1" strike="noStrike">
                <a:solidFill>
                  <a:srgbClr val="000000"/>
                </a:solidFill>
                <a:latin typeface="Times New Roman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>
            <a:hlinkClick r:id="" action="ppaction://hlinkshowjump?jump=previousslide"/>
          </p:cNvPr>
          <p:cNvSpPr/>
          <p:nvPr/>
        </p:nvSpPr>
        <p:spPr>
          <a:xfrm>
            <a:off x="5638680" y="64771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>
            <a:hlinkClick r:id="" action="ppaction://hlinkshowjump?jump=previousslide"/>
          </p:cNvPr>
          <p:cNvSpPr/>
          <p:nvPr/>
        </p:nvSpPr>
        <p:spPr>
          <a:xfrm>
            <a:off x="6248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SPKGLI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38080" y="3657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Biotecnología Marina y Administración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038480" y="4648320"/>
            <a:ext cx="4494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olanda Ramos S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rea Arias Gar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1143000" y="3049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cinto Universitario Maya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6858000" y="64771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59" h="21600">
                <a:moveTo>
                  <a:pt x="36173" y="3794"/>
                </a:moveTo>
                <a:lnTo>
                  <a:pt x="50186" y="10800"/>
                </a:lnTo>
                <a:lnTo>
                  <a:pt x="36173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estudiantes construyen su propio conoc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200400" y="64771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ci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418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ción de rú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37" descr="woman_teacher_blackboard_md_wht"/>
          <p:cNvPicPr/>
          <p:nvPr/>
        </p:nvPicPr>
        <p:blipFill>
          <a:blip r:embed="rId1"/>
          <a:stretch/>
        </p:blipFill>
        <p:spPr>
          <a:xfrm>
            <a:off x="5915160" y="3094200"/>
            <a:ext cx="2184120" cy="1823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act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j0288978"/>
          <p:cNvPicPr/>
          <p:nvPr/>
        </p:nvPicPr>
        <p:blipFill>
          <a:blip r:embed="rId1"/>
          <a:stretch/>
        </p:blipFill>
        <p:spPr>
          <a:xfrm>
            <a:off x="5345280" y="4334040"/>
            <a:ext cx="2643120" cy="13953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7565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arlie_reading_to_grandson_md_wht"/>
          <p:cNvPicPr/>
          <p:nvPr/>
        </p:nvPicPr>
        <p:blipFill>
          <a:blip r:embed="rId2"/>
          <a:stretch/>
        </p:blipFill>
        <p:spPr>
          <a:xfrm>
            <a:off x="6419880" y="2505240"/>
            <a:ext cx="2014560" cy="1630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SPKGLI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ias con los estudi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a22430"/>
          <p:cNvPicPr/>
          <p:nvPr/>
        </p:nvPicPr>
        <p:blipFill>
          <a:blip r:embed="rId1"/>
          <a:stretch/>
        </p:blipFill>
        <p:spPr>
          <a:xfrm>
            <a:off x="457200" y="1752480"/>
            <a:ext cx="2971800" cy="197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garfield gang"/>
          <p:cNvPicPr/>
          <p:nvPr/>
        </p:nvPicPr>
        <p:blipFill>
          <a:blip r:embed="rId2"/>
          <a:stretch/>
        </p:blipFill>
        <p:spPr>
          <a:xfrm>
            <a:off x="3505320" y="22096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00111716-002"/>
          <p:cNvPicPr/>
          <p:nvPr/>
        </p:nvPicPr>
        <p:blipFill>
          <a:blip r:embed="rId3"/>
          <a:stretch/>
        </p:blipFill>
        <p:spPr>
          <a:xfrm>
            <a:off x="6400800" y="3505320"/>
            <a:ext cx="212076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533520" y="3962520"/>
            <a:ext cx="487656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 encanta inv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 el día mas feliz de mi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creí que podí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dos nos vimos presntando todos pudimos wa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4" name="SPKGLI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200135310-004"/>
          <p:cNvPicPr/>
          <p:nvPr/>
        </p:nvPicPr>
        <p:blipFill>
          <a:blip r:embed="rId1"/>
          <a:stretch/>
        </p:blipFill>
        <p:spPr>
          <a:xfrm>
            <a:off x="2514600" y="1447920"/>
            <a:ext cx="2558880" cy="2590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j0278804"/>
          <p:cNvPicPr/>
          <p:nvPr/>
        </p:nvPicPr>
        <p:blipFill>
          <a:blip r:embed="rId1"/>
          <a:stretch/>
        </p:blipFill>
        <p:spPr>
          <a:xfrm>
            <a:off x="6670800" y="3863880"/>
            <a:ext cx="1211040" cy="1614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613560" y="133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graduation boy"/>
          <p:cNvPicPr/>
          <p:nvPr/>
        </p:nvPicPr>
        <p:blipFill>
          <a:blip r:embed="rId2"/>
          <a:stretch/>
        </p:blipFill>
        <p:spPr>
          <a:xfrm>
            <a:off x="7162920" y="22860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bkmchinese001-FFCC00"/>
          <p:cNvPicPr/>
          <p:nvPr/>
        </p:nvPicPr>
        <p:blipFill>
          <a:blip r:embed="rId3"/>
          <a:stretch/>
        </p:blipFill>
        <p:spPr>
          <a:xfrm>
            <a:off x="49528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4" name="SPKGLI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ubway"/>
              </a:rPr>
              <a:t>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g00052_"/>
          <p:cNvPicPr/>
          <p:nvPr/>
        </p:nvPicPr>
        <p:blipFill>
          <a:blip r:embed="rId1"/>
          <a:stretch/>
        </p:blipFill>
        <p:spPr>
          <a:xfrm>
            <a:off x="2438280" y="1752480"/>
            <a:ext cx="5105520" cy="3372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807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Zitzewitz Paul W., Ph.D. (2004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ísica Principios y Problema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Gómez de Orengo Nancy.(1997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Descubrimiento Ciencia Integrada 8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urphy, James, Zitzeruitz, Paul, Max, Hallon, James.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(1898).Física: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ciencia para todo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Rathj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Microsoft Corporation. (1993-2003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Enciclopedia Encarta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pullcart_library_book_open_md_wht"/>
          <p:cNvPicPr/>
          <p:nvPr/>
        </p:nvPicPr>
        <p:blipFill>
          <a:blip r:embed="rId1"/>
          <a:stretch/>
        </p:blipFill>
        <p:spPr>
          <a:xfrm>
            <a:off x="5830920" y="3486240"/>
            <a:ext cx="2519280" cy="226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tour_butterfly_hg"/>
          <p:cNvPicPr/>
          <p:nvPr/>
        </p:nvPicPr>
        <p:blipFill>
          <a:blip r:embed="rId1"/>
          <a:stretch/>
        </p:blipFill>
        <p:spPr>
          <a:xfrm>
            <a:off x="2824200" y="2293920"/>
            <a:ext cx="3495600" cy="31384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SPKGLI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 Ciencia y la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Biotecnología Marina y Administración de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tulo de la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Producción de Peces Comerciales a partir de la identificación de sus larvas mediante Bio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0176891"/>
          <p:cNvPicPr/>
          <p:nvPr/>
        </p:nvPicPr>
        <p:blipFill>
          <a:blip r:embed="rId1"/>
          <a:stretch/>
        </p:blipFill>
        <p:spPr>
          <a:xfrm>
            <a:off x="6324480" y="1752480"/>
            <a:ext cx="2316240" cy="3517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de la l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297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terminar la lección el estu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rán especies de peces en etapa haciendo us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encias de una porción de adn mitocondrial de larvas y adul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ran las secuencias para determiar cual larva corresponde al pez adu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rán en forma operacional los conceptos dna mitocondrial, pcr, secue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vivero ideal para la producción en masa de pe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plan o modelo comercial de la venta y producción de peces a gran esc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ejaran presupuesto y realizarán toma de deciciones al formar una nuev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organizadores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ñaran anuncios comer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afficcop_goleft_hw"/>
          <p:cNvPicPr/>
          <p:nvPr/>
        </p:nvPicPr>
        <p:blipFill>
          <a:blip r:embed="rId1"/>
          <a:stretch/>
        </p:blipFill>
        <p:spPr>
          <a:xfrm>
            <a:off x="4572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y Destre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Los procesos y destreza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Ob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definiciones oper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Uso de relaciones de espacio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Predi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Interpretación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 diversas fuentes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cion de 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l método 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o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jo en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ión so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de enseñ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ise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2:40:53Z</dcterms:created>
  <dc:creator>Yolanda Ramos, Elba Sepulveda y Rosa Olivencia</dc:creator>
  <dc:description/>
  <dc:language>en-US</dc:language>
  <cp:lastModifiedBy>RomaK</cp:lastModifiedBy>
  <dcterms:modified xsi:type="dcterms:W3CDTF">2015-09-04T10:41:28Z</dcterms:modified>
  <cp:revision>64</cp:revision>
  <dc:subject>Actividad de Logros</dc:subject>
  <dc:title>PlanesAlAC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5 febrero de 2005</vt:lpwstr>
  </property>
  <property fmtid="{D5CDD505-2E9C-101B-9397-08002B2CF9AE}" pid="3" name="Project">
    <vt:lpwstr>Plantilla de planes AlACiMa</vt:lpwstr>
  </property>
</Properties>
</file>