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650A-56D7-42BF-BF1E-1257DF84B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9437-0E63-4910-ABDC-46D68537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917-E312-4EF5-BA31-61F473EB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E7F-EF1A-4FAA-AF55-799BAA10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FA7-DEDB-400F-BC95-7DCC901C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45A6-855A-429D-BC12-4BDFAE45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DB1-02FF-4DCE-9914-E6618824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27CC-AEDB-4F53-8A4A-5E177200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143-E48D-4427-AC13-977F894B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0EA0-77D1-4A6B-9C90-FCF336A2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FEF-CFDB-4715-A7FD-F59FECDE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85BB-E9AF-4EE3-A947-F9E3C42D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F48-8AEF-4503-ADE4-C90123D4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3062-1BF2-49CE-82AA-C3F50601E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 rot="16201800">
            <a:off x="-2522880" y="3240720"/>
            <a:ext cx="52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Copyright </a:t>
            </a:r>
            <a:r>
              <a:rPr b="1" lang="en-US" sz="1000" spc="-1" strike="noStrike">
                <a:solidFill>
                  <a:srgbClr val="0000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 2002 by Harcourt College Publishers, a division of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:  What happens after ferti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Describe the process of fer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rm enters an ovum, and the nuclei combine to form one with 46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eventually form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orula"/>
          <p:cNvPicPr/>
          <p:nvPr/>
        </p:nvPicPr>
        <p:blipFill>
          <a:blip r:embed="rId1"/>
          <a:stretch/>
        </p:blipFill>
        <p:spPr>
          <a:xfrm>
            <a:off x="1981080" y="1523880"/>
            <a:ext cx="464832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it becomes a blas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rog10"/>
          <p:cNvPicPr/>
          <p:nvPr/>
        </p:nvPicPr>
        <p:blipFill>
          <a:blip r:embed="rId1"/>
          <a:stretch/>
        </p:blipFill>
        <p:spPr>
          <a:xfrm>
            <a:off x="1371600" y="1905120"/>
            <a:ext cx="6162840" cy="465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ext, a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gastrula"/>
          <p:cNvPicPr/>
          <p:nvPr/>
        </p:nvPicPr>
        <p:blipFill>
          <a:blip r:embed="rId1"/>
          <a:stretch/>
        </p:blipFill>
        <p:spPr>
          <a:xfrm>
            <a:off x="1523880" y="1738440"/>
            <a:ext cx="5486400" cy="495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ents Diagra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o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(fertilized ov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E0603018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109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:  What happens after cleavage beg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:  How does a single celled zygote become a gastr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ifferentiation (Organogene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genes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ormation of the organs (Organo = organs, genesis = crea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rises from the layering of cells that occurs during gastrula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yer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erm lay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; they have specific fates in the developing embryo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d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nermost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g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s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muscles, circulatory system, blood and many different org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tod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uter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on to form the skin and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astrula"/>
          <p:cNvPicPr/>
          <p:nvPr/>
        </p:nvPicPr>
        <p:blipFill>
          <a:blip r:embed="rId1"/>
          <a:stretch/>
        </p:blipFill>
        <p:spPr>
          <a:xfrm>
            <a:off x="1295280" y="1486080"/>
            <a:ext cx="5953320" cy="5371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 flipH="1">
            <a:off x="5333760" y="304812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H="1">
            <a:off x="4343400" y="1981080"/>
            <a:ext cx="3200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73915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of Primary Germ Layers (from the gastr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981080"/>
          <a:ext cx="7772400" cy="6064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le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estive trac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rmis of sk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, pancre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Human Developm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osis makes sperm in males and ovum in fem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rm and ovum unite nuclei to form a zyg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te undergoes cleavage and becomes gastrula with 3 germ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nd nourish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ur embryonic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rom the germ layers, but are not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embryo and are los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rion surrounds the entir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nion encloses the embryo and forms an open volume between the embryo &amp; the amnion called the amniot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niotic cavity fills with amniotic fluid, which envelops the embryo and cushion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niotic fluid can be sampled to test for developmental abnorma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ant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utgrowth of the g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nd birds, it stores nitrogenous w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lk 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s the yolk in vertebrates with yolk-rich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humans, there is no yolk sac, but the yolk aids in formation of red blood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: Four Major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ct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or its nucleus enter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becomes activated and develop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nuclei 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6781680" y="457200"/>
            <a:ext cx="175284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So49_14x"/>
          <p:cNvPicPr/>
          <p:nvPr/>
        </p:nvPicPr>
        <p:blipFill>
          <a:blip r:embed="rId1"/>
          <a:stretch/>
        </p:blipFill>
        <p:spPr>
          <a:xfrm>
            <a:off x="1600200" y="457200"/>
            <a:ext cx="5302080" cy="6400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92800" y="274680"/>
            <a:ext cx="403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Human Prenat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Times New Roman"/>
              </a:rPr>
              <a:t>Gestation lasts 266 days from fertilization to bir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</a:rPr>
              <a:t>Development begins in the ovi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About 24 hours after fertilization, the zygote has divided to form a 2-celled embr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passes down the oviduct by cilia and peristal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zona pellucida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has dissolved by the 5th day, when the embryo enters the ute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floats free for several days, nourished by fluids from glands in the uterine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At this point, it is called a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lastoc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embryo implants in the wall of the ute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 about the 7th da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477120" cy="427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-day Human 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9"/>
          <p:cNvGrpSpPr/>
          <p:nvPr/>
        </p:nvGrpSpPr>
        <p:grpSpPr>
          <a:xfrm>
            <a:off x="533520" y="1676520"/>
            <a:ext cx="8181720" cy="4616280"/>
            <a:chOff x="533520" y="1676520"/>
            <a:chExt cx="8181720" cy="4616280"/>
          </a:xfrm>
        </p:grpSpPr>
        <p:graphicFrame>
          <p:nvGraphicFramePr>
            <p:cNvPr id="112" name="Object 4"/>
            <p:cNvGraphicFramePr/>
            <p:nvPr/>
          </p:nvGraphicFramePr>
          <p:xfrm>
            <a:off x="533520" y="1676520"/>
            <a:ext cx="8181720" cy="46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676520"/>
                      <a:ext cx="8181720" cy="4616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4" name="Line 5"/>
            <p:cNvSpPr/>
            <p:nvPr/>
          </p:nvSpPr>
          <p:spPr>
            <a:xfrm>
              <a:off x="2362320" y="43434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6"/>
            <p:cNvSpPr/>
            <p:nvPr/>
          </p:nvSpPr>
          <p:spPr>
            <a:xfrm>
              <a:off x="2819520" y="297180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2743200" y="22096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is all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zygote_stages"/>
          <p:cNvPicPr/>
          <p:nvPr/>
        </p:nvPicPr>
        <p:blipFill>
          <a:blip r:embed="rId1"/>
          <a:stretch/>
        </p:blipFill>
        <p:spPr>
          <a:xfrm>
            <a:off x="1447920" y="1752480"/>
            <a:ext cx="5638680" cy="475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placenta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is the site of nutrient, gas, and wast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retes hormones that maintain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rophobla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cells release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human chorionic gonadotropin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(hCG) which signals the corpus luteum to enlarge and produce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placenta develops from the embryonic chorion and mater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teri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ic villi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are formed from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and project into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endometrium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f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umbilical co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, containing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wo umbilical arteries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ne umbilical vei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connects the embryo and the plac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9200" y="65520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1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So49_19x"/>
          <p:cNvPicPr/>
          <p:nvPr/>
        </p:nvPicPr>
        <p:blipFill>
          <a:blip r:embed="rId1"/>
          <a:srcRect l="0" t="9011" r="0" b="4727"/>
          <a:stretch/>
        </p:blipFill>
        <p:spPr>
          <a:xfrm>
            <a:off x="3200400" y="990720"/>
            <a:ext cx="5403960" cy="5562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2819160"/>
            <a:ext cx="2514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etus at Ten We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03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hysically join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gg cell (female gam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 of cell divisio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forming different kinds of cells from similar cells of the early 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organism in an early sta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lid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llow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hollow ball of cells with an “in pushing” and 3 layers (germ lay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01600" y="1600200"/>
            <a:ext cx="758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29" descr="1204_fertilization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clei Fus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zygoteedit"/>
          <p:cNvPicPr/>
          <p:nvPr/>
        </p:nvPicPr>
        <p:blipFill>
          <a:blip r:embed="rId1"/>
          <a:stretch/>
        </p:blipFill>
        <p:spPr>
          <a:xfrm>
            <a:off x="1676520" y="1676520"/>
            <a:ext cx="6933960" cy="485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345960"/>
            <a:ext cx="79948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the zygote, the study of which is known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bry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ment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zygote undergoes a series of mitotic cell divisions calle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ges of development are: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rtilized ovum (zygote)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2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4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8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Mo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Blast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Early Gast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Late Gastr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divide via mitosis) forms the 2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cell"/>
          <p:cNvPicPr/>
          <p:nvPr/>
        </p:nvPicPr>
        <p:blipFill>
          <a:blip r:embed="rId1"/>
          <a:stretch/>
        </p:blipFill>
        <p:spPr>
          <a:xfrm>
            <a:off x="1523880" y="1714680"/>
            <a:ext cx="6172200" cy="51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plit again to form the 4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embryos.jpg (9821 bytes)"/>
          <p:cNvPicPr/>
          <p:nvPr/>
        </p:nvPicPr>
        <p:blipFill>
          <a:blip r:embed="rId1"/>
          <a:stretch/>
        </p:blipFill>
        <p:spPr>
          <a:xfrm>
            <a:off x="1523880" y="1758960"/>
            <a:ext cx="5715000" cy="454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gain to form the 8 cell st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8cell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22:35:07Z</dcterms:created>
  <dc:creator>F. Essig</dc:creator>
  <dc:description/>
  <dc:language>en-US</dc:language>
  <cp:lastModifiedBy>RomaK</cp:lastModifiedBy>
  <cp:lastPrinted>2001-04-20T17:23:54Z</cp:lastPrinted>
  <dcterms:modified xsi:type="dcterms:W3CDTF">2015-09-04T10:41:36Z</dcterms:modified>
  <cp:revision>257</cp:revision>
  <dc:subject/>
  <dc:title>development</dc:title>
</cp:coreProperties>
</file>