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772C-2945-492E-B541-D457C2C74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ABBB-BBB9-4668-AF35-E60EE3E3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0F56-D244-4EDD-91C6-D7844A4E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A72D-62A6-49E6-B122-5F66CEC0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2366-4178-44BF-A0E9-FA1683355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9684-5651-4751-B4A4-5060E7CB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ABC7-83B6-4D00-B8E1-E7ACF5A3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25A6-C3B8-4A16-B015-68DC0B53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F33A-B90E-455D-8F46-ED65EFCB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8B55-92EA-4F81-831B-0FE112F9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D275-546E-4166-9475-B1299FBA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5909-A234-45B9-B9F5-5FAD8BAF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75EB-EF27-404B-85B0-951A2565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2E50-52D2-4A83-A610-98798C1FE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 rot="16201800">
            <a:off x="-2522880" y="3240720"/>
            <a:ext cx="52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Copyright </a:t>
            </a:r>
            <a:r>
              <a:rPr b="1" lang="en-US" sz="1000" spc="-1" strike="noStrike">
                <a:solidFill>
                  <a:srgbClr val="000066"/>
                </a:solidFill>
                <a:latin typeface="Symbol"/>
                <a:ea typeface="Symbol"/>
              </a:rPr>
              <a:t></a:t>
            </a: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 2002 by Harcourt College Publishers, a division of Thomson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:  What happens after fertiliz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Describe the process of fertiliz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perm enters an ovum, and the nuclei combine to form one with 46 chrom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eventually form 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morula"/>
          <p:cNvPicPr/>
          <p:nvPr/>
        </p:nvPicPr>
        <p:blipFill>
          <a:blip r:embed="rId1"/>
          <a:stretch/>
        </p:blipFill>
        <p:spPr>
          <a:xfrm>
            <a:off x="1981080" y="1523880"/>
            <a:ext cx="4648320" cy="533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it becomes a blast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frog10"/>
          <p:cNvPicPr/>
          <p:nvPr/>
        </p:nvPicPr>
        <p:blipFill>
          <a:blip r:embed="rId1"/>
          <a:stretch/>
        </p:blipFill>
        <p:spPr>
          <a:xfrm>
            <a:off x="1371600" y="1905120"/>
            <a:ext cx="6162840" cy="465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next, a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gastrula"/>
          <p:cNvPicPr/>
          <p:nvPr/>
        </p:nvPicPr>
        <p:blipFill>
          <a:blip r:embed="rId1"/>
          <a:stretch/>
        </p:blipFill>
        <p:spPr>
          <a:xfrm>
            <a:off x="1523880" y="1738440"/>
            <a:ext cx="5486400" cy="495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gents Diagra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ov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ygote (fertilized ov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LE0603018"/>
          <p:cNvPicPr/>
          <p:nvPr/>
        </p:nvPicPr>
        <p:blipFill>
          <a:blip r:embed="rId1"/>
          <a:stretch/>
        </p:blipFill>
        <p:spPr>
          <a:xfrm>
            <a:off x="609480" y="1523880"/>
            <a:ext cx="7696440" cy="109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:  What happens after cleavage begi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:  How does a single celled zygote become a gastru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Differentiation (Organogenes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Organogenesi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formation of the organs (Organo = organs, genesis = creation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Arises from the layering of cells that occurs during gastrula st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The layers ar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germ layer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; they have specific fates in the developing embryo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nd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nermost lay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g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s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midd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muscles, circulatory system, blood and many different org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ctode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uterm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s on to form the skin and nervous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gastrula"/>
          <p:cNvPicPr/>
          <p:nvPr/>
        </p:nvPicPr>
        <p:blipFill>
          <a:blip r:embed="rId1"/>
          <a:stretch/>
        </p:blipFill>
        <p:spPr>
          <a:xfrm>
            <a:off x="1295280" y="1486080"/>
            <a:ext cx="5953320" cy="5371920"/>
          </a:xfrm>
          <a:prstGeom prst="rect">
            <a:avLst/>
          </a:prstGeom>
          <a:ln w="0">
            <a:noFill/>
          </a:ln>
        </p:spPr>
      </p:pic>
      <p:sp>
        <p:nvSpPr>
          <p:cNvPr id="90" name="Line 9"/>
          <p:cNvSpPr/>
          <p:nvPr/>
        </p:nvSpPr>
        <p:spPr>
          <a:xfrm flipH="1">
            <a:off x="5333760" y="3048120"/>
            <a:ext cx="243828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754380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 flipH="1">
            <a:off x="4343400" y="1981080"/>
            <a:ext cx="32004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739152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914400" y="289548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ion of Primary Germ Layers (from the gastrul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1981080"/>
          <a:ext cx="7772400" cy="60642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t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vous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let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estive trac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rmis of ski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cl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ir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l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, pancre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ad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dd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Human Developmen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iosis makes sperm in males and ovum in fem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rm and ovum unite nuclei to form a zyg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ygote undergoes cleavage and becomes gastrula with 3 germ 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and nourish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four embryonic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from the germ layers, but are not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embryo and are lost at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or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m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orion surrounds the entire embr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nion encloses the embryo and forms an open volume between the embryo &amp; the amnion called the amniotic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niotic cavity fills with amniotic fluid, which envelops the embryo and cushion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mniotic fluid can be sampled to test for developmental abnorma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ant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outgrowth of the g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tiles and birds, it stores nitrogenous wa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lk s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s the yolk in vertebrates with yolk-rich eg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humans, there is no yolk sac, but the yolk aids in formation of red blood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: Four Major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contact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or its nucleus enter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becomes activated and developmen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egg nuclei f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6781680" y="457200"/>
            <a:ext cx="175284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So49_14x"/>
          <p:cNvPicPr/>
          <p:nvPr/>
        </p:nvPicPr>
        <p:blipFill>
          <a:blip r:embed="rId1"/>
          <a:stretch/>
        </p:blipFill>
        <p:spPr>
          <a:xfrm>
            <a:off x="1600200" y="457200"/>
            <a:ext cx="5302080" cy="6400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92800" y="274680"/>
            <a:ext cx="403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  <a:ea typeface="Times New Roman"/>
              </a:rPr>
              <a:t>Human Prenatal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Times New Roman"/>
              </a:rPr>
              <a:t>Gestation lasts 266 days from fertilization to birt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</a:rPr>
              <a:t>Development begins in the ovidu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About 24 hours after fertilization, the zygote has divided to form a 2-celled embry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passes down the oviduct by cilia and peristal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0080"/>
                </a:solidFill>
                <a:latin typeface="Arial"/>
              </a:rPr>
              <a:t>zona pellucida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 has dissolved by the 5th day, when the embryo enters the uter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floats free for several days, nourished by fluids from glands in the uterine w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50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At this point, it is called a </a:t>
            </a:r>
            <a:r>
              <a:rPr b="0" i="1" lang="en-US" sz="2200" spc="-1" strike="noStrike">
                <a:solidFill>
                  <a:srgbClr val="000080"/>
                </a:solidFill>
                <a:latin typeface="Arial"/>
              </a:rPr>
              <a:t>blastocy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a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9250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embryo implants in the wall of the ute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n about the 7th day o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477120" cy="427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-day Human Embry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9"/>
          <p:cNvGrpSpPr/>
          <p:nvPr/>
        </p:nvGrpSpPr>
        <p:grpSpPr>
          <a:xfrm>
            <a:off x="533520" y="1676520"/>
            <a:ext cx="8181720" cy="4616280"/>
            <a:chOff x="533520" y="1676520"/>
            <a:chExt cx="8181720" cy="4616280"/>
          </a:xfrm>
        </p:grpSpPr>
        <p:graphicFrame>
          <p:nvGraphicFramePr>
            <p:cNvPr id="112" name="Object 4"/>
            <p:cNvGraphicFramePr/>
            <p:nvPr/>
          </p:nvGraphicFramePr>
          <p:xfrm>
            <a:off x="533520" y="1676520"/>
            <a:ext cx="8181720" cy="461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676520"/>
                      <a:ext cx="8181720" cy="46162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4" name="Line 5"/>
            <p:cNvSpPr/>
            <p:nvPr/>
          </p:nvSpPr>
          <p:spPr>
            <a:xfrm>
              <a:off x="2362320" y="43434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6"/>
            <p:cNvSpPr/>
            <p:nvPr/>
          </p:nvSpPr>
          <p:spPr>
            <a:xfrm>
              <a:off x="2819520" y="2971800"/>
              <a:ext cx="99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>
              <a:off x="2743200" y="2209680"/>
              <a:ext cx="243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this all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zygote_stages"/>
          <p:cNvPicPr/>
          <p:nvPr/>
        </p:nvPicPr>
        <p:blipFill>
          <a:blip r:embed="rId1"/>
          <a:stretch/>
        </p:blipFill>
        <p:spPr>
          <a:xfrm>
            <a:off x="1447920" y="1752480"/>
            <a:ext cx="5638680" cy="475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placenta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is the site of nutrient, gas, and waste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retes hormones that maintain pregn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Trophoblast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cells release </a:t>
            </a: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human chorionic gonadotropin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(hCG) which signals the corpus luteum to enlarge and produce proge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placenta develops from the embryonic chorion and mater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uterin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ic villi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are formed from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, and project into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endometrium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of the ute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umbilical cord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, containing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wo umbilical arteries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and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one umbilical vei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connects the embryo and the placen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9200" y="655200"/>
            <a:ext cx="806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858000" cy="414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So49_19x"/>
          <p:cNvPicPr/>
          <p:nvPr/>
        </p:nvPicPr>
        <p:blipFill>
          <a:blip r:embed="rId1"/>
          <a:srcRect l="0" t="9011" r="0" b="4727"/>
          <a:stretch/>
        </p:blipFill>
        <p:spPr>
          <a:xfrm>
            <a:off x="3200400" y="990720"/>
            <a:ext cx="5403960" cy="5562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2819160"/>
            <a:ext cx="2514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Fetus at Ten Wee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03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s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hysically join toge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gg cell (female gam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rocess of cell division during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process of forming different kinds of cells from similar cells of the early embr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bry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n organism in an early stage of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solid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ollow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hollow ball of cells with an “in pushing” and 3 layers (germ lay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01600" y="1600200"/>
            <a:ext cx="758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29" descr="1204_fertilization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uclei Fuse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zygoteedit"/>
          <p:cNvPicPr/>
          <p:nvPr/>
        </p:nvPicPr>
        <p:blipFill>
          <a:blip r:embed="rId1"/>
          <a:stretch/>
        </p:blipFill>
        <p:spPr>
          <a:xfrm>
            <a:off x="1676520" y="1676520"/>
            <a:ext cx="6933960" cy="485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3560" y="345960"/>
            <a:ext cx="7994880" cy="10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happens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the zygote, the study of which is known as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mbry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evelopment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zygote undergoes a series of mitotic cell divisions called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ages of development are: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rtilized ovum (zygote)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2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4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8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Mo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Blast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Early Gast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Late Gastr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vage (divide via mitosis) forms the 2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cell"/>
          <p:cNvPicPr/>
          <p:nvPr/>
        </p:nvPicPr>
        <p:blipFill>
          <a:blip r:embed="rId1"/>
          <a:stretch/>
        </p:blipFill>
        <p:spPr>
          <a:xfrm>
            <a:off x="1523880" y="1714680"/>
            <a:ext cx="6172200" cy="514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split again to form the 4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embryos.jpg (9821 bytes)"/>
          <p:cNvPicPr/>
          <p:nvPr/>
        </p:nvPicPr>
        <p:blipFill>
          <a:blip r:embed="rId1"/>
          <a:stretch/>
        </p:blipFill>
        <p:spPr>
          <a:xfrm>
            <a:off x="1523880" y="1758960"/>
            <a:ext cx="5715000" cy="454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gain to form the 8 cell sta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8cell"/>
          <p:cNvPicPr/>
          <p:nvPr/>
        </p:nvPicPr>
        <p:blipFill>
          <a:blip r:embed="rId1"/>
          <a:stretch/>
        </p:blipFill>
        <p:spPr>
          <a:xfrm>
            <a:off x="1752480" y="19051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22:35:07Z</dcterms:created>
  <dc:creator>F. Essig</dc:creator>
  <dc:description/>
  <dc:language>en-US</dc:language>
  <cp:lastModifiedBy>RomaK</cp:lastModifiedBy>
  <cp:lastPrinted>2001-04-20T17:23:54Z</cp:lastPrinted>
  <dcterms:modified xsi:type="dcterms:W3CDTF">2015-09-04T10:41:36Z</dcterms:modified>
  <cp:revision>257</cp:revision>
  <dc:subject/>
  <dc:title>development</dc:title>
</cp:coreProperties>
</file>