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DA61-7004-4B2F-B860-7E75B3407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fertiliz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Describe the process of ferti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rm enters an ovum, and the nuclei combine to form one with 46 chromos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fertiliz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Describe the process of fert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rm enters an ovum, and the nuclei combine to form one with 46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ventually form a Mo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ventually form a Mo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it becomes a 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it becomes a 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ext, a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next, a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ents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(fertilized ov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ents Diagram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(fertilized ovu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cleavage beg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How does a single celled zygote become a gastr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cleavage begi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How does a single celled zygote become a gastrul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(Organogene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ogenesis is the formation of the organs (Organo = organs, genesis = cre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es from the layering of cells that occurs during gastrula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yers are germ layers; they have specific fates in the developing embry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nermost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muscles, circulatory system, blood and many different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m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skin and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(Organogen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ogenesis is the formation of the organs (Organo = organs, genesis = cre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es from the layering of cells that occurs during gastrula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yers are germ layers; they have specific fates in the developing embryo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nermost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g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mid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muscles, circulatory system, blood and many different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m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skin and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ate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of Primary Germ Layers (from the gastrul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of Primary Germ Layers (from the gastrul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uman Development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makes sperm in males and ovum in fe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 unite nuclei to form a 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undergoes cleavage and becomes gastrula with 3 germ l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uman Development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makes sperm in males and ovum in fe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 unite nuclei to form a zyg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undergoes cleavage and becomes gastrula with 3 germ 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and nourish th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four 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from the germ layers, but are not part of the embryo and are lost at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and amnion enclose th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surrounds the entir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n encloses the embryo and forms an open volume between the embryo &amp; the amnion called the amniotic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cavity fills with amniotic fluid, which envelops the embryo and cushion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fluid can be sampled to test for developmental abnormal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antois is an outgrowth of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ptiles and birds, it stores nitrogenous wa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olk sac encloses the yolk in vertebrates with yolk-rich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, there is no yolk sac, but the yolk aids in formation of red blood ce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and nourish th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four 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from the germ layers, but are not part of the embryo and are lost at bi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and amnion enclose th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surrounds the entir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n encloses the embryo and forms an open volume between the embryo &amp; the amnion called the amniotic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cavity fills with amniotic fluid, which envelops the embryo and cushion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fluid can be sampled to test for developmental abnormali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antois is an outgrowth of the g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ptiles and birds, it stores nitrogenous wa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olk sac encloses the yolk in vertebrates with yolk-rich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, there is no yolk sac, but the yolk aids in formation of red blood ce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: Four Major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contacts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or its nucleus enters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becomes activated and development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egg nuclei 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: Four Major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contacts the 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or its nucleus enters the 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becomes activated and development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egg nuclei f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ra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renatal 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lasts 266 days from fertilization to bi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begins in the ovi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4 hours after fertilization, the zygote has divided to form a 2-celled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passes down the oviduct by cilia and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ona pellucida has dissolved by the 5th day, when the embryo enters the ut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floats free for several days, nourished by fluids from glands in the uterine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it is called a blastocy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renatal Develop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lasts 266 days from fertilization to bi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begins in the ovi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4 hours after fertilization, the zygote has divided to form a 2-celled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passes down the oviduct by cilia and peristal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ona pellucida has dissolved by the 5th day, when the embryo enters the 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floats free for several days, nourished by fluids from glands in the uterine 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it is called a blastocy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an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implants in the wall of the uterus on about the 7th day of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ant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implants in the wall of the uterus on about the 7th day of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-day Human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-day Human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is all take pl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is all take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is the site of nutrient, gas, and waste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s hormones that maintain pregn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hoblast cells release human chorionic gonadotropin (hCG) which signals the corpus luteum to enlarge and produce 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develops from the embryonic chorion and maternal uterin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ionic villi are formed from the chorion, and project into the endometrium of the ut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mbilical cord, containing two umbilical arteries and one umbilical vein connects the embryo and the placen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is the site of nutrient, gas, and waste ex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s hormones that maintain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hoblast cells release human chorionic gonadotropin (hCG) which signals the corpus luteum to enlarge and produce progester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develops from the embryonic chorion and maternal uterine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ionic villi are formed from the chorion, and project into the endometrium of the 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mbilical cord, containing two umbilical arteries and one umbilical vein connects the embryo and the place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Plac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velopment of the 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Fetus at Ten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Fetus at Ten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k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- to physically join toge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um – egg cell (female gam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– process of cell division during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– the process of forming different kinds of cells from similar cells of the early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 – an organism in an early stage of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 – solid ball of cells formed from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 – hollow ball of cells formed from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 – a hollow ball of cells with an “in pushing” and 3 layers (germ lay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know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- to physically join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um – egg cell (female game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– process of cell division during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– the process of forming different kinds of cells from similar cells of the early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 – an organism in an early stage of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 – solid ball of cells formed from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 – hollow ball of cells formed from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 – a hollow ball of cells with an “in pushing” and 3 layers (germ lay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i Fuse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uclei Fuse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zygote, the study of which is known as embryology or developmental bi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ygote undergoes a series of mitotic cell divisions called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development are:  Fertilized ovum (zygote)  2-cell stage  4-cell stage  8-cell stage  Morula  Blastula  Early Gastrula  Late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zygote, the study of which is known as embryology or developmental biolog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ygote undergoes a series of mitotic cell divisions called cleav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development are:  Fertilized ovum (zygote)  2-cell stage  4-cell stage  8-cell stage  Morula  Blastula  Early Gastrula  Late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(divide via mitosis) forms the 2 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(divide via mitosis) forms the 2 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plit again to form the 4 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plit again to form the 4 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 to form the 8 cell stag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 to form the 8 cell stag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7834-9546-446F-9039-2B901787C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40E5-6200-47D5-A69A-5262EBEF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AB38-0355-45DA-B4C0-8BCFF25E4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9112-65CD-46F0-B63C-B58C4CC86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2E91-8AB2-42FC-A33B-395E2F5C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B265-282F-4C3D-A1DF-1D096E3F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AD2C-E021-4D37-8FD2-1C1FEF72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1D0E-DEA4-4C36-9A44-152B6EEA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BD9C-572F-42D0-99FD-DB732E4E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A3E8-2DFB-4ED4-A1FB-4F8A2645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EA27-8245-4552-B220-2A23BBF3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55D4-A869-4442-A173-0ACF3BE2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BBF6-2876-4F27-943D-A9D306D12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 rot="16201800">
            <a:off x="-2522880" y="3240720"/>
            <a:ext cx="52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ahoma"/>
              </a:rPr>
              <a:t>Copyright </a:t>
            </a:r>
            <a:r>
              <a:rPr b="1" lang="en-US" sz="1000" spc="-1" strike="noStrike">
                <a:solidFill>
                  <a:srgbClr val="000066"/>
                </a:solidFill>
                <a:latin typeface="Symbol"/>
                <a:ea typeface="Symbol"/>
              </a:rPr>
              <a:t></a:t>
            </a:r>
            <a:r>
              <a:rPr b="1" lang="en-US" sz="1000" spc="-1" strike="noStrike">
                <a:solidFill>
                  <a:srgbClr val="000066"/>
                </a:solidFill>
                <a:latin typeface="Tahoma"/>
              </a:rPr>
              <a:t> 2002 by Harcourt College Publishers, a division of Thomson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m:  What happens after fertiliz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Describe the process of fertiliz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perm enters an ovum, and the nuclei combine to form one with 46 chromos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eventually form a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morula"/>
          <p:cNvPicPr/>
          <p:nvPr/>
        </p:nvPicPr>
        <p:blipFill>
          <a:blip r:embed="rId1"/>
          <a:stretch/>
        </p:blipFill>
        <p:spPr>
          <a:xfrm>
            <a:off x="1981080" y="1523880"/>
            <a:ext cx="4648320" cy="533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it becomes a blast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frog10"/>
          <p:cNvPicPr/>
          <p:nvPr/>
        </p:nvPicPr>
        <p:blipFill>
          <a:blip r:embed="rId1"/>
          <a:stretch/>
        </p:blipFill>
        <p:spPr>
          <a:xfrm>
            <a:off x="1371600" y="1905120"/>
            <a:ext cx="6162840" cy="4655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next, a gast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gastrula"/>
          <p:cNvPicPr/>
          <p:nvPr/>
        </p:nvPicPr>
        <p:blipFill>
          <a:blip r:embed="rId1"/>
          <a:stretch/>
        </p:blipFill>
        <p:spPr>
          <a:xfrm>
            <a:off x="1523880" y="1738440"/>
            <a:ext cx="5486400" cy="495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gents Diagra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ov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ygote (fertilized ov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cel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-cel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st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tr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LE0603018"/>
          <p:cNvPicPr/>
          <p:nvPr/>
        </p:nvPicPr>
        <p:blipFill>
          <a:blip r:embed="rId1"/>
          <a:stretch/>
        </p:blipFill>
        <p:spPr>
          <a:xfrm>
            <a:off x="609480" y="1523880"/>
            <a:ext cx="7696440" cy="109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m:  What happens after cleavage begi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:  How does a single celled zygote become a gastru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Differentiation (Organogenesi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Organogenesi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formation of the organs (Organo = organs, genesis = creation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Arises from the layering of cells that occurs during gastrula sta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The layers are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germ layer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; they have specific fates in the developing embryo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ndode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nermost lay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oes on to form the g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esode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midd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oes on to form the muscles, circulatory system, blood and many different org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ctoder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uterm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s on to form the skin and nervous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 Gast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gastrula"/>
          <p:cNvPicPr/>
          <p:nvPr/>
        </p:nvPicPr>
        <p:blipFill>
          <a:blip r:embed="rId1"/>
          <a:stretch/>
        </p:blipFill>
        <p:spPr>
          <a:xfrm>
            <a:off x="1295280" y="1486080"/>
            <a:ext cx="5953320" cy="5371920"/>
          </a:xfrm>
          <a:prstGeom prst="rect">
            <a:avLst/>
          </a:prstGeom>
          <a:ln w="0">
            <a:noFill/>
          </a:ln>
        </p:spPr>
      </p:pic>
      <p:sp>
        <p:nvSpPr>
          <p:cNvPr id="90" name="Line 9"/>
          <p:cNvSpPr/>
          <p:nvPr/>
        </p:nvSpPr>
        <p:spPr>
          <a:xfrm flipH="1">
            <a:off x="5333760" y="3048120"/>
            <a:ext cx="243828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754380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1"/>
          <p:cNvSpPr/>
          <p:nvPr/>
        </p:nvSpPr>
        <p:spPr>
          <a:xfrm flipH="1">
            <a:off x="4343400" y="1981080"/>
            <a:ext cx="320040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7391520" y="1523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3"/>
          <p:cNvSpPr/>
          <p:nvPr/>
        </p:nvSpPr>
        <p:spPr>
          <a:xfrm>
            <a:off x="914400" y="289548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iation of Primary Germ Layers (from the gastrul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5800" y="1981080"/>
          <a:ext cx="7772400" cy="60642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t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rvous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eleto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estive trac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dermis of ski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cl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iratory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ulatory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r, pancre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nad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dde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Human Development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iosis makes sperm in males and ovum in fem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rm and ovum unite nuclei to form a zyg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ygote undergoes cleavage and becomes gastrula with 3 germ lay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0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yonic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 and nourish the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four embryonic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from the germ layers, but are not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embryo and are lost at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or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mn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lose the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orion surrounds the entire embr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nion encloses the embryo and forms an open volume between the embryo &amp; the amnion called the amniotic 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niotic cavity fills with amniotic fluid, which envelops the embryo and cushion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mniotic fluid can be sampled to test for developmental abnormal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ant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outgrowth of the g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tiles and birds, it stores nitrogenous wa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lk s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loses the yolk in vertebrates with yolk-rich eg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humans, there is no yolk sac, but the yolk aids in formation of red blood c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: Four Major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contacts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or its nucleus enters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 becomes activated and developmen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egg nuclei f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6781680" y="457200"/>
            <a:ext cx="175284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So49_14x"/>
          <p:cNvPicPr/>
          <p:nvPr/>
        </p:nvPicPr>
        <p:blipFill>
          <a:blip r:embed="rId1"/>
          <a:stretch/>
        </p:blipFill>
        <p:spPr>
          <a:xfrm>
            <a:off x="1600200" y="457200"/>
            <a:ext cx="5302080" cy="64008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92800" y="274680"/>
            <a:ext cx="4032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embryonic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  <a:ea typeface="Times New Roman"/>
              </a:rPr>
              <a:t>Human Prenatal Develop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74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80"/>
                </a:solidFill>
                <a:latin typeface="Arial"/>
                <a:ea typeface="Times New Roman"/>
              </a:rPr>
              <a:t>Gestation lasts 266 days from fertilization to birth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74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80"/>
                </a:solidFill>
                <a:latin typeface="Arial"/>
              </a:rPr>
              <a:t>Development begins in the oviduc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About 24 hours after fertilization, the zygote has divided to form a 2-celled embry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embryo passes down the oviduct by cilia and peristal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0080"/>
                </a:solidFill>
                <a:latin typeface="Arial"/>
              </a:rPr>
              <a:t>zona pellucida</a:t>
            </a: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 has dissolved by the 5th day, when the embryo enters the uter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embryo floats free for several days, nourished by fluids from glands in the uterine w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50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At this point, it is called a </a:t>
            </a:r>
            <a:r>
              <a:rPr b="0" i="1" lang="en-US" sz="2200" spc="-1" strike="noStrike">
                <a:solidFill>
                  <a:srgbClr val="000080"/>
                </a:solidFill>
                <a:latin typeface="Arial"/>
              </a:rPr>
              <a:t>blastocy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ant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92504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he embryo implants in the wall of the ute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on about the 7th day of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477120" cy="427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-day Human Embry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9"/>
          <p:cNvGrpSpPr/>
          <p:nvPr/>
        </p:nvGrpSpPr>
        <p:grpSpPr>
          <a:xfrm>
            <a:off x="533520" y="1676520"/>
            <a:ext cx="8181720" cy="4616280"/>
            <a:chOff x="533520" y="1676520"/>
            <a:chExt cx="8181720" cy="4616280"/>
          </a:xfrm>
        </p:grpSpPr>
        <p:graphicFrame>
          <p:nvGraphicFramePr>
            <p:cNvPr id="112" name="Object 4"/>
            <p:cNvGraphicFramePr/>
            <p:nvPr/>
          </p:nvGraphicFramePr>
          <p:xfrm>
            <a:off x="533520" y="1676520"/>
            <a:ext cx="8181720" cy="4616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1676520"/>
                      <a:ext cx="8181720" cy="46162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4" name="Line 5"/>
            <p:cNvSpPr/>
            <p:nvPr/>
          </p:nvSpPr>
          <p:spPr>
            <a:xfrm>
              <a:off x="2362320" y="43434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6"/>
            <p:cNvSpPr/>
            <p:nvPr/>
          </p:nvSpPr>
          <p:spPr>
            <a:xfrm>
              <a:off x="2819520" y="2971800"/>
              <a:ext cx="99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7"/>
            <p:cNvSpPr/>
            <p:nvPr/>
          </p:nvSpPr>
          <p:spPr>
            <a:xfrm>
              <a:off x="2743200" y="2209680"/>
              <a:ext cx="2438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oes this all take pl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zygote_stages"/>
          <p:cNvPicPr/>
          <p:nvPr/>
        </p:nvPicPr>
        <p:blipFill>
          <a:blip r:embed="rId1"/>
          <a:stretch/>
        </p:blipFill>
        <p:spPr>
          <a:xfrm>
            <a:off x="1447920" y="1752480"/>
            <a:ext cx="5638680" cy="4759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c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placenta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is the site of nutrient, gas, and waste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retes hormones that maintain pregn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Trophoblast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cells release </a:t>
            </a: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human chorionic gonadotropin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(hCG) which signals the corpus luteum to enlarge and produce progeste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e placenta develops from the embryonic chorion and mater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uterin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Chorionic villi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are formed from 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chorion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, and project into 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endometrium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of the ute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umbilical cord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, containing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two umbilical arteries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and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one umbilical vein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connects the embryo and the placen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9200" y="655200"/>
            <a:ext cx="806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of the Plac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858000" cy="414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So49_19x"/>
          <p:cNvPicPr/>
          <p:nvPr/>
        </p:nvPicPr>
        <p:blipFill>
          <a:blip r:embed="rId1"/>
          <a:srcRect l="0" t="9011" r="0" b="4727"/>
          <a:stretch/>
        </p:blipFill>
        <p:spPr>
          <a:xfrm>
            <a:off x="3200400" y="990720"/>
            <a:ext cx="5403960" cy="5562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2819160"/>
            <a:ext cx="2514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Fetus at Ten Wee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03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to k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se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physically join toge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egg cell (female game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eav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rocess of cell division during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ti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process of forming different kinds of cells from similar cells of the early embr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bry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n organism in an early stage of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solid ball of cells formed from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ast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hollow ball of cells formed from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str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hollow ball of cells with an “in pushing” and 3 layers (germ lay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01600" y="1600200"/>
            <a:ext cx="758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29" descr="1204_fertilization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97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uclei Fuse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zygoteedit"/>
          <p:cNvPicPr/>
          <p:nvPr/>
        </p:nvPicPr>
        <p:blipFill>
          <a:blip r:embed="rId1"/>
          <a:stretch/>
        </p:blipFill>
        <p:spPr>
          <a:xfrm>
            <a:off x="1676520" y="1676520"/>
            <a:ext cx="6933960" cy="485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3560" y="345960"/>
            <a:ext cx="7994880" cy="10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happens now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the zygote, the study of which is known as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mbryolog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development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zygote undergoes a series of mitotic cell divisions called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leava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ages of development are: 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rtilized ovum (zygote)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2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4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8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Mor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Blast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Early Gastr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Late Gastr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eavage (divide via mitosis) forms the 2 cel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2cell"/>
          <p:cNvPicPr/>
          <p:nvPr/>
        </p:nvPicPr>
        <p:blipFill>
          <a:blip r:embed="rId1"/>
          <a:stretch/>
        </p:blipFill>
        <p:spPr>
          <a:xfrm>
            <a:off x="1523880" y="1714680"/>
            <a:ext cx="6172200" cy="514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split again to form the 4 cel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embryos.jpg (9821 bytes)"/>
          <p:cNvPicPr/>
          <p:nvPr/>
        </p:nvPicPr>
        <p:blipFill>
          <a:blip r:embed="rId1"/>
          <a:stretch/>
        </p:blipFill>
        <p:spPr>
          <a:xfrm>
            <a:off x="1523880" y="1758960"/>
            <a:ext cx="5715000" cy="454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again to form the 8 cell stag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8cell"/>
          <p:cNvPicPr/>
          <p:nvPr/>
        </p:nvPicPr>
        <p:blipFill>
          <a:blip r:embed="rId1"/>
          <a:stretch/>
        </p:blipFill>
        <p:spPr>
          <a:xfrm>
            <a:off x="1752480" y="19051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7T22:35:07Z</dcterms:created>
  <dc:creator>F. Essig</dc:creator>
  <dc:description/>
  <dc:language>en-US</dc:language>
  <cp:lastModifiedBy>RomaK</cp:lastModifiedBy>
  <cp:lastPrinted>2001-04-20T17:23:54Z</cp:lastPrinted>
  <dcterms:modified xsi:type="dcterms:W3CDTF">2015-09-04T10:41:36Z</dcterms:modified>
  <cp:revision>257</cp:revision>
  <dc:subject/>
  <dc:title>development</dc:title>
</cp:coreProperties>
</file>