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image27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F32D-608D-4D62-A8C3-C385C65CD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FAD-6420-49E1-A87C-B8068468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04E-1DDC-4AFF-B5FA-43DE429B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EF5-2BEC-4671-B47E-547BD33A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B26-D4EA-408B-93CF-CC7FFFDE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B0A-F243-4E8D-8BF4-75B20892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AD2-9B2D-4EE2-8EE1-F65EC507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63C-1A44-4269-8657-75AD5DDA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44F-CBB7-4899-B29F-0B6F3B5C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519-C6F6-4EF0-B9DC-33011EB1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B08-D551-4632-B43A-4B0687C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7D6-64C4-4B46-91D2-A154736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FE2-7DFC-473A-99DF-BEA15309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E23D-D5CA-432B-9DC3-FD0C44C62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omer_dead.wav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mergence of the Animal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 “Rise of the Chord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lum Chor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d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bphylum Vertebrata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p 33 – Rise of th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moeother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ning that mamma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e their own bod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ammary tiss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Hair Folli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internal ferti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arboring of young, however, this is only a generality beca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all young are “cooked” to term in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otremes – an Order of Class Mamm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319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038480" cy="2116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228600" y="4114800"/>
            <a:ext cx="8915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. The Platypus, which h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ay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G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ut still has mammary glands and produc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young.  This suggests a relationship betwe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T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ammals.  Imagine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62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The Kangaroo, which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l mammal.  Here, the development of the young is ve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baby kangaroo is born ve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oked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ust crawl into the mother’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u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latch onto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p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cei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inue development.  You might say, baby Kangaroos or “Joey’s” get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b with a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3200400" cy="24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320040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6248520" y="838080"/>
            <a:ext cx="289548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0" y="3809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5"/>
          <a:stretch/>
        </p:blipFill>
        <p:spPr>
          <a:xfrm>
            <a:off x="3124080" y="3809880"/>
            <a:ext cx="3124440" cy="235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6"/>
          <a:stretch/>
        </p:blipFill>
        <p:spPr>
          <a:xfrm>
            <a:off x="6248520" y="38098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6477120" y="6400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800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You – well if you’re female, anyway. 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nternal Fert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elopment of young to a high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0195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62940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228600" y="190512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200320" y="1257480"/>
            <a:ext cx="4743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sunlit-dolphins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skeleton"/>
          <p:cNvPicPr/>
          <p:nvPr/>
        </p:nvPicPr>
        <p:blipFill>
          <a:blip r:embed="rId1"/>
          <a:stretch/>
        </p:blipFill>
        <p:spPr>
          <a:xfrm>
            <a:off x="1752480" y="914400"/>
            <a:ext cx="5867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8" descr="Poster%20Muscular%20System"/>
          <p:cNvPicPr/>
          <p:nvPr/>
        </p:nvPicPr>
        <p:blipFill>
          <a:blip r:embed="rId1"/>
          <a:stretch/>
        </p:blipFill>
        <p:spPr>
          <a:xfrm>
            <a:off x="2362320" y="685800"/>
            <a:ext cx="4748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torso"/>
          <p:cNvPicPr/>
          <p:nvPr/>
        </p:nvPicPr>
        <p:blipFill>
          <a:blip r:embed="rId1"/>
          <a:stretch/>
        </p:blipFill>
        <p:spPr>
          <a:xfrm>
            <a:off x="1828800" y="1143000"/>
            <a:ext cx="5289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pt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mphib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9828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ervous"/>
          <p:cNvPicPr/>
          <p:nvPr/>
        </p:nvPicPr>
        <p:blipFill>
          <a:blip r:embed="rId1"/>
          <a:stretch/>
        </p:blipFill>
        <p:spPr>
          <a:xfrm>
            <a:off x="1676520" y="1542960"/>
            <a:ext cx="515448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295280" y="304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kidsys"/>
          <p:cNvPicPr/>
          <p:nvPr/>
        </p:nvPicPr>
        <p:blipFill>
          <a:blip r:embed="rId1"/>
          <a:stretch/>
        </p:blipFill>
        <p:spPr>
          <a:xfrm>
            <a:off x="304920" y="2057400"/>
            <a:ext cx="3770280" cy="382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4BKD"/>
          <p:cNvPicPr/>
          <p:nvPr/>
        </p:nvPicPr>
        <p:blipFill>
          <a:blip r:embed="rId2"/>
          <a:stretch/>
        </p:blipFill>
        <p:spPr>
          <a:xfrm>
            <a:off x="4572000" y="2819520"/>
            <a:ext cx="4038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ndocrinebig"/>
          <p:cNvPicPr/>
          <p:nvPr/>
        </p:nvPicPr>
        <p:blipFill>
          <a:blip r:embed="rId1"/>
          <a:stretch/>
        </p:blipFill>
        <p:spPr>
          <a:xfrm>
            <a:off x="2514600" y="1371600"/>
            <a:ext cx="454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s of Mammals in the Simpson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pic08"/>
          <p:cNvPicPr/>
          <p:nvPr/>
        </p:nvPicPr>
        <p:blipFill>
          <a:blip r:embed="rId1"/>
          <a:stretch/>
        </p:blipFill>
        <p:spPr>
          <a:xfrm>
            <a:off x="1371600" y="91440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omer-king-homer"/>
          <p:cNvPicPr/>
          <p:nvPr/>
        </p:nvPicPr>
        <p:blipFill>
          <a:blip r:embed="rId2"/>
          <a:stretch/>
        </p:blipFill>
        <p:spPr>
          <a:xfrm>
            <a:off x="5334120" y="121932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simpsons183"/>
          <p:cNvPicPr/>
          <p:nvPr/>
        </p:nvPicPr>
        <p:blipFill>
          <a:blip r:embed="rId3"/>
          <a:stretch/>
        </p:blipFill>
        <p:spPr>
          <a:xfrm>
            <a:off x="1349280" y="3938760"/>
            <a:ext cx="2765520" cy="26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animals"/>
          <p:cNvPicPr/>
          <p:nvPr/>
        </p:nvPicPr>
        <p:blipFill>
          <a:blip r:embed="rId4"/>
          <a:stretch/>
        </p:blipFill>
        <p:spPr>
          <a:xfrm>
            <a:off x="4876920" y="3276720"/>
            <a:ext cx="321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295280"/>
            <a:ext cx="4062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4-02-Tunicate"/>
          <p:cNvPicPr/>
          <p:nvPr/>
        </p:nvPicPr>
        <p:blipFill>
          <a:blip r:embed="rId1"/>
          <a:srcRect l="26973" t="0" r="0" b="0"/>
          <a:stretch/>
        </p:blipFill>
        <p:spPr>
          <a:xfrm>
            <a:off x="1219320" y="2666880"/>
            <a:ext cx="769608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4-01-ChordateCharacters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43000" y="824040"/>
            <a:ext cx="6858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34-02-Tunicate"/>
          <p:cNvPicPr/>
          <p:nvPr/>
        </p:nvPicPr>
        <p:blipFill>
          <a:blip r:embed="rId1"/>
          <a:srcRect l="0" t="0" r="73969" b="0"/>
          <a:stretch/>
        </p:blipFill>
        <p:spPr>
          <a:xfrm>
            <a:off x="4572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1371600"/>
            <a:ext cx="4572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a Squi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88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cets (a primitive fish like organis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ly resembles the idealized chor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0" t="0" r="0" b="9191"/>
          <a:stretch/>
        </p:blipFill>
        <p:spPr>
          <a:xfrm>
            <a:off x="228600" y="2209680"/>
            <a:ext cx="4809960" cy="464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rcRect l="0" t="1713" r="0" b="0"/>
          <a:stretch/>
        </p:blipFill>
        <p:spPr>
          <a:xfrm>
            <a:off x="5029200" y="2286000"/>
            <a:ext cx="385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ntogency Recapituates Evolution”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volution Playing out in Fetus…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6:29:48Z</dcterms:created>
  <dc:creator>Jerry</dc:creator>
  <dc:description/>
  <dc:language>en-US</dc:language>
  <cp:lastModifiedBy>RomaK</cp:lastModifiedBy>
  <dcterms:modified xsi:type="dcterms:W3CDTF">2015-09-04T10:52:21Z</dcterms:modified>
  <cp:revision>50</cp:revision>
  <dc:subject/>
  <dc:title>Emergence of the Animal Kingdom</dc:title>
</cp:coreProperties>
</file>