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2105-23BB-43F1-997C-98AF4601CE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rendranaduthila@gmail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, is the examination of internal body cavities using a specialized medical instrument called an endoscop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ians use endoscopy to diagnose, monitor, and surgically treat various medical problem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endran. 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endranaduthila@gmail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, is the examination of internal body cavities using a specialized medical instrument called an endosc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ians use endoscopy to diagnose, monitor, and surgically treat various medical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endran.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endranaduthila@gma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doscope is a slender, flexible tube equipped with lenses and a light  source. Illumination is done by the help of a number of optical fibr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ed light rays are collected by CCD( Charge coupled device) and electrical signals are produced, which are fed to the video monitor to get imag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 one channel of endoscope water and air is conducted to wash and dry the surgical sit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doscope is a slender, flexible tube equipped with lenses and a light  source. Illumination is done by the help of a number of optical fib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ed light rays are collected by CCD( Charge coupled device) and electrical signals are produced, which are fed to the video monitor to get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 one channel of endoscope water and air is conducted to wash and dry the surgical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oscope also has a channel through which surgeons can manipulate tiny instruments, such as forceps, surgical scissors, and suction devic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riety of instruments can be fitted to the endoscope for different purpos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geon introduces the endoscope into the body either through a body opening, such as the mouth or the anus, or through a small incision in the ski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oscope also has a channel through which surgeons can manipulate tiny instruments, such as forceps, surgical scissors, and suction de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riety of instruments can be fitted to the endoscope for different purpo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geon introduces the endoscope into the body either through a body opening, such as the mouth or the anus, or through a small incision in the sk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oscope gives  visual evidence of the problem, such as ulceration or inflammat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be used to collect a sample of tissue; remove problematic tissue, such as polyp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to take photograph of the hollow internal orga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oscope gives  visual evidence of the problem, such as ulceration or inflam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be used to collect a sample of tissue; remove problematic tissue, such as poly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to take photograph of the hollow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pending on the body part, each type of endoscopy has its own special term, such a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paroscopy (abdomen, uterus, fallopian tube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yngoscopy (vocal cords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oscopy (lungs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noscopy (colon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throscopy (joint) and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oscopy (Stomach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rendranaduthila@gmail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pending on the body part, each type of endoscopy has its own special term, such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paroscopy (abdomen, uterus, fallopian tube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yngoscopy (vocal cords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oscopy (lungs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noscopy (colon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throscopy (joint)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oscopy (Stomac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rendranaduthila@gma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9D42-AC8B-45D7-834D-72BFEBB0C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2B74-EED0-49A2-A162-EF7C1B1E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5700-7AE1-4AB3-8B5E-3CA4A8BB7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A2D6-4069-45F9-B376-FB6EB5B91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7EB8B-C359-4493-B802-E663B0AB5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A521A-59B9-4DE4-8D71-09389504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8AD6A-19C6-460B-8F0B-95DE4FCE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4D8C6-9274-4693-9766-7D40BA59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EC088-5B56-4C2F-BE8B-1EEB70ED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12C83-855D-46CB-A266-C8609A4B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D040C-D9F7-4D81-996F-CF810AFA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0683-7783-4AD1-B2DF-9593EAB0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5BD1A-7FBA-4416-AE17-598EC8B4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1A7E4-1532-4F44-BFE3-04AF7EDD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A268F-9624-47DB-9A3A-555566A6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598D7-AA0D-49FC-81A6-F5B08F6FE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0AD90-5370-4A04-A2C2-13A8F8C34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5B534-B4E8-49AA-8628-035F552E5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288DE-D736-4AAF-9E59-FCB3D47E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E2A59-EC03-41C8-816E-88C985A0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5A6CE-55E6-4944-9812-6EFDCE79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1202E-F207-4120-86F4-09BAF4B5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67A4-3DA0-4CB5-BC52-DD6773B1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00762-529D-40D9-B17D-1B13B617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BF9F5-F382-406E-9598-F16CC1D6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52ECD-FF20-460C-A427-ED363603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77373-7310-4B64-AC5E-99E2BE8E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F490A-6CC0-42C1-B461-208C01C8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7614B-A4D4-4C2A-9208-67FE30412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026C2-A723-445C-B804-C6EC18E95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524AD-8BB6-493B-A760-A05DD6FC3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D0AEA-DAFD-42AF-8F0C-5DAA24E6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667C0-77E5-421F-B434-1F9491A7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A726-1271-423C-9C4F-113AEDD5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4595A-90CD-44EB-9398-8EE142D8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C2370-15BE-41E4-9570-E57B0285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88703-FBB1-4CCF-9D44-181BE3FE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C4484-9FA9-48AD-B631-E2C3BF87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F040F-E314-4E2E-94F6-90C2E585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39988-E1CC-429D-BA0A-FFF1329A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6A89E-95A4-48B6-8E9C-0B660908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AD2F3-6C78-49CD-835A-64E376641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895F5-8D11-405D-AFAC-F2FABCA01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F295-86D1-44B3-9F91-3395415B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06F1-482C-4715-87FD-930A196C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D6E1-8953-482D-BF9E-F05C49D3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DC5D-D5E7-45F9-B5D7-FB904846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F17F-009D-4B88-AC98-DFD0581D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0CA3-D179-40CE-ADB8-28ABE317C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AB4B-40E9-4039-A50A-C9A1E3FCD7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0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10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D4A9-C22C-46AE-AD9E-559F256123CF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5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5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1F19-C7F4-434C-88B9-D81648014F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rcRect l="20758" t="18521" r="19093" b="208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"/>
          <p:cNvSpPr/>
          <p:nvPr/>
        </p:nvSpPr>
        <p:spPr>
          <a:xfrm>
            <a:off x="817560" y="26668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Garamond"/>
              </a:rPr>
              <a:t>ENDOSCOPY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3505320" y="617220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rendranaduthila@gmail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1" name="Picture 7" descr=""/>
          <p:cNvPicPr/>
          <p:nvPr/>
        </p:nvPicPr>
        <p:blipFill>
          <a:blip r:embed="rId1"/>
          <a:srcRect l="20758" t="18521" r="19093" b="20869"/>
          <a:stretch/>
        </p:blipFill>
        <p:spPr>
          <a:xfrm>
            <a:off x="533520" y="1944720"/>
            <a:ext cx="4343400" cy="394812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140440" y="16002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oscopy, is the examination of internal body cavities using a specialized medical instrument called an endosco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ians use endoscopy to diagnose, monitor, and surgically treat various medical proble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838080" y="6078600"/>
            <a:ext cx="5410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rendran. 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rendranaduthila@gmail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3962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endoscope is a slender, flexible tube equipped with lenses and a light  source. Illumination is done by the help of a number of optical fib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lected light rays are collected by CCD( Charge coupled device) and electrical signals are produced, which are fed to the video monitor to get im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orough one channel of endoscope water and air is conducted to wash and dry the surgical si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6" name="Picture 6" descr="GIFXP10"/>
          <p:cNvPicPr/>
          <p:nvPr/>
        </p:nvPicPr>
        <p:blipFill>
          <a:blip r:embed="rId1"/>
          <a:stretch/>
        </p:blipFill>
        <p:spPr>
          <a:xfrm>
            <a:off x="5029200" y="152280"/>
            <a:ext cx="4038480" cy="3086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Noso-endoscopy"/>
          <p:cNvPicPr/>
          <p:nvPr/>
        </p:nvPicPr>
        <p:blipFill>
          <a:blip r:embed="rId2"/>
          <a:stretch/>
        </p:blipFill>
        <p:spPr>
          <a:xfrm>
            <a:off x="5867280" y="3352680"/>
            <a:ext cx="3043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685800" y="2133720"/>
            <a:ext cx="4267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ndoscope also has a channel through which surgeons can manipulate tiny instruments, such as forceps, surgical scissors, and suction devi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variety of instruments can be fitted to the endoscope for different purpo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urgeon introduces the endoscope into the body either through a body opening, such as the mouth or the anus, or through a small incision in the ski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0" name="Picture 8" descr="endoscope"/>
          <p:cNvPicPr/>
          <p:nvPr/>
        </p:nvPicPr>
        <p:blipFill>
          <a:blip r:embed="rId1"/>
          <a:stretch/>
        </p:blipFill>
        <p:spPr>
          <a:xfrm>
            <a:off x="5164200" y="457200"/>
            <a:ext cx="3751200" cy="3751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Lower%20Endoscopy"/>
          <p:cNvPicPr/>
          <p:nvPr/>
        </p:nvPicPr>
        <p:blipFill>
          <a:blip r:embed="rId2"/>
          <a:srcRect l="0" t="0" r="0" b="10000"/>
          <a:stretch/>
        </p:blipFill>
        <p:spPr>
          <a:xfrm>
            <a:off x="5334120" y="4114800"/>
            <a:ext cx="373356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3" name="Picture 4" descr="Stomach_endoscopy_2"/>
          <p:cNvPicPr/>
          <p:nvPr/>
        </p:nvPicPr>
        <p:blipFill>
          <a:blip r:embed="rId1"/>
          <a:stretch/>
        </p:blipFill>
        <p:spPr>
          <a:xfrm>
            <a:off x="685800" y="2305080"/>
            <a:ext cx="5029200" cy="38671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4640" y="801720"/>
            <a:ext cx="30481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doscope gives  visual evidence of the problem, such as ulceration or inflamm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can be used to collect a sample of tissue; remove problematic tissue, such as poly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used to take photograph of the hollow internal org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ing on the body part, each type of endoscopy has its own special term, such 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aroscopy (abdomen, uterus, fallopian tube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yngoscopy (vocal cords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nchoscopy (lungs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onoscopy (colon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roscopy (joint) an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stroscopy (Stomach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4572000" y="6078600"/>
            <a:ext cx="5410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rendranaduthila@gmail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5T05:07:05Z</dcterms:created>
  <dc:creator>SURENDRAN. K</dc:creator>
  <dc:description/>
  <dc:language>en-US</dc:language>
  <cp:lastModifiedBy>RomaK</cp:lastModifiedBy>
  <dcterms:modified xsi:type="dcterms:W3CDTF">2015-09-04T10:41:50Z</dcterms:modified>
  <cp:revision>11</cp:revision>
  <dc:subject/>
  <dc:title>Slide 1</dc:title>
</cp:coreProperties>
</file>