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2902-7A00-4494-91E8-3D1D20BBEA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376-EB71-41F6-84A4-CEE8C855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C60-E06E-41F4-AA1A-92A4A5A3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E30-77EC-425D-B527-4EB5CEF7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E97-9B07-454E-8543-47EF1180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03454-2BCF-44A9-96F4-52E65778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15EEE-8C64-4F09-94F2-31D4945E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2F65E-D22F-4F4D-8E56-EE6BD0A5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301B1-5274-4B22-80DC-FDAFCCF2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0FA8F-8510-4114-9344-64A9CF86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D4509-5A2F-4756-9E97-1E0AF830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7076B-9F45-4D66-8823-2982148C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032-9C5A-42E6-BBE4-BA0FAD94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B2B58-A4E2-4163-AB12-A5B8283F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F230B-192E-4F7D-B2FB-DBBFA31B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F5143-EA7D-4B42-9FA8-5DB9AB74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4958B-C6A5-479E-B2EE-0309085A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07BEA-460D-4399-8CC2-FD6CE35C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28791-D02B-42C4-B702-F9B22EFC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A9628-7545-4717-971B-CF3911DB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E8843-160F-464D-8007-76FEF821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3FEC-8081-4E75-9213-3179C09C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6FE58-0E81-4044-879B-30557445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AE24-8E25-4684-9CCA-008517AB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BA305-8119-42F5-B0AB-70D2FB70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E40A9-F4AA-4F71-B164-CAA9D22F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086B5-2FE7-4B6F-ABDA-A683677F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95373-1161-44CC-9234-CFA482DA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4661C-D05E-481B-9ADE-72850FE8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02C72-4FA9-4839-B37B-D1EB8A44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DCDF2-A2FE-439A-A1A3-DC4A373A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C42D5-88BE-47FF-A2EA-6DCCBB32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938CE-D75F-41CE-9996-E1E3CF14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D6D1D-61AC-4D92-A505-2BCBE8FA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37B-EAAA-429F-8FDA-3969EF18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892F5-A13C-4402-AF28-9C92219A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E6043-DB78-4746-A88B-E8860DEC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A8C5F-7867-4A59-A018-8766272D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463A5-5D6B-405D-83E8-8520DDC5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D571F-A671-4AC2-982F-DBB049BF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EF9A7-9F12-40D6-B71A-8528C705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9B377-618A-4CE2-9715-55CF664E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5BA5D-1075-451B-9D5B-BABFBABC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E7C85-DBA7-413F-B275-B3F4BC6A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230-3F39-463C-892D-9BCC0DAD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2AC-4E93-41D1-B09E-D527BB26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C61-9BCA-4BA1-8E8F-E0F283FE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D35-2CA0-43E9-ABB7-991FD569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B97-A2E9-4260-8AB7-AE805F69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04BC-00BA-4359-9B64-2F2A64FB8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6547-1CD2-436C-8E07-FCE38825F9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0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FCA4-698E-4C72-9DBF-007505DCCFD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6F94-3DC7-4DF3-9BE9-F13FF01346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81756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Garamond"/>
              </a:rPr>
              <a:t>ENDOSCOPY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505320" y="6172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533520" y="1944720"/>
            <a:ext cx="4343400" cy="39481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0440" y="16002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oscopy, is the examination of internal body cavities using a specialized medical instrument called an endo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ians use endoscopy to diagnose, monitor, and surgically treat various medical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838080" y="6078600"/>
            <a:ext cx="5410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. 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ndoscope is a slender, flexible tube equipped with lenses and a light  source. Illumination is done by the help of a number of optical fib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ed light rays are collected by CCD( Charge coupled device) and electrical signals are produced, which are fed to the video monitor to get im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ough one channel of endoscope water and air is conducted to wash and dry the surgical s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6" descr="GIFXP10"/>
          <p:cNvPicPr/>
          <p:nvPr/>
        </p:nvPicPr>
        <p:blipFill>
          <a:blip r:embed="rId1"/>
          <a:stretch/>
        </p:blipFill>
        <p:spPr>
          <a:xfrm>
            <a:off x="5029200" y="152280"/>
            <a:ext cx="4038480" cy="3086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Noso-endoscopy"/>
          <p:cNvPicPr/>
          <p:nvPr/>
        </p:nvPicPr>
        <p:blipFill>
          <a:blip r:embed="rId2"/>
          <a:stretch/>
        </p:blipFill>
        <p:spPr>
          <a:xfrm>
            <a:off x="5867280" y="3352680"/>
            <a:ext cx="3043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685800" y="2133720"/>
            <a:ext cx="4267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ndoscope also has a channel through which surgeons can manipulate tiny instruments, such as forceps, surgical scissors, and suction de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ariety of instruments can be fitted to the endoscope for different purpo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urgeon introduces the endoscope into the body either through a body opening, such as the mouth or the anus, or through a small incision in the sk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0" name="Picture 8" descr="endoscope"/>
          <p:cNvPicPr/>
          <p:nvPr/>
        </p:nvPicPr>
        <p:blipFill>
          <a:blip r:embed="rId1"/>
          <a:stretch/>
        </p:blipFill>
        <p:spPr>
          <a:xfrm>
            <a:off x="5164200" y="457200"/>
            <a:ext cx="3751200" cy="3751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wer%20Endoscopy"/>
          <p:cNvPicPr/>
          <p:nvPr/>
        </p:nvPicPr>
        <p:blipFill>
          <a:blip r:embed="rId2"/>
          <a:srcRect l="0" t="0" r="0" b="10000"/>
          <a:stretch/>
        </p:blipFill>
        <p:spPr>
          <a:xfrm>
            <a:off x="5334120" y="4114800"/>
            <a:ext cx="37335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Picture 4" descr="Stomach_endoscopy_2"/>
          <p:cNvPicPr/>
          <p:nvPr/>
        </p:nvPicPr>
        <p:blipFill>
          <a:blip r:embed="rId1"/>
          <a:stretch/>
        </p:blipFill>
        <p:spPr>
          <a:xfrm>
            <a:off x="685800" y="2305080"/>
            <a:ext cx="5029200" cy="3867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4640" y="801720"/>
            <a:ext cx="30481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doscope gives  visual evidence of the problem, such as ulceration or inflamm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n be used to collect a sample of tissue; remove problematic tissue, such as poly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used to take photograph of the hollow internal org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ing on the body part, each type of endoscopy has its own special term, such 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aroscopy (abdomen, uterus, fallopian tube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yngoscopy (vocal cord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oscopy (lung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noscopy (colon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roscopy (joint)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roscopy (Stomach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572000" y="607860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05:07:05Z</dcterms:created>
  <dc:creator>SURENDRAN. K</dc:creator>
  <dc:description/>
  <dc:language>en-US</dc:language>
  <cp:lastModifiedBy>RomaK</cp:lastModifiedBy>
  <dcterms:modified xsi:type="dcterms:W3CDTF">2015-09-04T10:41:50Z</dcterms:modified>
  <cp:revision>11</cp:revision>
  <dc:subject/>
  <dc:title>Slide 1</dc:title>
</cp:coreProperties>
</file>